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3B1-F9D0-4A2E-B847-F1588A60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49A-2952-489D-A28F-29BF7388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55D-E769-48BE-8DFB-40BA3DD6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58F-EE82-460F-B429-56AF4EDE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830-0B72-40D7-97CD-9B845221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613-EE22-4CDC-9FF1-B0B038CC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10F-184C-4097-A65B-C27DD543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E2DF-1A44-408A-9125-EDFAF89B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64B-5B02-4483-A397-4204B941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56A-6BCB-4DDF-872D-C6A30DD1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4F6-4BEA-463C-A54E-C3848093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6B7D-6EC5-4872-8B9A-D420E688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3-5.png"/>
          <p:cNvPicPr/>
          <p:nvPr/>
        </p:nvPicPr>
        <p:blipFill>
          <a:blip r:embed="rId3"/>
          <a:stretch/>
        </p:blipFill>
        <p:spPr>
          <a:xfrm>
            <a:off x="-69840" y="-69840"/>
            <a:ext cx="2427120" cy="111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2"/>
          <p:cNvGrpSpPr/>
          <p:nvPr/>
        </p:nvGrpSpPr>
        <p:grpSpPr>
          <a:xfrm>
            <a:off x="4648320" y="1635120"/>
            <a:ext cx="2200680" cy="2203920"/>
            <a:chOff x="4648320" y="1635120"/>
            <a:chExt cx="2200680" cy="2203920"/>
          </a:xfrm>
        </p:grpSpPr>
        <p:grpSp>
          <p:nvGrpSpPr>
            <p:cNvPr id="40" name="Group 3"/>
            <p:cNvGrpSpPr/>
            <p:nvPr/>
          </p:nvGrpSpPr>
          <p:grpSpPr>
            <a:xfrm>
              <a:off x="4648320" y="1635120"/>
              <a:ext cx="2200680" cy="2203920"/>
              <a:chOff x="4648320" y="1635120"/>
              <a:chExt cx="2200680" cy="2203920"/>
            </a:xfrm>
          </p:grpSpPr>
          <p:pic>
            <p:nvPicPr>
              <p:cNvPr id="41" name="矩形 10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4648320" y="1635120"/>
                <a:ext cx="2200320" cy="220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" name="Text Box 5"/>
              <p:cNvSpPr/>
              <p:nvPr/>
            </p:nvSpPr>
            <p:spPr>
              <a:xfrm rot="925200">
                <a:off x="4956120" y="1888920"/>
                <a:ext cx="1630800" cy="163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" name="矩形 11"/>
            <p:cNvSpPr/>
            <p:nvPr/>
          </p:nvSpPr>
          <p:spPr>
            <a:xfrm rot="925800">
              <a:off x="5037480" y="2067120"/>
              <a:ext cx="1455480" cy="1297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7"/>
          <p:cNvGrpSpPr/>
          <p:nvPr/>
        </p:nvGrpSpPr>
        <p:grpSpPr>
          <a:xfrm>
            <a:off x="2525760" y="1645920"/>
            <a:ext cx="2408400" cy="2410200"/>
            <a:chOff x="2525760" y="1645920"/>
            <a:chExt cx="2408400" cy="2410200"/>
          </a:xfrm>
        </p:grpSpPr>
        <p:grpSp>
          <p:nvGrpSpPr>
            <p:cNvPr id="45" name="Group 8"/>
            <p:cNvGrpSpPr/>
            <p:nvPr/>
          </p:nvGrpSpPr>
          <p:grpSpPr>
            <a:xfrm>
              <a:off x="2525760" y="1645920"/>
              <a:ext cx="2408400" cy="2410200"/>
              <a:chOff x="2525760" y="1645920"/>
              <a:chExt cx="2408400" cy="2410200"/>
            </a:xfrm>
          </p:grpSpPr>
          <p:pic>
            <p:nvPicPr>
              <p:cNvPr id="46" name="矩形 13" descr=""/>
              <p:cNvPicPr/>
              <p:nvPr/>
            </p:nvPicPr>
            <p:blipFill>
              <a:blip r:embed="rId5"/>
              <a:stretch/>
            </p:blipFill>
            <p:spPr>
              <a:xfrm rot="21599400">
                <a:off x="2525760" y="1645920"/>
                <a:ext cx="2408040" cy="240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Text Box 10"/>
              <p:cNvSpPr/>
              <p:nvPr/>
            </p:nvSpPr>
            <p:spPr>
              <a:xfrm rot="20980200">
                <a:off x="2748240" y="1850040"/>
                <a:ext cx="1910520" cy="19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矩形 14"/>
            <p:cNvSpPr/>
            <p:nvPr/>
          </p:nvSpPr>
          <p:spPr>
            <a:xfrm rot="20980200">
              <a:off x="2833560" y="2024280"/>
              <a:ext cx="1742760" cy="151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图片 15" descr="3-2.png"/>
          <p:cNvPicPr/>
          <p:nvPr/>
        </p:nvPicPr>
        <p:blipFill>
          <a:blip r:embed="rId7"/>
          <a:stretch/>
        </p:blipFill>
        <p:spPr>
          <a:xfrm>
            <a:off x="6311880" y="1714680"/>
            <a:ext cx="824040" cy="10713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6" descr="3-1.png"/>
          <p:cNvPicPr/>
          <p:nvPr/>
        </p:nvPicPr>
        <p:blipFill>
          <a:blip r:embed="rId8"/>
          <a:stretch/>
        </p:blipFill>
        <p:spPr>
          <a:xfrm>
            <a:off x="3541680" y="3516480"/>
            <a:ext cx="2621160" cy="1698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1410-9E83-4DDF-BFB1-0DF3D0DE722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6CA0-E7B7-4336-AE6E-FAE26DA1493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ww.51pptmoban.com/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4097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098"/>
          <p:cNvSpPr/>
          <p:nvPr/>
        </p:nvSpPr>
        <p:spPr>
          <a:xfrm>
            <a:off x="2514240" y="549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圣诞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57160" y="928440"/>
            <a:ext cx="74296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mas Gr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57160" y="2214720"/>
            <a:ext cx="5429520" cy="36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SzPct val="22441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peace and joy wrap you in blankets of love, where hope has be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SzPct val="22441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may your kind and gentle ways, be blessed with happy, peaceful day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SzPct val="22441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oming more beautiful with every thought, like every flake the earth has caug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6143760" y="2286360"/>
            <a:ext cx="2668320" cy="2858400"/>
            <a:chOff x="6143760" y="2286360"/>
            <a:chExt cx="2668320" cy="2858400"/>
          </a:xfrm>
        </p:grpSpPr>
        <p:sp>
          <p:nvSpPr>
            <p:cNvPr id="135" name="矩形 6"/>
            <p:cNvSpPr/>
            <p:nvPr/>
          </p:nvSpPr>
          <p:spPr>
            <a:xfrm rot="1015800">
              <a:off x="6441840" y="2536560"/>
              <a:ext cx="2071440" cy="235728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2f2f2"/>
                </a:gs>
              </a:gsLst>
              <a:lin ang="2700000"/>
            </a:gradFill>
            <a:ln w="0">
              <a:noFill/>
            </a:ln>
            <a:effectLst>
              <a:outerShdw dist="76184" dir="4206565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7"/>
            <p:cNvSpPr/>
            <p:nvPr/>
          </p:nvSpPr>
          <p:spPr>
            <a:xfrm rot="1015800">
              <a:off x="6481440" y="2677680"/>
              <a:ext cx="2000160" cy="2035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图片 9" descr="3-7.png"/>
          <p:cNvPicPr/>
          <p:nvPr/>
        </p:nvPicPr>
        <p:blipFill>
          <a:blip r:embed="rId5"/>
          <a:stretch/>
        </p:blipFill>
        <p:spPr>
          <a:xfrm>
            <a:off x="6643800" y="4643280"/>
            <a:ext cx="220968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0" descr="3-4.png"/>
          <p:cNvPicPr/>
          <p:nvPr/>
        </p:nvPicPr>
        <p:blipFill>
          <a:blip r:embed="rId6"/>
          <a:stretch/>
        </p:blipFill>
        <p:spPr>
          <a:xfrm>
            <a:off x="8001000" y="2571840"/>
            <a:ext cx="826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57160" y="928440"/>
            <a:ext cx="74296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mas Gr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56800" y="2214720"/>
            <a:ext cx="7358040" cy="36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75"/>
              </a:spcBef>
              <a:buSzPct val="1827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y peace and joy wrap you in blankets of love, where hope has bee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SzPct val="1827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 may your kind and gentle ways, be blessed with happy, peaceful days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SzPct val="1827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coming more beautiful with every thought, like every flake the earth has caugh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3012480" y="9837720"/>
            <a:ext cx="32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51pptm 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6148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6800" y="92844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mas Gr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Content Placeholder 15" descr="free-merry-christmas-screensaver.jpg"/>
          <p:cNvPicPr/>
          <p:nvPr/>
        </p:nvPicPr>
        <p:blipFill>
          <a:blip r:embed="rId1"/>
          <a:stretch/>
        </p:blipFill>
        <p:spPr>
          <a:xfrm>
            <a:off x="2143080" y="2000160"/>
            <a:ext cx="49960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BB96-B072-4F4A-B508-923C81C7EA6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标题 3" descr=""/>
          <p:cNvPicPr/>
          <p:nvPr/>
        </p:nvPicPr>
        <p:blipFill>
          <a:blip r:embed="rId1"/>
          <a:stretch/>
        </p:blipFill>
        <p:spPr>
          <a:xfrm>
            <a:off x="1859040" y="5413320"/>
            <a:ext cx="5700600" cy="719280"/>
          </a:xfrm>
          <a:prstGeom prst="rect">
            <a:avLst/>
          </a:prstGeom>
          <a:ln w="0">
            <a:noFill/>
          </a:ln>
        </p:spPr>
      </p:pic>
      <p:sp>
        <p:nvSpPr>
          <p:cNvPr id="150" name="矩形 3"/>
          <p:cNvSpPr/>
          <p:nvPr/>
        </p:nvSpPr>
        <p:spPr>
          <a:xfrm rot="21041400">
            <a:off x="3634920" y="1608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23:52:0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28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