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9E15-5D78-46A0-A0CC-E8136E0D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A419-8C1A-4626-A649-E55440B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A87FE-B04C-465E-882B-91E3519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F027A-7C72-47CB-9207-599663A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0B16DA-B2CF-4F8D-AD72-DB1F006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8F812-580C-44D5-AD1C-622EAFF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B6A286-7111-45A6-9EA6-FB2B7AB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01B16-5138-40F4-BBA7-C572EE5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36A46-5453-40D2-9802-BB74F5E1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B0A0B-E809-484E-BA88-B13918C9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7DB0E-1D35-405A-95E5-26F462CD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CF28E-B711-4FAA-954C-33F19B8B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3A43-91CB-4C86-8CA7-84647279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0C2F2-5049-46DB-BAD1-21EB62BA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EB4FB-4044-43BE-BB82-D16BF00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D7B440-0BE0-4E7C-9DB3-EF47403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3F8572-90A8-411A-91FE-DD095F8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19F416-418D-422A-BC2F-CFDC315C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4E9E57-1765-410A-A186-B8CB266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0C33F1-C714-4EEB-8B68-D574AF33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5CA82E-7CC2-4A16-A911-F9B34B0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4C611-DE26-405A-B8A0-FF3CA975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2451E-4540-40BF-AA7D-B5C61A58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1527-280A-4E94-B4AF-A596B378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BC0BA-DC62-46A9-B6F3-49A11570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64D58B-6B86-45BD-9DA6-5EEC031D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9CD388-C25D-4926-AF2D-702672A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9DA94-21FE-4B28-809A-43E8F89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FD77C8-8D68-4CB2-BE36-62043CA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0B6343-5F08-49D4-A5C4-53F922A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C7FB17-15F2-4CFD-A2D0-0B5B550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5E28B4-C874-4548-812C-062A351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4E1DE1-7A26-475B-AE21-9A34B33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648D82-E2B7-4ABF-8214-D97ABEE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0C26-62C5-4552-A68F-2D4FAC95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17D13F-490B-471A-B194-E1B6894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DAF30-7416-46CB-AD71-4F816343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8EE59-5F96-437F-BB37-36B5AE10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27ADB6-B737-4B4B-A7A4-2997E6DB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6EEA81-E5A3-438D-8770-430A7835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8B16B-F2F7-4363-BCDD-16016ABB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6BFCE9-D175-462F-B0C9-DB92716F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C2A48-1A49-474F-AEAA-A75CF28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D39BD5-1B26-45E8-ABDC-3F064DE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06D79F-59F0-48EC-B0A4-39765DE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A5F-A0A9-44A8-AD2A-FEC53C0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2AF52A-34C1-491A-A1E5-18F635F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2931CB-6E40-4796-B22C-6FB6DDD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AF8493-49E1-4966-B310-70545F2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E68001-C1E9-44FD-8EC7-078FA8BF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9760A-03D7-4B02-A6FC-1D107C37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FEC55B-A6BA-43AF-BB96-6CE7E318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72BD5F-9F08-4B78-8ABD-E6DC4EF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1300A7-D219-4059-8219-92C023B5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B3212B-6041-41F8-80A8-3B04AE8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268BB6-6EB4-415C-94EF-DA7C7AF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2CE9-4495-46B4-B028-F6D95FF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4E4C42-AD99-4AA4-B574-DD94EB2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010B35-9A4D-4AF9-B02F-8A91F05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39A23A-8F44-47BC-98C2-5B7F178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ED243-3042-4E76-97D8-05B3FCA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691287-D3A9-4A45-81E8-5F40F58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992665-D170-4B75-B73D-60FBFA8A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99A98-81B9-4488-9F07-4E4A0A15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B46BEE-4FDE-4422-8530-4281786F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BB03B4-5792-491D-8663-903A5CA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2D6031-C3FD-445F-ADF1-26DBA65F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3259-DD94-45F8-AC02-F807D00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DA125D-C55C-41F6-A4DB-89103CBB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BD96CE-536C-4D3B-B069-0326EBB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10BA67-9572-4AD8-A2E4-91AD9DD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ECDB53-16FD-4232-A852-2FBE907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E4E81F-8E90-4809-B5B9-ACEEE30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4ECBCB-DEE2-4329-9094-D5B7811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0A2645-C7DB-496B-8647-1D307EA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C939A6-E719-48D3-950F-66EADD4F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F0B0BA-FEFB-4A73-85F7-8564E817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23F9-5990-48D7-A7E7-A7BC181B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E9A0-EDA9-441B-98D8-2B0CE4C8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EC2B-6A82-40BB-968F-140190B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C677-8BCA-4E7B-A880-4FC71426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3F7-0276-4742-8C0C-E4D82BB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E0A-B93E-4FC5-9F3F-4CC6327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4914-E2C0-42F7-AB67-F248D2B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7005-0C29-4477-BA80-5A3438C8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29C-989E-43E9-BF6D-623149EE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7F38-5B13-4E01-B2B9-1FE54F7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DEBBB-8298-42C7-9788-759E82FF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EB8FC-1E16-4327-A252-7D7F1D9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3046D-724A-49DE-94CF-F3FBB68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5AC0-5438-4F82-BC96-BC65791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77702-87A5-49B3-A90E-D0763DB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477C7-5538-4FD5-A966-C5CE600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6F236-A094-4DC4-89D8-82C5928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CED84-EF4B-4E6B-B051-97D6149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2451E-F4D7-4F02-823B-DA7DE73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9A9D6-1218-419F-96BC-D7D2929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8D9A2-3AFE-4E4A-B68E-F8629F28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38647-2850-4D39-9972-05306D3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E969B-68B2-4FC0-AFEE-98951144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11C65-972C-46A0-B1A1-AA5F3E4C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67C6-A47E-4B6E-B8F1-76983341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409EF-92DC-49EB-B697-12F5B9B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BAAC2-9A8D-478E-B869-AF45D5A5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770E-20CD-402E-9960-0EB205FD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71D81-1FF8-4A42-9D15-D15C01F8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32888-8A10-4EDA-816F-AB991C7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6B70C-E294-42C7-B9DA-64A4CE4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CCB5B-05E6-4E3C-A452-EB3F4ED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9D252-3BB9-4B54-8B21-58BC27A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30860-BEE0-4A86-A5F2-96DD87D1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BD6E6-5A40-4D41-9387-210072F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C137-A438-4491-AAE6-F42418AF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A88BF-05B3-4DBA-ACD4-1BA8ACDA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3B1A6-1AE1-466A-B0E8-576331B1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ECDDA-A6CE-4E8C-85B4-4ABAF4F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E28C8-E82E-4132-AC84-4EB5E6C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6C681-3486-41D0-9E93-563AA6B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436C4-6AAC-4AC0-953E-DCFA5A67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B97B7-A6C1-42BF-9016-5B6F026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97309-8AD0-43A6-A540-D001A12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33323-0050-49AA-BDEA-AE2762C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9C9FB-D456-4E96-BB8F-F337F55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DDF3-D900-45EA-BDAE-D041C2C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131B8-79D3-4F4A-B7BD-8480B81D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8D4B6-2797-4347-B07E-43968650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179CD-BE66-4250-96B6-4D3077B8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F3CE4-2155-4596-8111-C4E1524F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3629F-3239-447F-8727-286F5094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319FA-4477-4A04-9BB4-5FD77D7C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FEA6B-CF40-4107-BDF4-AAF4075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E30F5-9026-4B91-9881-B3A81593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B0B08-BC74-43FC-B867-48E2CCB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47AEE-17AC-45DB-B6DB-68F3F4E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AE03-7AF7-40D2-BFBA-81B6024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A766D-048F-4139-89B7-B1917C2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2393F-08F6-4625-A58B-4278469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C55BC-6F4E-4B5C-B8C4-F7A284E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77C8A-E200-41DC-BD8E-2CFC1D48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41254-AFA2-44BB-97BE-02619D37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FA439-C64F-4FD7-94F9-CCD33C1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A07CB-CD7E-424B-888F-BFB3516B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FC648B-0392-41E4-BBFD-7DBAF8CE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BDC46-8757-41B0-B834-FC4431FA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2E6B7-83DA-4E25-9554-6EA94087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30E5-448E-4538-A0D3-4D739C1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3AD0F-6342-4BCD-A514-2BDD77F2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41998-158E-4AD5-8440-6B68779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96EA2-61A6-4E30-A2C8-7AFE3FA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6BF2E-08DC-465C-B9C3-924EAD0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0D13D1-25BF-4236-9ED8-6AB26DE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BB175-2A42-4622-BF63-82B70B74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BE02A-1938-4267-8C55-B599E9A9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205E0-B05F-4AA5-812F-B40CF278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788E3-B225-4197-A039-DB086B9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4EF30-F216-473C-B571-4B2925D5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6d2914"/>
              </a:gs>
              <a:gs pos="50000">
                <a:srgbClr val="eb592b"/>
              </a:gs>
              <a:gs pos="100000">
                <a:srgbClr val="6d29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9089-71D5-4EF8-A84B-76BFE1A9DB1F}" type="slidenum">
              <a:rPr b="0" lang="zh-CN" sz="1000" spc="-1" strike="noStrike">
                <a:solidFill>
                  <a:srgbClr val="692aa2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2A5A-C333-4440-86A8-12BE8DE91C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158-2E55-4B8C-BA96-931F5ABB27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DA24-C058-49FA-A3A0-BB33B3EF05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ED0-1DDD-4405-A16F-52CC11C1FC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9AC-0AA9-4EF8-BEA7-7007EEFF71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0F6-829E-4710-8A13-B7652CC4E7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F6AB-CC19-4951-81A8-D54AB896D5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FDA-F1F8-4769-85C4-DE1DB38935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2400-A71D-4A68-A6C4-8557A350968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ACE-C7AD-4E03-9B51-A272528366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855-72C5-44B0-B146-BE0C47A97D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C58-77A2-4C8D-BBF9-3F825D61ED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97320" y="3936960"/>
            <a:ext cx="4859280" cy="360"/>
            <a:chOff x="4297320" y="3936960"/>
            <a:chExt cx="4859280" cy="360"/>
          </a:xfrm>
        </p:grpSpPr>
        <p:sp>
          <p:nvSpPr>
            <p:cNvPr id="96" name="Line 75"/>
            <p:cNvSpPr/>
            <p:nvPr/>
          </p:nvSpPr>
          <p:spPr>
            <a:xfrm>
              <a:off x="4297320" y="393696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297320" y="393696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4720" y="4365720"/>
            <a:ext cx="4859280" cy="360"/>
            <a:chOff x="4284720" y="4365720"/>
            <a:chExt cx="4859280" cy="360"/>
          </a:xfrm>
        </p:grpSpPr>
        <p:sp>
          <p:nvSpPr>
            <p:cNvPr id="99" name="Line 70"/>
            <p:cNvSpPr/>
            <p:nvPr/>
          </p:nvSpPr>
          <p:spPr>
            <a:xfrm>
              <a:off x="4284720" y="436572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284720" y="436572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8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0C3-60BF-4575-BFD4-EA24F42EEB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524-37A1-415E-A458-3425C5A217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8E6-0230-493D-8833-D02C9ABA06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B346-32F2-4F97-B253-D73267DD18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6CB-1E94-4647-BE21-2E58B726B8E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C106-1392-415B-8CB4-8E518B3F99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4F9-146B-4823-87C4-D55D77BD85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001-7AD8-4582-B48A-61A7A72611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F98-2631-4915-BA2A-4BC3D064B6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35C1-8CC0-4321-A07B-9A9A618869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E1E-BD72-4954-B4BF-162C1C87BA9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1CDE-5D34-45D6-84FD-14CE4C6E8F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2880" y="2412720"/>
            <a:ext cx="419112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5" name="文本框 1536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15363"/>
          <p:cNvSpPr/>
          <p:nvPr/>
        </p:nvSpPr>
        <p:spPr>
          <a:xfrm>
            <a:off x="1769760" y="40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温馨的烛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AAA-68C1-4059-8DBF-38DAA8DEB8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2024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03" name="文本框 16387"/>
          <p:cNvSpPr/>
          <p:nvPr/>
        </p:nvSpPr>
        <p:spPr>
          <a:xfrm>
            <a:off x="755640" y="981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337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aed337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