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8D3-0ECC-4057-97ED-78E8361E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EA2-DAA4-4BE2-AEB7-D3CE62C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B40-E9A4-4FA1-95EB-65A3319D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8B1-BBC7-409F-98D1-D40BB6AE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F636-503B-4F31-B2B7-3D482767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214-7238-462B-AD25-2864AC53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6C56-56E4-4EA9-AD9C-5E8C2D1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6D8D-4586-4303-A1A3-D495FE8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D40F-E772-4C39-8E16-66C0B34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DDD6-62D0-478E-8D9A-0976656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95FF-763B-4AA0-A15B-16CF517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AEB-EEE9-4665-9EAF-8FFE1103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E564-87A6-4216-8D43-B81AE0D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058-7D9D-4E34-8B4C-122116F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4506-A796-43D6-B2BC-FF0E74DB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38F1-1E13-4D5E-A903-297E2BA0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7850-9357-4AC7-81F1-8F013065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0E0-BECE-498B-B8C4-50CED76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28C-D482-48E2-97F8-B91C3D46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40B-6226-4479-9A2D-85DEA6C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9CD-C5A1-422E-9AEA-63D7025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6DB-7952-48FF-BBC0-F5BFFFA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94E-2B94-444A-AE05-E68D11F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37B-9957-4262-BD81-B7B72D3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3180-9DA9-4A65-9A74-42E4713E63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64C-F4F9-4050-BAEE-2A444D895D7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8829-603F-43EC-B531-3FA394CF86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hyperlink" Target="http://www.eeppt.com" TargetMode="External"/><Relationship Id="rId22" Type="http://schemas.openxmlformats.org/officeDocument/2006/relationships/hyperlink" Target="http://www.eeppt.com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55640" y="4508640"/>
            <a:ext cx="77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32423"/>
                </a:solidFill>
                <a:latin typeface="华康海报体W12(P)"/>
                <a:ea typeface="华康海报体W12(P)"/>
              </a:rPr>
              <a:t>圣诞快乐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2"/>
          <p:cNvGrpSpPr/>
          <p:nvPr/>
        </p:nvGrpSpPr>
        <p:grpSpPr>
          <a:xfrm>
            <a:off x="2322360" y="1339920"/>
            <a:ext cx="4442040" cy="1295280"/>
            <a:chOff x="2322360" y="1339920"/>
            <a:chExt cx="4442040" cy="1295280"/>
          </a:xfrm>
        </p:grpSpPr>
        <p:sp>
          <p:nvSpPr>
            <p:cNvPr id="85" name="矩形 12"/>
            <p:cNvSpPr/>
            <p:nvPr/>
          </p:nvSpPr>
          <p:spPr>
            <a:xfrm>
              <a:off x="5652720" y="207216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2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3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4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5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6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7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8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9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0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1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2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3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4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5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6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1" descr=""/>
            <p:cNvPicPr/>
            <p:nvPr/>
          </p:nvPicPr>
          <p:blipFill>
            <a:blip r:embed="rId17"/>
            <a:stretch/>
          </p:blipFill>
          <p:spPr>
            <a:xfrm>
              <a:off x="2322360" y="1339920"/>
              <a:ext cx="44420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矩形 8"/>
          <p:cNvSpPr/>
          <p:nvPr/>
        </p:nvSpPr>
        <p:spPr>
          <a:xfrm>
            <a:off x="1232280" y="633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997440" y="191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283640" y="3525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18"/>
          <a:stretch/>
        </p:blipFill>
        <p:spPr>
          <a:xfrm>
            <a:off x="2322360" y="2600280"/>
            <a:ext cx="444024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19"/>
          <a:stretch/>
        </p:blipFill>
        <p:spPr>
          <a:xfrm>
            <a:off x="2322360" y="3895560"/>
            <a:ext cx="4440240" cy="12956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"/>
          <p:cNvPicPr/>
          <p:nvPr/>
        </p:nvPicPr>
        <p:blipFill>
          <a:blip r:embed="rId20"/>
          <a:stretch/>
        </p:blipFill>
        <p:spPr>
          <a:xfrm>
            <a:off x="2322360" y="5184720"/>
            <a:ext cx="4440240" cy="129528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399744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3997440" y="44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997440" y="575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109"/>
          <p:cNvSpPr/>
          <p:nvPr/>
        </p:nvSpPr>
        <p:spPr>
          <a:xfrm>
            <a:off x="2266920" y="9097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7DCC-3AD4-4FC1-B994-67ED8E7D0E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971640" y="457200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32423"/>
                </a:solidFill>
                <a:latin typeface="华康海报体W12(P)"/>
                <a:ea typeface="华康海报体W12(P)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52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