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18D-04A4-41B6-A76E-D9CDCB4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C53-B978-4EA6-B62B-C958555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C28-E8C1-4FA4-AAEF-A7E0CDD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52D-B0EC-4927-A0D3-E7D1000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6A5-4B3E-42AC-886A-B2D62401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D85-0D98-4B86-816D-183BEE5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A11-CDB1-46E4-ADEF-91F6ACE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CE0-4C71-4F94-8EEA-5380BFF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5ED-7F95-4A90-B0F6-EC6C5A9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524-2D5E-49AE-A5F9-B5615C4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24E-4F3D-43F5-AE1A-4E4149D7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DF5-BEB4-4E7C-B0A4-CEB200AF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68360" y="981000"/>
            <a:ext cx="6264360" cy="360"/>
            <a:chOff x="2268360" y="981000"/>
            <a:chExt cx="6264360" cy="360"/>
          </a:xfrm>
        </p:grpSpPr>
        <p:sp>
          <p:nvSpPr>
            <p:cNvPr id="4" name="Line 5"/>
            <p:cNvSpPr/>
            <p:nvPr/>
          </p:nvSpPr>
          <p:spPr>
            <a:xfrm>
              <a:off x="2268360" y="981000"/>
              <a:ext cx="6264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2268360" y="981000"/>
              <a:ext cx="62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6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7" descr="1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latef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3"/>
          <a:stretch/>
        </p:blipFill>
        <p:spPr>
          <a:xfrm>
            <a:off x="395280" y="3645000"/>
            <a:ext cx="2158920" cy="23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2D2-8171-4855-8532-BA3371DFDB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EBE-B069-40AD-A3BA-B4DFF21030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603-A107-44E6-BD1C-F3A17ACC95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9" descr="PPT2716926495"/>
          <p:cNvPicPr/>
          <p:nvPr/>
        </p:nvPicPr>
        <p:blipFill>
          <a:blip r:embed="rId1"/>
          <a:stretch/>
        </p:blipFill>
        <p:spPr>
          <a:xfrm>
            <a:off x="3780000" y="-100080"/>
            <a:ext cx="5545080" cy="720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PPT2716926495"/>
          <p:cNvPicPr/>
          <p:nvPr/>
        </p:nvPicPr>
        <p:blipFill>
          <a:blip r:embed="rId2"/>
          <a:stretch/>
        </p:blipFill>
        <p:spPr>
          <a:xfrm>
            <a:off x="-324000" y="-171360"/>
            <a:ext cx="5616720" cy="720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未命名01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未命名01"/>
          <p:cNvPicPr/>
          <p:nvPr/>
        </p:nvPicPr>
        <p:blipFill>
          <a:blip r:embed="rId4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13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8" descr="图片 2.png"/>
          <p:cNvPicPr/>
          <p:nvPr/>
        </p:nvPicPr>
        <p:blipFill>
          <a:blip r:embed="rId6"/>
          <a:stretch/>
        </p:blipFill>
        <p:spPr>
          <a:xfrm>
            <a:off x="250920" y="-27000"/>
            <a:ext cx="8280360" cy="2735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2" descr="07.png"/>
          <p:cNvPicPr/>
          <p:nvPr/>
        </p:nvPicPr>
        <p:blipFill>
          <a:blip r:embed="rId7"/>
          <a:stretch/>
        </p:blipFill>
        <p:spPr>
          <a:xfrm rot="12462600">
            <a:off x="4858920" y="619560"/>
            <a:ext cx="4075200" cy="27961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2" descr="07.png"/>
          <p:cNvPicPr/>
          <p:nvPr/>
        </p:nvPicPr>
        <p:blipFill>
          <a:blip r:embed="rId8"/>
          <a:stretch/>
        </p:blipFill>
        <p:spPr>
          <a:xfrm>
            <a:off x="539640" y="333360"/>
            <a:ext cx="2318040" cy="39607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2" descr="07.png"/>
          <p:cNvPicPr/>
          <p:nvPr/>
        </p:nvPicPr>
        <p:blipFill>
          <a:blip r:embed="rId9"/>
          <a:stretch/>
        </p:blipFill>
        <p:spPr>
          <a:xfrm>
            <a:off x="395280" y="0"/>
            <a:ext cx="3168720" cy="17002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2" descr="07.png"/>
          <p:cNvPicPr/>
          <p:nvPr/>
        </p:nvPicPr>
        <p:blipFill>
          <a:blip r:embed="rId10"/>
          <a:stretch/>
        </p:blipFill>
        <p:spPr>
          <a:xfrm rot="5276400">
            <a:off x="6348960" y="1863720"/>
            <a:ext cx="4506840" cy="158436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2" descr="07.png"/>
          <p:cNvPicPr/>
          <p:nvPr/>
        </p:nvPicPr>
        <p:blipFill>
          <a:blip r:embed="rId11"/>
          <a:stretch/>
        </p:blipFill>
        <p:spPr>
          <a:xfrm flipH="1" rot="5642400">
            <a:off x="-1152360" y="2094840"/>
            <a:ext cx="3097080" cy="12970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513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33"/>
          <p:cNvSpPr/>
          <p:nvPr/>
        </p:nvSpPr>
        <p:spPr>
          <a:xfrm>
            <a:off x="2696400" y="2565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开门红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-0.41146 -1.96532E-006 E">
                                      <p:cBhvr>
                                        <p:cTn id="2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96532E-006 L 0.36424 -1.96532E-006 E">
                                      <p:cBhvr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0289E-006 L -0.46858 0.01041 E">
                                      <p:cBhvr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1.04046E-006 L 0.43524 -1.04046E-006 E">
                                      <p:cBhvr>
                                        <p:cTn id="3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9:41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