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C7FD-8474-47D3-B1BB-F2D3F8DB0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AF15-2ADE-4349-BE87-5919849D5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0633-230A-4AAE-AD9A-789C059B3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A025-1918-4828-8E2C-EF2C017C9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AEC43-3175-44D5-8C52-10D1862E7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11E1-9930-4A1E-9D26-92E1E2F164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E7C01-BBD1-4F69-A015-4D773D0E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9B32D-F5C0-474A-9427-19C6535C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1E771-D27B-44C9-AEC3-6EDD2E93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A56C-AA9F-4817-AEEF-A964EA5ECA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C1B3A-1EE2-435B-8FDD-E5110036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D30D7-A786-4C8C-863D-07D00161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A4398-8794-4E3E-ABB6-CA1C8140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945C6-F342-47DA-BC42-0E1F3B50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B387B-D7F5-4585-B12B-19047BDE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1F787-1F3A-484D-92D5-08636170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C3B54-31FE-47BA-A773-F52ADAAA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9359D-6008-460D-B105-20603F6A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9AECF-6573-4C4D-944E-04E5A4A0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FB6F-32C0-4DE8-A3C1-30654F34F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2A4B-54F1-4C4F-8088-AB9DAACE3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0C31-88F2-4416-B859-C960E9073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D97C-8687-42F2-BA51-55BEF4A02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D3C7-750F-488B-BF9A-C93B6EFE9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新年2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D9BE8A0-F8A0-4C5C-9A3D-143F57B73053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59389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>
            <a:hlinkClick r:id="rId5"/>
          </p:cNvPr>
          <p:cNvSpPr/>
          <p:nvPr/>
        </p:nvSpPr>
        <p:spPr>
          <a:xfrm>
            <a:off x="2369160" y="422028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png-0056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png-0002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48" name="Picture 9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Rectangle 11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>
            <a:hlinkClick r:id="rId11"/>
          </p:cNvPr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>
            <a:hlinkClick r:id="rId12"/>
          </p:cNvPr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>
            <a:hlinkClick r:id="rId13"/>
          </p:cNvPr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>
            <a:hlinkClick r:id="rId1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>
            <a:hlinkClick r:id="rId15"/>
          </p:cNvPr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>
            <a:hlinkClick r:id="rId16"/>
          </p:cNvPr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60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3349080" y="1486080"/>
              <a:ext cx="360" cy="576000"/>
              <a:chOff x="3349080" y="1486080"/>
              <a:chExt cx="360" cy="576000"/>
            </a:xfrm>
          </p:grpSpPr>
          <p:sp>
            <p:nvSpPr>
              <p:cNvPr id="63" name="Line 23"/>
              <p:cNvSpPr/>
              <p:nvPr/>
            </p:nvSpPr>
            <p:spPr>
              <a:xfrm>
                <a:off x="3349080" y="1486080"/>
                <a:ext cx="0" cy="5760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3349080" y="1486080"/>
                <a:ext cx="360" cy="57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1" descr="新年1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2" descr="bg"/>
          <p:cNvPicPr/>
          <p:nvPr/>
        </p:nvPicPr>
        <p:blipFill>
          <a:blip r:embed="rId3"/>
          <a:stretch/>
        </p:blipFill>
        <p:spPr>
          <a:xfrm>
            <a:off x="7147080" y="465120"/>
            <a:ext cx="1528560" cy="795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AD4F-9F9B-4DB5-9625-EE0C62ABD7B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B165-CEF2-4A0E-8BAA-3A9709E7D4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25360" y="3553920"/>
            <a:ext cx="6651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圣诞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274920" y="463356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文本框 512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09BF5986-4C8E-417C-B947-5ADDE37D97BA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4120" y="1341000"/>
            <a:ext cx="7666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6148"/>
          <p:cNvSpPr/>
          <p:nvPr/>
        </p:nvSpPr>
        <p:spPr>
          <a:xfrm>
            <a:off x="1523880" y="6825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99cc"/>
                </a:solidFill>
                <a:uFillTx/>
                <a:latin typeface="Arial"/>
                <a:hlinkClick r:id="rId1"/>
              </a:rPr>
              <a:t>ppt</a:t>
            </a:r>
            <a:r>
              <a:rPr b="0" i="1" lang="zh-CN" sz="1600" spc="-1" strike="noStrike" u="sng">
                <a:solidFill>
                  <a:srgbClr val="0099cc"/>
                </a:solidFill>
                <a:uFillTx/>
                <a:latin typeface="Arial"/>
                <a:hlinkClick r:id="rId2"/>
              </a:rPr>
              <a:t>模板网站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A3C9-02AC-4DAA-816D-E1A61EFB30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FE94182D-FD50-4250-A779-ACE930299090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新年3"/>
          <p:cNvPicPr/>
          <p:nvPr/>
        </p:nvPicPr>
        <p:blipFill>
          <a:blip r:embed="rId1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3551400" y="4119480"/>
            <a:ext cx="420984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bg"/>
          <p:cNvPicPr/>
          <p:nvPr/>
        </p:nvPicPr>
        <p:blipFill>
          <a:blip r:embed="rId2"/>
          <a:stretch/>
        </p:blipFill>
        <p:spPr>
          <a:xfrm>
            <a:off x="7147080" y="465120"/>
            <a:ext cx="1528560" cy="79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40Z</dcterms:modified>
  <cp:revision>1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