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7BBD-0B9B-4B10-BDFE-F67AB43A5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C687-B9D7-48D6-B76B-5705B600E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0C61-C022-415E-B52D-F99AD589E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91BC-F1C1-483F-9D6E-9BD68E12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17CF-679D-46A4-B5D8-2DFCEF3FD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18DD-16C3-4BD3-8B8B-BAEB9DF389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3612-CDF1-41D2-A8EC-77CB98C8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15208-A068-4FDB-8A9D-8F9DFEB8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A5377-56A9-45BF-BF32-63142903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6C15-5553-46D5-A778-0B31382EC9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10412-1A09-4845-BEF9-68273D2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471F-8BA5-4096-8E99-59B8BDCA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D12C7-A2E1-4D6B-8C77-93608D1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5589A-3598-4033-976C-BB10F42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6B4E3-B801-45A9-80D6-82F00E7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5FEB9-8FA3-4433-8E16-3FE0B54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E6CF-65E4-48D8-8244-7B681C29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0B1BA-F6DA-4669-BB48-C3507643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0038F-3F52-4ABD-95F3-857F8152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BA66-5FA4-40D4-AB27-39610184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DD2E-08F1-4568-902D-0FF2A8B74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B336-ED9C-43CA-A9D2-F58B8D7A5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017C-E1C2-4E46-9F5F-D03639EDB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7ACF-1ED1-4FD1-9D0C-C3B9FB0EC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1326422-63E3-40B6-AE7F-16241F4C5E21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42" descr="bg"/>
          <p:cNvPicPr/>
          <p:nvPr/>
        </p:nvPicPr>
        <p:blipFill>
          <a:blip r:embed="rId3"/>
          <a:stretch/>
        </p:blipFill>
        <p:spPr>
          <a:xfrm>
            <a:off x="6365880" y="5307120"/>
            <a:ext cx="250200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9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1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4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2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496F-0F39-45B5-A8FD-5E14FEE63E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A0C-5D19-4443-869A-C71FCB73B1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76360" y="20908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12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4E71712-42FA-4B8E-AB75-99CBED04548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5BA-DDE1-429A-8CD3-D26DA24539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7B58318-44A5-45E8-BD0A-F0CBED2AA2B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新年1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468360" y="3673440"/>
            <a:ext cx="46591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bg"/>
          <p:cNvPicPr/>
          <p:nvPr/>
        </p:nvPicPr>
        <p:blipFill>
          <a:blip r:embed="rId2"/>
          <a:stretch/>
        </p:blipFill>
        <p:spPr>
          <a:xfrm>
            <a:off x="1004760" y="1027080"/>
            <a:ext cx="4083120" cy="212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38Z</dcterms:modified>
  <cp:revision>1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