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1356-468A-49F7-91C2-1538CA6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0B446-0108-4E2D-8218-56F7AB9C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87BD-2F39-491E-B10D-13694FE0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66297-877F-4E1E-A2B7-2C338BF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5E8A-4473-4CDF-81F4-000500B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D5062-4A1F-40B7-BA89-29389D8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8F996-A061-453A-A49D-0DBEA02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3E5B-64BB-4784-928D-3AA0C5A2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A9F0-61ED-4669-BE5A-3161F645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6600F-ABCA-45B3-93DE-918D6B7A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B5DF-57EC-427B-AECE-45A831D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CFE6-7680-4714-BD00-BEFE6B0E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3D753-3053-4F00-A376-A4821C8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EEE3-4B70-4C72-9C19-314FBC41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A6B0-2561-4993-99E3-D68E993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0ACC-36BF-491F-BEB1-015D869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D1D40-F357-4337-8FEA-4CA4118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D4FC1-D135-42D0-A67E-30DB91A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BF02-FC1A-4FAA-89D2-33D332E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EB1A-5AEF-4AA0-AD2E-97B43CFE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6C45-6FEF-405A-A75C-EBC56187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547E-795C-47D6-BE25-E1C3A5F1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5A617-1A3D-4D15-88D5-F5008DE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E615-AD79-4D07-8E6B-34F18EB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3F92-B246-4D63-8AA2-60713D3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F5569-E02D-49CA-8152-3ABF1E7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0FFB-DDA7-4F9A-A327-ACC608D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8DBB-02B3-48C5-A986-4CE9590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ED9D3-7060-48F0-9544-A53AB238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FEF62-8035-45E0-8554-005B8236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694-6F3D-4944-AFC8-D333E8A2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697CD-E277-42D3-988E-A9EA2E04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A5EF-E707-4838-B57F-49E4DF69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1529E-F164-49DE-995E-D15B4229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FFDB-CC13-456D-9F24-1359F20D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0107D-8645-40B1-9EB8-D1457101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33435-49DF-4C50-B0B7-F8B51E2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B9400-F8B7-402B-856E-F752CE1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E8493-989F-4ED7-9F12-ECD7DD5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797E-8410-4D93-BF95-3F44CEA7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6A81B-F03D-4802-94BD-9585FEAE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55E-577A-4215-81C4-46F36AF5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FC238-6270-4E0A-886F-6C4DE29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BB07B-AF9C-4A69-8874-1057BE8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BFD7E-AA41-4910-AAA5-38247C10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8DC3E-6DB3-4601-A50D-D0A5A8A3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D959D-7845-4D53-8CF0-D41F949D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A38AD-D86D-4A99-A04B-E6E084E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FFAF-528F-495D-88FF-66EDB04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254E8-E27C-4514-877D-7699A00D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99AED-5832-47DE-8EE5-2827878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730D5-DD60-4CA6-A55D-B9AF3F1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168-B736-40B1-8804-D557A13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D674C-A9A8-4040-B445-192D2FB3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E4E24-90E7-413D-93FE-9D3FE9B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531A4-4D07-45B5-A9F7-6B4D595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DDCC1-50BE-4D76-8AB5-5A3B8FA4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CF2EF-AD55-4F7E-AFCB-C74BACC2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CDD1A-B7C1-40E6-B6AF-32F004BB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5DB4A-BE70-4AC3-9EE5-D0389214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B7FA-C174-4466-95B8-D0BF6A85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DD88-6DDB-4C44-8A86-289758C7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21564-8552-4293-A2FA-ACBB511F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3B5-C7B4-417E-BFCB-FF7F0E4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02149-7AF5-431B-8D10-2E53375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F5DB-4CC2-483A-B955-557F5BD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DA5D-F198-4EF1-9B5E-37A50DF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EF027-D648-4288-80BF-F2EF955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5DDF-8BEF-4334-BD58-3BCDB92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721FA-B7AB-477A-8B17-492C361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CD375-9D84-4D8E-A42A-1E367D3A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EB902-0972-4D69-9EFC-F314EDB1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96572-677B-4AB7-B6C8-4BC3CBC3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54B9-6256-44E2-9B7D-6F324E8C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226-7E3C-406A-8829-CE3C319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89C25-3161-404F-9561-AE50495C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FA969-10F8-4942-8375-CB1F63F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891F8-E099-451E-865C-7222488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AD15A-8B73-4CEB-88F4-437AA23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09F3A-5200-4AAF-B98D-128C08A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B6527-96D1-474A-90C1-37B00C4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0E53-1D22-4FD2-AFB4-8145439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0B4F-3A50-4FDA-9BCD-B8EFCA2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B8A64-7CD4-48E8-AB1A-9E65F17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6CA62-724F-44CB-BD5E-A048D7E9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081-9ED8-4653-9FD3-1584208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395A0-42C8-48FA-BAC0-78DAE3A2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C4E-E693-4E34-AF35-92F63947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11F-BDB4-4676-ADC0-E3B6ADE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561-F4A1-43B1-BC02-55E92C0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71A-297B-4E4A-B585-E5BD94B1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61F-8459-4B71-BE79-C2802119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5C1-822C-43AA-BF60-57D5DDA5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11D-24E7-453F-814E-873FC517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7B8A-DBE0-4970-9B5B-6CCD47FD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0B8B-01F1-4318-B66B-5627FA5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E277-03E5-46DB-B6B1-C5F338B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6CF-7F4D-4BA8-BC8A-C1757FC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15D-E939-4BA1-B88F-A5FEC7C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859-985D-4D24-B293-72B5CCB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8ED-2BB3-4A5F-AB15-F5C818FA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863C-9637-4BBF-ACB5-723F998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ED85-1A90-4783-B34C-A69EB8D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4321-ABB8-438E-A920-59BD9F6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3479-96FF-433F-A36D-E6920614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A195-7BCA-47C2-8455-E19B850E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6B18-B47E-4C3D-9259-82BD6F26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3214-7337-485E-B983-C6B73550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3B6B-BE0E-4886-B1E6-E2F63D85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3501-621D-4155-93FF-1F52AD00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6429-745D-4B13-8650-6BE21558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803E-9566-40AC-B698-DEE43DC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4CD1-385B-480C-83B9-04C24A6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615C-E03E-4540-A447-92BB16D6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D710-85D6-4BC8-B3F3-7B20D2E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8E2C-A930-4E3B-9BE3-6F31D4AD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179A-2861-46BE-96F6-2B3C6443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D1A7-5D10-41AF-AD6E-1681F791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CF66-C94B-48D6-A978-D4BF90C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78C9-94B2-4458-9AF6-318B0EB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97EB-4CC7-4579-B4E8-DC1617A6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55D4F-8691-435B-808E-F8D75C46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48AD-1F39-4E02-8D89-A070AD9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DBF9-83FC-4C5B-A383-379547F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FC0F-43CA-40F9-82EF-8DE0BC7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D6B0-06B3-485D-AC5E-D160BC5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A311-9E05-422E-AFB5-2053DC9C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8177-646B-4DE3-A065-C078759B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E845-6A84-4473-9BA5-97D910B5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F1AB-9E1E-4410-92D8-85FAB187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B48C-7D10-4987-BEE6-48C4B004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3CD4-E7E5-4EAA-B8D2-8405D75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3CD26-88AD-432B-A389-F47D4F8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6B1C-C5D2-48D9-8719-E08F926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EBD9-E4DB-4965-8B30-CD039BB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C940-424E-4FDC-8758-6BE7109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6D0F9-7BD7-4DDB-A76F-CCA57DA4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10DEA-780B-4320-8C35-E7B1280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2535-7C66-4EAB-B4ED-02C0C496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4889-31FD-43F6-9447-1E36D23A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3C5C-E526-43CB-B3AB-9CE1B70C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CACFF-61CE-4AA4-9307-FA5F675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0319-2E16-4FEF-8346-0D07006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7A46-8FB3-44CE-9967-40C8B1B2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528-BA60-4AAD-825A-FDCFE612E6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132-5E9C-4794-A100-EAA3DD2946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7294-A132-441C-A101-76E1F21E725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4009-C858-4F20-A939-6A612D43EE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A926-9BA2-43FE-949F-C4AC15633A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A2F-EB64-4C21-884E-225E4D6E09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F0D-ECD7-4FEC-BBC2-46265C747C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1D8-1C6B-41C1-B2FC-0E1000E594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A0BB-5746-4C66-A4FB-C9D49B964F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F18-F8D8-4B89-A58F-EBB553DD72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3A5-4430-490D-8C75-3C30B36253C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0B08-0203-4D5A-8F35-CCE68E5F4A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45D-CBA5-4ACF-B8D9-A9622B7159D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D5A1-27F5-471D-94B9-DDC02C2D43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C:\Documents and Settings\鱼不愚\桌面\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"/>
          <p:cNvSpPr/>
          <p:nvPr/>
        </p:nvSpPr>
        <p:spPr>
          <a:xfrm>
            <a:off x="177840" y="673200"/>
            <a:ext cx="8852040" cy="5486400"/>
          </a:xfrm>
          <a:prstGeom prst="roundRect">
            <a:avLst>
              <a:gd name="adj" fmla="val 5093"/>
            </a:avLst>
          </a:prstGeom>
          <a:solidFill>
            <a:srgbClr val="f2f2f2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3336-CB49-4311-814F-D69FFF709ED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94A2-BD35-4CB1-AD65-A9BE439670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9C42-F155-418B-BDBA-11A24E9358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B69-E5AD-430D-9BAB-7C7971F433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F4D-E2D0-42C5-BA77-CA882C81D8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249-A1A5-440C-A09A-7710F18657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F87-6F6A-49C6-95D4-62BD095B5F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131-FE23-42F2-B826-34C91A0347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65B4-6559-40C2-A998-BBBD80E2B81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800-27C8-4F7C-901A-69CBBEE137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2"/>
          <p:cNvSpPr/>
          <p:nvPr/>
        </p:nvSpPr>
        <p:spPr>
          <a:xfrm>
            <a:off x="1604880" y="1600200"/>
            <a:ext cx="56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数据分析报告</a:t>
            </a: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38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44"/>
          <p:cNvSpPr/>
          <p:nvPr/>
        </p:nvSpPr>
        <p:spPr>
          <a:xfrm>
            <a:off x="1871640" y="16002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38"/>
          <p:cNvGrpSpPr/>
          <p:nvPr/>
        </p:nvGrpSpPr>
        <p:grpSpPr>
          <a:xfrm>
            <a:off x="1274760" y="1600200"/>
            <a:ext cx="655560" cy="547560"/>
            <a:chOff x="1274760" y="1600200"/>
            <a:chExt cx="655560" cy="547560"/>
          </a:xfrm>
        </p:grpSpPr>
        <p:sp>
          <p:nvSpPr>
            <p:cNvPr id="615" name="Rectangle 7"/>
            <p:cNvSpPr/>
            <p:nvPr/>
          </p:nvSpPr>
          <p:spPr>
            <a:xfrm>
              <a:off x="1274760" y="160020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1274760" y="160308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1280880" y="16128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 flipH="1">
              <a:off x="1866960" y="160632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AutoShape 144"/>
          <p:cNvSpPr/>
          <p:nvPr/>
        </p:nvSpPr>
        <p:spPr>
          <a:xfrm>
            <a:off x="1871640" y="24271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39"/>
          <p:cNvGrpSpPr/>
          <p:nvPr/>
        </p:nvGrpSpPr>
        <p:grpSpPr>
          <a:xfrm>
            <a:off x="1274760" y="2427120"/>
            <a:ext cx="655560" cy="547920"/>
            <a:chOff x="1274760" y="2427120"/>
            <a:chExt cx="655560" cy="547920"/>
          </a:xfrm>
        </p:grpSpPr>
        <p:sp>
          <p:nvSpPr>
            <p:cNvPr id="621" name="Rectangle 7"/>
            <p:cNvSpPr/>
            <p:nvPr/>
          </p:nvSpPr>
          <p:spPr>
            <a:xfrm>
              <a:off x="1274760" y="242712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74760" y="243000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1280880" y="24300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2"/>
            <p:cNvSpPr/>
            <p:nvPr/>
          </p:nvSpPr>
          <p:spPr>
            <a:xfrm flipH="1">
              <a:off x="1866960" y="243324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AutoShape 144"/>
          <p:cNvSpPr/>
          <p:nvPr/>
        </p:nvSpPr>
        <p:spPr>
          <a:xfrm>
            <a:off x="1871640" y="32544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40"/>
          <p:cNvGrpSpPr/>
          <p:nvPr/>
        </p:nvGrpSpPr>
        <p:grpSpPr>
          <a:xfrm>
            <a:off x="1263600" y="3255840"/>
            <a:ext cx="654120" cy="549360"/>
            <a:chOff x="1263600" y="3255840"/>
            <a:chExt cx="654120" cy="549360"/>
          </a:xfrm>
        </p:grpSpPr>
        <p:sp>
          <p:nvSpPr>
            <p:cNvPr id="627" name="Rectangle 7"/>
            <p:cNvSpPr/>
            <p:nvPr/>
          </p:nvSpPr>
          <p:spPr>
            <a:xfrm>
              <a:off x="1263600" y="325584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1263600" y="3258720"/>
              <a:ext cx="63360" cy="5432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3"/>
            <p:cNvSpPr/>
            <p:nvPr/>
          </p:nvSpPr>
          <p:spPr>
            <a:xfrm>
              <a:off x="1269720" y="3258720"/>
              <a:ext cx="64620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 flipH="1">
              <a:off x="1854360" y="3261960"/>
              <a:ext cx="63360" cy="5432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AutoShape 144"/>
          <p:cNvSpPr/>
          <p:nvPr/>
        </p:nvSpPr>
        <p:spPr>
          <a:xfrm>
            <a:off x="1871640" y="40910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41"/>
          <p:cNvGrpSpPr/>
          <p:nvPr/>
        </p:nvGrpSpPr>
        <p:grpSpPr>
          <a:xfrm>
            <a:off x="1247760" y="4083120"/>
            <a:ext cx="655560" cy="547560"/>
            <a:chOff x="1247760" y="4083120"/>
            <a:chExt cx="655560" cy="547560"/>
          </a:xfrm>
        </p:grpSpPr>
        <p:sp>
          <p:nvSpPr>
            <p:cNvPr id="633" name="Rectangle 7"/>
            <p:cNvSpPr/>
            <p:nvPr/>
          </p:nvSpPr>
          <p:spPr>
            <a:xfrm>
              <a:off x="1247760" y="408312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2"/>
            <p:cNvSpPr/>
            <p:nvPr/>
          </p:nvSpPr>
          <p:spPr>
            <a:xfrm>
              <a:off x="1247760" y="408600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3"/>
            <p:cNvSpPr/>
            <p:nvPr/>
          </p:nvSpPr>
          <p:spPr>
            <a:xfrm>
              <a:off x="1253880" y="40860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 flipH="1">
              <a:off x="1839960" y="408924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44"/>
          <p:cNvSpPr/>
          <p:nvPr/>
        </p:nvSpPr>
        <p:spPr>
          <a:xfrm>
            <a:off x="1871640" y="4911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组合 42"/>
          <p:cNvGrpSpPr/>
          <p:nvPr/>
        </p:nvGrpSpPr>
        <p:grpSpPr>
          <a:xfrm>
            <a:off x="1265400" y="4910040"/>
            <a:ext cx="653760" cy="547920"/>
            <a:chOff x="1265400" y="4910040"/>
            <a:chExt cx="653760" cy="547920"/>
          </a:xfrm>
        </p:grpSpPr>
        <p:sp>
          <p:nvSpPr>
            <p:cNvPr id="639" name="Rectangle 7"/>
            <p:cNvSpPr/>
            <p:nvPr/>
          </p:nvSpPr>
          <p:spPr>
            <a:xfrm>
              <a:off x="1265400" y="4910040"/>
              <a:ext cx="6523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1265400" y="491292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3"/>
            <p:cNvSpPr/>
            <p:nvPr/>
          </p:nvSpPr>
          <p:spPr>
            <a:xfrm>
              <a:off x="1271520" y="4912920"/>
              <a:ext cx="6458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 flipH="1">
              <a:off x="1855800" y="491616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8433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B21-CE79-4B9E-A639-E5B7E347D7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4"/>
          <p:cNvSpPr/>
          <p:nvPr/>
        </p:nvSpPr>
        <p:spPr>
          <a:xfrm>
            <a:off x="0" y="6599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2:31:5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5:50Z</dcterms:modified>
  <cp:revision>1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