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97B-82F3-43C7-8334-D0725281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BEC-AA12-4A6C-931D-06411D03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F4E-5B0D-4127-93DB-BB471305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F38-EDC5-46CB-9B61-C5BC0A6C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FA51-7A72-48C1-86CB-384323B5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BD61-CB06-4EBA-B73F-D2D12BA1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FD9B-03A9-4321-8D15-D3B0869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C7CB-8951-459C-9EC2-572DF41F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D612-3485-4CC4-BD34-1F8FCD5D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A0D5-A411-48A4-A342-2A4212A2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0E9-E3D8-49E5-A76A-E1BEBC9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59A-4396-4FFD-B199-DE05343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BBA2-CCFF-45EE-B15E-CDD0F15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4AA6-70AF-4405-B261-69C6E3E7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4200-0DAE-42DF-9817-6712DEC6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7114-B6E0-430A-95BF-D6F164D1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3A4-3CF9-461E-8426-36F12A6C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632-F2C0-4A96-8AE9-F3D6F6B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604-9D53-470B-802B-D284675D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FC2-5DEA-42CA-936B-ABD7FFF3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4A6-B089-44E7-BE6B-18862941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5D6-DA40-47FA-A6F3-2579514C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C56-8502-4268-8D73-C06286F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7F1-31A3-4367-B6EC-E7BFFCA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A89B-09C1-44CC-84E9-E61AB3981A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C0CB-AEDD-46AE-9524-B19BE7B248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D4BD-E998-4F6A-9245-8CBB5BF421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2821-AC22-496D-9ED2-312C3F83B7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蛇年PPT"/>
          <p:cNvPicPr/>
          <p:nvPr/>
        </p:nvPicPr>
        <p:blipFill>
          <a:blip r:embed="rId2"/>
          <a:stretch/>
        </p:blipFill>
        <p:spPr>
          <a:xfrm>
            <a:off x="4292640" y="636480"/>
            <a:ext cx="4091040" cy="361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02T"/>
          <p:cNvPicPr/>
          <p:nvPr/>
        </p:nvPicPr>
        <p:blipFill>
          <a:blip r:embed="rId3"/>
          <a:stretch/>
        </p:blipFill>
        <p:spPr>
          <a:xfrm>
            <a:off x="3398760" y="4030560"/>
            <a:ext cx="5421240" cy="1773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3075"/>
          <p:cNvSpPr/>
          <p:nvPr/>
        </p:nvSpPr>
        <p:spPr>
          <a:xfrm>
            <a:off x="193680" y="62406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5107680" y="2714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蛇年大吉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蛇年PPT 1"/>
          <p:cNvPicPr/>
          <p:nvPr/>
        </p:nvPicPr>
        <p:blipFill>
          <a:blip r:embed="rId1"/>
          <a:stretch/>
        </p:blipFill>
        <p:spPr>
          <a:xfrm>
            <a:off x="14400" y="784080"/>
            <a:ext cx="12196800" cy="80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蛇年PPT"/>
          <p:cNvPicPr/>
          <p:nvPr/>
        </p:nvPicPr>
        <p:blipFill>
          <a:blip r:embed="rId2"/>
          <a:stretch/>
        </p:blipFill>
        <p:spPr>
          <a:xfrm>
            <a:off x="41400" y="311040"/>
            <a:ext cx="1841400" cy="162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蛇年PPT 1"/>
          <p:cNvPicPr/>
          <p:nvPr/>
        </p:nvPicPr>
        <p:blipFill>
          <a:blip r:embed="rId3"/>
          <a:stretch/>
        </p:blipFill>
        <p:spPr>
          <a:xfrm>
            <a:off x="10158480" y="865080"/>
            <a:ext cx="1334880" cy="611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784520" y="3368520"/>
            <a:ext cx="203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目录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430440" y="2803680"/>
            <a:ext cx="730260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□</a:t>
            </a:r>
            <a:r>
              <a:rPr b="0" lang="zh-CN" sz="25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4102"/>
          <p:cNvSpPr/>
          <p:nvPr/>
        </p:nvSpPr>
        <p:spPr>
          <a:xfrm>
            <a:off x="812880" y="23749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720800" y="2776680"/>
            <a:ext cx="6229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蛇年PPT 2 副本"/>
          <p:cNvPicPr/>
          <p:nvPr/>
        </p:nvPicPr>
        <p:blipFill>
          <a:blip r:embed="rId1"/>
          <a:stretch/>
        </p:blipFill>
        <p:spPr>
          <a:xfrm>
            <a:off x="4680" y="1459080"/>
            <a:ext cx="912960" cy="379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蛇年PPT"/>
          <p:cNvPicPr/>
          <p:nvPr/>
        </p:nvPicPr>
        <p:blipFill>
          <a:blip r:embed="rId2"/>
          <a:stretch/>
        </p:blipFill>
        <p:spPr>
          <a:xfrm>
            <a:off x="8975880" y="1998720"/>
            <a:ext cx="27478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蛇年PPT 2"/>
          <p:cNvPicPr/>
          <p:nvPr/>
        </p:nvPicPr>
        <p:blipFill>
          <a:blip r:embed="rId1"/>
          <a:stretch/>
        </p:blipFill>
        <p:spPr>
          <a:xfrm>
            <a:off x="1268280" y="4680"/>
            <a:ext cx="804960" cy="687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319040" y="739800"/>
            <a:ext cx="8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黑简体"/>
                <a:ea typeface="方正正大黑简体"/>
              </a:rPr>
              <a:t>文字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蛇年PPT"/>
          <p:cNvPicPr/>
          <p:nvPr/>
        </p:nvPicPr>
        <p:blipFill>
          <a:blip r:embed="rId2"/>
          <a:stretch/>
        </p:blipFill>
        <p:spPr>
          <a:xfrm>
            <a:off x="512640" y="3552840"/>
            <a:ext cx="2360880" cy="2089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340080" y="863640"/>
            <a:ext cx="781380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大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方正正黑简体"/>
                <a:ea typeface="方正正大黑简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方正正黑简体"/>
                <a:ea typeface="方正正黑简体"/>
              </a:rPr>
              <a:t>文字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960" y="83664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959200" y="287352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962440" y="4894200"/>
            <a:ext cx="447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alibri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9DE5-8B9C-4D7D-AB38-B7569CD080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5"/>
          <p:cNvSpPr/>
          <p:nvPr/>
        </p:nvSpPr>
        <p:spPr>
          <a:xfrm>
            <a:off x="6237360" y="31734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蛇年PPT"/>
          <p:cNvPicPr/>
          <p:nvPr/>
        </p:nvPicPr>
        <p:blipFill>
          <a:blip r:embed="rId17"/>
          <a:stretch/>
        </p:blipFill>
        <p:spPr>
          <a:xfrm>
            <a:off x="4292640" y="636480"/>
            <a:ext cx="4091040" cy="36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02T"/>
          <p:cNvPicPr/>
          <p:nvPr/>
        </p:nvPicPr>
        <p:blipFill>
          <a:blip r:embed="rId18"/>
          <a:stretch/>
        </p:blipFill>
        <p:spPr>
          <a:xfrm>
            <a:off x="3414600" y="4030560"/>
            <a:ext cx="541980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蛇年PPT 副本"/>
          <p:cNvPicPr/>
          <p:nvPr/>
        </p:nvPicPr>
        <p:blipFill>
          <a:blip r:embed="rId19"/>
          <a:stretch/>
        </p:blipFill>
        <p:spPr>
          <a:xfrm>
            <a:off x="3137040" y="2922480"/>
            <a:ext cx="62020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40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