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1C8F-A9E4-470D-9290-7B41D68D8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306C-02EC-430A-9620-34263D039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3141-F1DE-46A1-9A3C-B03A19BBA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3879-BFFA-4DFC-BC40-E020C0747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33BE4-0089-4ACC-BD02-42043F470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A66C2-846C-4F85-BFF6-0FD4AE93C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6FCDC-2892-403C-97B8-57092CEA1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53CA9-A87C-4F8D-AC7D-10D92E629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BC44F-FD01-439B-BDDE-AA90650EC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92CE9-2F87-4FCE-BA5F-27973B175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55D36-ADE9-4BCF-B4CB-D8DDC86D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E366-5688-45AC-A150-000F49803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021CF-DDC4-4FD5-B12B-31D087D9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44E02-8F35-43B7-A9BA-4B962D8A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656FA-DDFC-49BD-9076-48591DBB2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28670-9126-4E47-994B-6FDE7E2C9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C0D1C-2C78-4725-9C50-3586FAE35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AD68-B597-4FD7-B751-C8B6065E8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7B12-9D71-4884-BAD2-9606776B2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0357-A2E0-4E5A-AA56-B27FCAC4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8F4F-CDFD-48C5-8840-1D86F591C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CB41-786B-46BF-A410-589BCC97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6304-0071-4EB3-BE6F-0B25DB4E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F7BD-5C76-4BC3-ACCD-880E6571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58F56-3354-4C26-972E-83B8B8091F19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FEB52-5A47-4032-BB84-C76E6A1308D9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6D8F9-8400-4D41-9610-70761A709C4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BD3DB-F2A4-419C-AB9C-CEEC4FEEC5D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5"/>
          <p:cNvSpPr/>
          <p:nvPr/>
        </p:nvSpPr>
        <p:spPr>
          <a:xfrm>
            <a:off x="2945520" y="3259080"/>
            <a:ext cx="32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1600" spc="-1" strike="noStrike">
                <a:solidFill>
                  <a:srgbClr val="494429"/>
                </a:solidFill>
                <a:latin typeface="Calibri"/>
                <a:ea typeface="宋体"/>
              </a:rPr>
              <a:t>模板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1"/>
              </a:rPr>
              <a:t>www.1ppt.com/moban/</a:t>
            </a:r>
            <a:r>
              <a:rPr b="0" lang="en-US" sz="1600" spc="-1" strike="noStrike">
                <a:solidFill>
                  <a:srgbClr val="494429"/>
                </a:solidFill>
                <a:latin typeface="Calibri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  <a:ea typeface="宋体"/>
            </a:endParaRPr>
          </a:p>
        </p:txBody>
      </p:sp>
      <p:pic>
        <p:nvPicPr>
          <p:cNvPr id="89" name="图片 3" descr=""/>
          <p:cNvPicPr/>
          <p:nvPr/>
        </p:nvPicPr>
        <p:blipFill>
          <a:blip r:embed="rId2"/>
          <a:stretch/>
        </p:blipFill>
        <p:spPr>
          <a:xfrm>
            <a:off x="-11160" y="-6480"/>
            <a:ext cx="1028232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文本框 3077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3078"/>
          <p:cNvSpPr/>
          <p:nvPr/>
        </p:nvSpPr>
        <p:spPr>
          <a:xfrm>
            <a:off x="3314160" y="26028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生日蜡烛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7T10:22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7:01Z</dcterms:modified>
  <cp:revision>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