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219D-428F-402B-8DA4-3F8339C2E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65530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3948480"/>
            <a:ext cx="65530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D056-FD81-4E13-8325-D9DF0D7B9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86320" y="160020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394848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586320" y="394848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C834-9320-42B4-B8FF-35B67253C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21099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444040" y="1600200"/>
            <a:ext cx="21099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59840" y="1600200"/>
            <a:ext cx="21099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3948480"/>
            <a:ext cx="21099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444040" y="3948480"/>
            <a:ext cx="21099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659840" y="3948480"/>
            <a:ext cx="21099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10F8-F3CF-4568-8C02-7D2AE90AB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28240" y="1600200"/>
            <a:ext cx="6553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6553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3197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586320" y="1600200"/>
            <a:ext cx="3197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6553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586320" y="1600200"/>
            <a:ext cx="3197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28240" y="394848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600200"/>
            <a:ext cx="6553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F501-B5C3-48C2-A80E-420F055D1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3197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586320" y="160020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586320" y="394848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586320" y="160020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28240" y="3948480"/>
            <a:ext cx="65530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65530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28240" y="3948480"/>
            <a:ext cx="65530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86320" y="160020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28240" y="394848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586320" y="394848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21099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444040" y="1600200"/>
            <a:ext cx="21099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59840" y="1600200"/>
            <a:ext cx="21099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28240" y="3948480"/>
            <a:ext cx="21099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444040" y="3948480"/>
            <a:ext cx="21099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659840" y="3948480"/>
            <a:ext cx="21099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6553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BD14-4101-4BF3-9D49-95225D2B0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3197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586320" y="1600200"/>
            <a:ext cx="3197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A48A-4E6D-48BE-966B-0E9F57CAD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6CFB-0ABC-4AD4-A593-67EB06DE6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6553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EA06-EFE5-4E90-A7BB-2339CD94F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86320" y="1600200"/>
            <a:ext cx="3197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394848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EA1A-28D5-448D-B2EB-AAE4CEF59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3197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86320" y="160020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586320" y="394848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F6B7-6B76-41C3-A707-547E3FD5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586320" y="160020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3948480"/>
            <a:ext cx="65530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1CE0-0DBE-413D-9852-919B1E6C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b1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025" descr="j0178949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7010280" y="0"/>
            <a:ext cx="21337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553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600200"/>
            <a:ext cx="6553080" cy="449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CD138-53C9-438F-A65E-700552555AE7}" type="datetime"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133360" y="6400800"/>
            <a:ext cx="4647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copyright (your organization)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0F588-AE4F-460E-9DFE-58663479F8C8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b1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2051" descr="j0178949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7010280" y="0"/>
            <a:ext cx="21337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553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28240" y="1600200"/>
            <a:ext cx="6553080" cy="449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8"/>
          <p:cNvSpPr/>
          <p:nvPr/>
        </p:nvSpPr>
        <p:spPr>
          <a:xfrm>
            <a:off x="250920" y="1054080"/>
            <a:ext cx="83534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手术棉签医疗医院幻灯片在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9"/>
          <p:cNvSpPr/>
          <p:nvPr/>
        </p:nvSpPr>
        <p:spPr>
          <a:xfrm>
            <a:off x="936720" y="2652840"/>
            <a:ext cx="45720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添加副标题或公司署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文本框 4099"/>
          <p:cNvSpPr/>
          <p:nvPr/>
        </p:nvSpPr>
        <p:spPr>
          <a:xfrm>
            <a:off x="108000" y="6226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文本框 4100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灯片编号占位符 1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C9C3F-5310-4EE1-86C0-8F053CB6CCC7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553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6553080" cy="449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91" name="文本框 5123"/>
          <p:cNvSpPr/>
          <p:nvPr/>
        </p:nvSpPr>
        <p:spPr>
          <a:xfrm>
            <a:off x="612720" y="2349360"/>
            <a:ext cx="50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日期占位符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DC251-81F9-4369-AE36-082CECF0094B}" type="datetime"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页脚占位符 2"/>
          <p:cNvSpPr/>
          <p:nvPr/>
        </p:nvSpPr>
        <p:spPr>
          <a:xfrm>
            <a:off x="2133720" y="6400800"/>
            <a:ext cx="46479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copyright (your organization)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灯片编号占位符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C191E-7D77-43C6-A7BE-65F53E8762CB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11:51:4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5:47Z</dcterms:modified>
  <cp:revision>1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