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6A1-027B-4180-822A-C28222F8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14720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FA6-56F6-4192-B768-B2690B31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7554-53BF-4024-A62C-DFB11B0B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234-FACD-41EB-9CFB-8E0D677E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48EF-7918-4A0D-A57E-E649CFC4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36CD-C690-4B0E-8247-311EFB34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8C39-D140-435D-BC7B-9EA4CE1B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47D2-CD34-46C6-A53C-EC12A38D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DB6E-5514-4EAD-980E-A1A7C0C8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C8F3-A72B-4C98-A18D-4E5A95F2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C372-B6BC-473E-AEC2-0AC796F0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8F4-296A-4FC1-9ED7-22CD40BF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416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6E5C-768E-40F3-B04D-0284D4F5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4711-F93B-4DB6-9ECD-3205CD64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14720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7493-166A-43F0-AFC6-6D6EC6D3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416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13D3-2365-4CEA-AFAB-8D2316A4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628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168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628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168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EA79-FAF6-427B-BE32-8137F47D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DC3E-64CF-45B9-ACC3-448F17C4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836CB-83CD-4DEF-8754-C26CBF5F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8E377-7605-4A7C-B75E-20C2E241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AD01-8EDA-46A2-A9E1-747B81EA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ACD1D-CA83-4FF2-9E2B-AB5873B8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2AF-F182-4849-B11C-AED62900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D155-1E50-4E1F-A01E-632350AF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E1BFE-9539-4A33-9F52-E608D3EA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5416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B3CD2-14FD-4180-8706-D58C9B02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049A5-3949-4171-9DA7-9872F691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520" y="414720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0574D-228E-41EC-9BCE-608E0429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5416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78C6D-6A7F-4CED-8350-6AB72EF4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628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168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52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628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168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671CA-C8D6-44B6-8CD4-E954373B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7DB-06CC-4E1C-8565-61E542BC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8E7-F176-4D4E-98D1-BDBEE062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7EB-0EB5-46EE-8B7D-8743A99C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514-7B03-4A69-B048-7EE6C0D0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519-4B07-44F3-A099-99F4D3AB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8C8-39BE-4891-B307-ED6311BC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4B1F-50F4-492A-BA55-48864E505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36D0-83A0-48C9-8FCE-0D983583D9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1AE7-D7A5-48F7-81D2-F488270E65C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9921-266E-4765-9CBE-E64798DFE7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4" name="文本框 4098"/>
          <p:cNvSpPr/>
          <p:nvPr/>
        </p:nvSpPr>
        <p:spPr>
          <a:xfrm>
            <a:off x="76320" y="64771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2034720" y="304920"/>
            <a:ext cx="567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输血血浆医学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免费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F8DF-6DDA-46D0-8216-F5CAA6406A56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6668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80520" y="3504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2" name="文本框 5123"/>
          <p:cNvSpPr/>
          <p:nvPr/>
        </p:nvSpPr>
        <p:spPr>
          <a:xfrm>
            <a:off x="2209680" y="129528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04:34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52Z</dcterms:modified>
  <cp:revision>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_TemplateID">
    <vt:lpwstr>TC011408251033</vt:lpwstr>
  </property>
</Properties>
</file>