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703F-20B4-418F-8F32-FCB7C95D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0FFE-346E-46D0-87F5-AA309A2B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BA90B-997C-4B6F-9AFD-18161E25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91C76-4956-49D9-A6D0-8D5B251D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A8411-434D-4200-9F68-ABF031DC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764D4-CD20-4C12-9D19-F9BFF319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546B1-5D42-45C7-A9FA-31D9A28A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266CB-846A-4484-8162-7FA8D1C1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FC2D7-C909-4270-BCA8-3F22C923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32698-016A-4FE3-A8D7-D04302D3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4DC6E-B3DA-48D7-A3DC-C16BC1C0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3A2522-472F-4555-8845-F88DA725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58DA-795D-413E-A50B-69E9D02C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CE10D-21D8-41A6-A41F-78164CD8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75CC4-B75C-49AC-AB50-BE5D1CE8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64859-BC3A-41E6-9174-8727B14B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2643E-9740-4D2F-9DC7-891ABB0A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222CD-789F-4822-A427-25864EAF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331EA-B4AF-483D-87CA-1B4CCF99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9E47C-C251-4A39-85C6-319A2249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9DBA4-4888-41CE-9CC3-12EB8FC8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7D908-D436-452F-849D-A6BE79BA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0301B-FCB1-46E6-948B-0B7C0227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ECD0-7AAE-41BA-B1FE-30221E6C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EFD90-50AA-4A31-93D0-11BBBD19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A22C5-2671-4E71-B9C3-50B23BB0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4D441-6DDA-4592-A224-179C03F6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77F1B-CE3C-4B85-A0BE-8CD21DF6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9F692-B286-49D3-A737-97C9AA51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8556B-0BA2-4C30-B755-93A1C08D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B8D39-5326-4B1F-B9D2-51BB8468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2DB41-AE9B-48CF-BCFE-8A70BD36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5CAF4-F888-4D50-8160-F6325FC3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46088-F672-4A3D-BABA-FE3EABD3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D568-8EAA-4898-9EEA-B5A564BF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380DC-2C10-47CD-8BBE-4347421C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1BF15-8532-478A-B937-8DCB4F67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371EE-8C8C-4B3D-95DE-20660BD1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BB239-E85D-4703-A10A-B4B59345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E4DE5-3748-4441-A818-391E54C2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CA9A3-2787-4B9B-AE26-51B07B7C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99A91-7113-4EF4-AE84-7E97030D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D8D2C-015C-4A28-BFC9-376A0E4D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01752-1638-4B70-873C-1F05EE7F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0627D-3800-4B9D-B62E-2DEDAA51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606C-CC57-4604-AB3A-5329733F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30E64-1B27-418A-AEB4-5EA1EC12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B7918-224A-4980-85B9-D378229A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19F8B-A01A-4234-9D0D-11675F78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05927-0C59-422B-AA8B-A4E051F6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68952-5836-4125-8F8D-20F59B6D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BF5F92-9588-40F3-BF87-D3F13349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24D51A-D666-45C5-8543-5A6B58B2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358D6B-7C04-449A-A504-9A368EF9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17944A-D0A3-4CC0-B733-DC9D0405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64004E-E16A-4CFB-BA6A-5298E4BB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5512-41F1-40D2-B10E-A9F5FD20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02DCC-4DD8-4302-8F6D-7741F1F2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24BB9D-E03D-4E6B-B87B-DF35A9FD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7884F3-8F23-4F07-AFE7-356CF9B4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FA477D-98CA-4709-A89E-E983BE1D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E79CDB-FC8A-46DE-8386-33FFFA54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E2F342-0072-4357-AED9-C3A34DF5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745AED-955F-4EEE-A08B-033B8513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942D-05F4-48B4-9517-179F803F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A85F-00FE-407E-B185-466EDD36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2206-EF19-4A7F-957D-83DDA9DD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E86B-AD8B-4B79-996C-6457AE30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578D-6D0E-4135-AFB6-422E65C1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4F0E-D935-4555-826C-3817FCA6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273C-99B0-46A7-BC89-E66C4472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BCD6-AEF1-4C13-976A-D05DCC82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E018-A824-43C8-8F33-23606D24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F076-E152-4C94-9B37-7A3F55969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D367C-40E4-4E60-AA64-5E724E37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89E06-CCB1-4622-8796-6CB5B4EE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C90A7-B5A7-42C8-A8A4-36C109F3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1853C-BCE6-45AE-825E-D633E618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4E5D3-77CC-4AC4-AA97-FBA8B2ED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5153-C58B-4D0D-9C85-5350D52C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2C347-516F-4A87-958E-C9837318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C70FA-49A5-4CB1-AF59-16B824B6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571E0-AA92-4FAE-A340-A4A9AD2B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DC4C0-6CC2-491A-8ABD-E2F95419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DE7F3-18BF-4FB2-82B1-C2AF2801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31674-E3F2-4034-BECF-69DCC900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DF727-91D8-4DC9-A811-A15AF77E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D3D80-DD6C-44DD-96AD-99BE7F4C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0FBB2-BA7F-458C-9EEB-648F3327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2B297-EB43-4B53-8F91-B3553F15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9602-E025-4C31-934A-B7177240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E9167-E662-4DC1-AE6F-68BF49C2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8DF9D-8EEC-4AFD-A91B-418A716B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A6359-EAF2-4BDB-A4AF-B18E3E69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2E602-5D11-415F-A7FD-A0672DEC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3EB28-5947-4E4F-BC0D-06A32962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A6CEF-FA7A-4069-9056-ECA795A2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335FC-B3ED-4149-9D57-13AB0D67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62DC4-0CB8-45B3-896E-17C0D8C9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C9D8A-CC51-4956-BE80-27B2EF7C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265C0-773A-460F-ABEF-94944C18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2EAB-72A5-489A-A764-0B85E73E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46B13-29F5-4660-9252-4FB96A5B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670C7-39B1-4118-98F0-24213574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5B5C5-E579-4BC9-8464-A487FE11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2C3EA-2EA2-4932-A1F1-09401D47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83182-8280-4453-A11E-BDA64952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846A4-B868-4D4D-90D5-20A9AB56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3B31A-3BE2-4D4A-948A-CC4EE310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F2D77-B56E-4478-A80D-02C845BD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33653-B88B-4DB1-8E0B-747F5E1F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16648-044A-46CB-A7B1-5C85F511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8117-C918-468E-B1D9-AC157D04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7633E-37C0-4321-B809-5E7AC9D4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711DB-E567-4C16-B17E-0CA2DDCB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E4F1E-4346-42FA-81A3-BE3D8E83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065A6-9F1B-4481-B716-BDD85252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30261-3D9B-42D2-A887-C8D12AFC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1C13F-569A-44ED-ADD2-B7C15720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35720-8B87-4D95-BACB-CEFB3E47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99270-F55B-46CC-8B8A-8947AEE7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DF37E-5B18-456F-9324-3B5C0950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D0C71-64DF-48CE-92DE-6451C7B6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112F-B45C-4976-B6F6-ACC2EA26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944C6-D117-4CFF-A9F3-6FCCD0DB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4F050-45CD-49EE-B68F-6FC7FD5F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3C9A2-19CA-4AC8-B0F5-2D0205E3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E18E3-77A1-4201-85F8-B9EF25AD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AEAB4-9047-487B-BB39-F5B73A0E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FD823-36BF-4C6D-910C-788EDDC6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AEEE7-6D1E-4C12-A1D1-8949DBE5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CD364-3EAF-4B1B-AF02-23FD33CC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D168C-9B49-4F93-9F5D-D63386F7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CEFFD-FCBF-4EA6-A067-7236E1C2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C8F5-C6AE-4E05-922D-D5C434EC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2114D-623D-4A1D-B845-25893A05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A6547-E76E-4012-B03A-341A4E08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0A47A-5FA5-4406-B374-84F84D35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BC3C3-522C-49A5-96E2-E1B7599C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53B9D-5BEF-4829-9BE1-17305C4D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542CB-8B99-43D2-8C5E-CEF3DDC1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B1A61-7480-4768-A849-DD0EDAF2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E0579-0EDC-49B8-8E82-5BC59B75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FDA4D-2DB2-43C9-B6DD-C0038F34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20696-0E40-4C72-A93B-BEB56C47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50DD-7073-46F8-B756-837EF4C5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1C114-FA50-46C0-84A5-8656F447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816F5-BBB6-4A22-BB26-AC28E311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9CF76-8666-4D19-92A6-F6B07E72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03E7C-F63B-419B-B57D-B1E292D9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D07D7-3048-4D23-ACF9-B593ECF8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6ED2F-40C8-473E-BC2F-35C9D859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53199-0D6E-42C9-A04D-CA818DEE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0384F-27DB-4B6F-9659-D0E3A00E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8C0AE-EDE8-41A3-AC94-AF9FABD6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6C3BC-4385-47B0-8024-4A8B6A59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F1D9-6A7D-45D2-85E1-FE94D63BA1F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06C6-1FD4-4FC9-A05D-8F67A300FD1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5E40-F81E-4FEB-8663-A90C1BCBD44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B3EE-B3BE-4153-803A-CF627FCFE68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23D3-9D75-4742-B608-F7304517217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B6AC-0D48-46C5-A9EB-5FCF9072281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B4C6-5CD5-4472-9E63-9DC7B079B80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CCC2-C82C-45B2-88AF-0E1860C01E9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1D65-1149-4988-88FD-AD1BA243AAD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4EAF-4144-4A7C-ACC2-5C30C1F95D2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EF3E-3061-4598-831C-F3742E54B20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76EB-D52F-4B67-B788-FD5DED0C01E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F966-2F36-433E-9F0C-ACEBDF67FC4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35B6-9B92-4DA0-BEB0-FCFD114E25F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B64E-12A0-42CE-8580-B38F1CC5143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01FC-1148-4688-85F9-002BB0DB5BB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163C-A5D1-4A32-A5E5-2BA43F5C3D8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A69C-E597-4CD4-9E6A-557AA9A7602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1385-4B45-4B78-808F-29C3A320D95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127D-AC7E-41EE-8D8C-4110C8A8075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83D4-29EA-4E44-AA08-48B9BB8BD33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1DF5-752F-4FDA-822B-AA18CCB3310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C879-5B82-4B42-BA3B-0D9A9DAA7FC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0E23-41C4-4A92-A186-A9F5AD7286E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1749-27A4-4F04-98DD-F0A121DDB0F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5D6B-2407-4459-B387-B34C76501C0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3286080" y="5124600"/>
            <a:ext cx="4857840" cy="16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羊年春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2"/>
          <p:cNvSpPr/>
          <p:nvPr/>
        </p:nvSpPr>
        <p:spPr>
          <a:xfrm>
            <a:off x="5143680" y="71280"/>
            <a:ext cx="442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直接连接符 6"/>
          <p:cNvSpPr/>
          <p:nvPr/>
        </p:nvSpPr>
        <p:spPr>
          <a:xfrm>
            <a:off x="3357720" y="562464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4340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4341"/>
          <p:cNvSpPr/>
          <p:nvPr/>
        </p:nvSpPr>
        <p:spPr>
          <a:xfrm>
            <a:off x="2442600" y="4046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三羊开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图片 37" descr="1.png"/>
          <p:cNvPicPr/>
          <p:nvPr/>
        </p:nvPicPr>
        <p:blipFill>
          <a:blip r:embed="rId2"/>
          <a:stretch/>
        </p:blipFill>
        <p:spPr>
          <a:xfrm>
            <a:off x="2786040" y="1143000"/>
            <a:ext cx="4000680" cy="120636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39" descr="2.png"/>
          <p:cNvPicPr/>
          <p:nvPr/>
        </p:nvPicPr>
        <p:blipFill>
          <a:blip r:embed="rId3"/>
          <a:stretch/>
        </p:blipFill>
        <p:spPr>
          <a:xfrm>
            <a:off x="2773440" y="2143080"/>
            <a:ext cx="4013280" cy="113040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40" descr="1.png"/>
          <p:cNvPicPr/>
          <p:nvPr/>
        </p:nvPicPr>
        <p:blipFill>
          <a:blip r:embed="rId4"/>
          <a:stretch/>
        </p:blipFill>
        <p:spPr>
          <a:xfrm>
            <a:off x="2786040" y="3156120"/>
            <a:ext cx="4000680" cy="120636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41" descr="2.png"/>
          <p:cNvPicPr/>
          <p:nvPr/>
        </p:nvPicPr>
        <p:blipFill>
          <a:blip r:embed="rId5"/>
          <a:stretch/>
        </p:blipFill>
        <p:spPr>
          <a:xfrm>
            <a:off x="2773440" y="4156200"/>
            <a:ext cx="4013280" cy="1130040"/>
          </a:xfrm>
          <a:prstGeom prst="rect">
            <a:avLst/>
          </a:prstGeom>
          <a:ln w="0">
            <a:noFill/>
          </a:ln>
        </p:spPr>
      </p:pic>
      <p:sp>
        <p:nvSpPr>
          <p:cNvPr id="54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20"/>
          <p:cNvSpPr/>
          <p:nvPr/>
        </p:nvSpPr>
        <p:spPr>
          <a:xfrm flipH="1">
            <a:off x="3857760" y="25718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21"/>
          <p:cNvSpPr/>
          <p:nvPr/>
        </p:nvSpPr>
        <p:spPr>
          <a:xfrm>
            <a:off x="3786120" y="35002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29"/>
          <p:cNvSpPr/>
          <p:nvPr/>
        </p:nvSpPr>
        <p:spPr>
          <a:xfrm>
            <a:off x="3857760" y="15588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42"/>
          <p:cNvSpPr/>
          <p:nvPr/>
        </p:nvSpPr>
        <p:spPr>
          <a:xfrm>
            <a:off x="40690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图片 39" descr="1.png"/>
          <p:cNvPicPr/>
          <p:nvPr/>
        </p:nvPicPr>
        <p:blipFill>
          <a:blip r:embed="rId2"/>
          <a:stretch/>
        </p:blipFill>
        <p:spPr>
          <a:xfrm>
            <a:off x="4870440" y="895320"/>
            <a:ext cx="2344680" cy="245736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40" descr="2.png"/>
          <p:cNvPicPr/>
          <p:nvPr/>
        </p:nvPicPr>
        <p:blipFill>
          <a:blip r:embed="rId3"/>
          <a:stretch/>
        </p:blipFill>
        <p:spPr>
          <a:xfrm>
            <a:off x="5095800" y="1176480"/>
            <a:ext cx="1886040" cy="206820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41" descr="1.png"/>
          <p:cNvPicPr/>
          <p:nvPr/>
        </p:nvPicPr>
        <p:blipFill>
          <a:blip r:embed="rId4"/>
          <a:stretch/>
        </p:blipFill>
        <p:spPr>
          <a:xfrm>
            <a:off x="4870440" y="3255840"/>
            <a:ext cx="2344680" cy="2459160"/>
          </a:xfrm>
          <a:prstGeom prst="rect">
            <a:avLst/>
          </a:prstGeom>
          <a:ln w="0">
            <a:noFill/>
          </a:ln>
        </p:spPr>
      </p:pic>
      <p:pic>
        <p:nvPicPr>
          <p:cNvPr id="554" name="图片 42" descr="2.png"/>
          <p:cNvPicPr/>
          <p:nvPr/>
        </p:nvPicPr>
        <p:blipFill>
          <a:blip r:embed="rId5"/>
          <a:stretch/>
        </p:blipFill>
        <p:spPr>
          <a:xfrm>
            <a:off x="5043600" y="3324240"/>
            <a:ext cx="1885680" cy="2068560"/>
          </a:xfrm>
          <a:prstGeom prst="rect">
            <a:avLst/>
          </a:prstGeom>
          <a:ln w="0">
            <a:noFill/>
          </a:ln>
        </p:spPr>
      </p:pic>
      <p:pic>
        <p:nvPicPr>
          <p:cNvPr id="555" name="图片 43" descr="1.png"/>
          <p:cNvPicPr/>
          <p:nvPr/>
        </p:nvPicPr>
        <p:blipFill>
          <a:blip r:embed="rId6"/>
          <a:stretch/>
        </p:blipFill>
        <p:spPr>
          <a:xfrm>
            <a:off x="2655720" y="895320"/>
            <a:ext cx="2345040" cy="245736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44" descr="2.png"/>
          <p:cNvPicPr/>
          <p:nvPr/>
        </p:nvPicPr>
        <p:blipFill>
          <a:blip r:embed="rId7"/>
          <a:stretch/>
        </p:blipFill>
        <p:spPr>
          <a:xfrm>
            <a:off x="2900520" y="1176480"/>
            <a:ext cx="1885680" cy="206820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45" descr="1.png"/>
          <p:cNvPicPr/>
          <p:nvPr/>
        </p:nvPicPr>
        <p:blipFill>
          <a:blip r:embed="rId8"/>
          <a:stretch/>
        </p:blipFill>
        <p:spPr>
          <a:xfrm>
            <a:off x="2655720" y="3255840"/>
            <a:ext cx="2345040" cy="245916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46" descr="2.png"/>
          <p:cNvPicPr/>
          <p:nvPr/>
        </p:nvPicPr>
        <p:blipFill>
          <a:blip r:embed="rId9"/>
          <a:stretch/>
        </p:blipFill>
        <p:spPr>
          <a:xfrm>
            <a:off x="2928960" y="3324240"/>
            <a:ext cx="1886040" cy="2068560"/>
          </a:xfrm>
          <a:prstGeom prst="rect">
            <a:avLst/>
          </a:prstGeom>
          <a:ln w="0">
            <a:noFill/>
          </a:ln>
        </p:spPr>
      </p:pic>
      <p:sp>
        <p:nvSpPr>
          <p:cNvPr id="5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12"/>
          <p:cNvSpPr/>
          <p:nvPr/>
        </p:nvSpPr>
        <p:spPr>
          <a:xfrm>
            <a:off x="33548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13"/>
          <p:cNvSpPr/>
          <p:nvPr/>
        </p:nvSpPr>
        <p:spPr>
          <a:xfrm>
            <a:off x="53550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14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15"/>
          <p:cNvSpPr/>
          <p:nvPr/>
        </p:nvSpPr>
        <p:spPr>
          <a:xfrm>
            <a:off x="35690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图片 31" descr="1.png"/>
          <p:cNvPicPr/>
          <p:nvPr/>
        </p:nvPicPr>
        <p:blipFill>
          <a:blip r:embed="rId2"/>
          <a:stretch/>
        </p:blipFill>
        <p:spPr>
          <a:xfrm>
            <a:off x="1670040" y="571680"/>
            <a:ext cx="5803920" cy="5715000"/>
          </a:xfrm>
          <a:prstGeom prst="rect">
            <a:avLst/>
          </a:prstGeom>
          <a:ln w="0">
            <a:noFill/>
          </a:ln>
        </p:spPr>
      </p:pic>
      <p:pic>
        <p:nvPicPr>
          <p:cNvPr id="569" name="图片 32" descr="2.png"/>
          <p:cNvPicPr/>
          <p:nvPr/>
        </p:nvPicPr>
        <p:blipFill>
          <a:blip r:embed="rId3"/>
          <a:stretch/>
        </p:blipFill>
        <p:spPr>
          <a:xfrm>
            <a:off x="6072120" y="2451240"/>
            <a:ext cx="1206720" cy="1549440"/>
          </a:xfrm>
          <a:prstGeom prst="rect">
            <a:avLst/>
          </a:prstGeom>
          <a:ln w="0">
            <a:noFill/>
          </a:ln>
        </p:spPr>
      </p:pic>
      <p:pic>
        <p:nvPicPr>
          <p:cNvPr id="570" name="图片 37" descr="2.png"/>
          <p:cNvPicPr/>
          <p:nvPr/>
        </p:nvPicPr>
        <p:blipFill>
          <a:blip r:embed="rId4"/>
          <a:stretch/>
        </p:blipFill>
        <p:spPr>
          <a:xfrm>
            <a:off x="4143240" y="4722840"/>
            <a:ext cx="1549440" cy="1206360"/>
          </a:xfrm>
          <a:prstGeom prst="rect">
            <a:avLst/>
          </a:prstGeom>
          <a:ln w="0">
            <a:noFill/>
          </a:ln>
        </p:spPr>
      </p:pic>
      <p:pic>
        <p:nvPicPr>
          <p:cNvPr id="571" name="图片 38" descr="2.png"/>
          <p:cNvPicPr/>
          <p:nvPr/>
        </p:nvPicPr>
        <p:blipFill>
          <a:blip r:embed="rId5"/>
          <a:stretch/>
        </p:blipFill>
        <p:spPr>
          <a:xfrm>
            <a:off x="3786120" y="785880"/>
            <a:ext cx="1549440" cy="1206360"/>
          </a:xfrm>
          <a:prstGeom prst="rect">
            <a:avLst/>
          </a:prstGeom>
          <a:ln w="0">
            <a:noFill/>
          </a:ln>
        </p:spPr>
      </p:pic>
      <p:pic>
        <p:nvPicPr>
          <p:cNvPr id="572" name="图片 39" descr="2.png"/>
          <p:cNvPicPr/>
          <p:nvPr/>
        </p:nvPicPr>
        <p:blipFill>
          <a:blip r:embed="rId6"/>
          <a:stretch/>
        </p:blipFill>
        <p:spPr>
          <a:xfrm>
            <a:off x="2143080" y="2808360"/>
            <a:ext cx="1206720" cy="1549440"/>
          </a:xfrm>
          <a:prstGeom prst="rect">
            <a:avLst/>
          </a:prstGeom>
          <a:ln w="0">
            <a:noFill/>
          </a:ln>
        </p:spPr>
      </p:pic>
      <p:sp>
        <p:nvSpPr>
          <p:cNvPr id="57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10"/>
          <p:cNvSpPr/>
          <p:nvPr/>
        </p:nvSpPr>
        <p:spPr>
          <a:xfrm>
            <a:off x="15688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11"/>
          <p:cNvSpPr/>
          <p:nvPr/>
        </p:nvSpPr>
        <p:spPr>
          <a:xfrm>
            <a:off x="5212080" y="1285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15"/>
          <p:cNvSpPr/>
          <p:nvPr/>
        </p:nvSpPr>
        <p:spPr>
          <a:xfrm>
            <a:off x="6569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16"/>
          <p:cNvSpPr/>
          <p:nvPr/>
        </p:nvSpPr>
        <p:spPr>
          <a:xfrm>
            <a:off x="34977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图片 34" descr="1.png"/>
          <p:cNvPicPr/>
          <p:nvPr/>
        </p:nvPicPr>
        <p:blipFill>
          <a:blip r:embed="rId2"/>
          <a:stretch/>
        </p:blipFill>
        <p:spPr>
          <a:xfrm>
            <a:off x="3000240" y="131760"/>
            <a:ext cx="3873600" cy="3225960"/>
          </a:xfrm>
          <a:prstGeom prst="rect">
            <a:avLst/>
          </a:prstGeom>
          <a:ln w="0">
            <a:noFill/>
          </a:ln>
        </p:spPr>
      </p:pic>
      <p:pic>
        <p:nvPicPr>
          <p:cNvPr id="583" name="图片 35" descr="2.png"/>
          <p:cNvPicPr/>
          <p:nvPr/>
        </p:nvPicPr>
        <p:blipFill>
          <a:blip r:embed="rId3"/>
          <a:stretch/>
        </p:blipFill>
        <p:spPr>
          <a:xfrm>
            <a:off x="4643280" y="1714680"/>
            <a:ext cx="3276720" cy="3352680"/>
          </a:xfrm>
          <a:prstGeom prst="rect">
            <a:avLst/>
          </a:prstGeom>
          <a:ln w="0">
            <a:noFill/>
          </a:ln>
        </p:spPr>
      </p:pic>
      <p:pic>
        <p:nvPicPr>
          <p:cNvPr id="584" name="图片 36" descr="1.png"/>
          <p:cNvPicPr/>
          <p:nvPr/>
        </p:nvPicPr>
        <p:blipFill>
          <a:blip r:embed="rId4"/>
          <a:stretch/>
        </p:blipFill>
        <p:spPr>
          <a:xfrm>
            <a:off x="3000240" y="3071880"/>
            <a:ext cx="3873600" cy="3225600"/>
          </a:xfrm>
          <a:prstGeom prst="rect">
            <a:avLst/>
          </a:prstGeom>
          <a:ln w="0">
            <a:noFill/>
          </a:ln>
        </p:spPr>
      </p:pic>
      <p:pic>
        <p:nvPicPr>
          <p:cNvPr id="585" name="图片 37" descr="2.png"/>
          <p:cNvPicPr/>
          <p:nvPr/>
        </p:nvPicPr>
        <p:blipFill>
          <a:blip r:embed="rId5"/>
          <a:stretch/>
        </p:blipFill>
        <p:spPr>
          <a:xfrm>
            <a:off x="1643040" y="1719360"/>
            <a:ext cx="3276720" cy="3352680"/>
          </a:xfrm>
          <a:prstGeom prst="rect">
            <a:avLst/>
          </a:prstGeom>
          <a:ln w="0">
            <a:noFill/>
          </a:ln>
        </p:spPr>
      </p:pic>
      <p:sp>
        <p:nvSpPr>
          <p:cNvPr id="58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18"/>
          <p:cNvSpPr/>
          <p:nvPr/>
        </p:nvSpPr>
        <p:spPr>
          <a:xfrm>
            <a:off x="23547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26"/>
          <p:cNvSpPr/>
          <p:nvPr/>
        </p:nvSpPr>
        <p:spPr>
          <a:xfrm>
            <a:off x="4140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38"/>
          <p:cNvSpPr/>
          <p:nvPr/>
        </p:nvSpPr>
        <p:spPr>
          <a:xfrm>
            <a:off x="57837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39"/>
          <p:cNvSpPr/>
          <p:nvPr/>
        </p:nvSpPr>
        <p:spPr>
          <a:xfrm>
            <a:off x="414072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图片 32" descr="1.png"/>
          <p:cNvPicPr/>
          <p:nvPr/>
        </p:nvPicPr>
        <p:blipFill>
          <a:blip r:embed="rId2"/>
          <a:stretch/>
        </p:blipFill>
        <p:spPr>
          <a:xfrm>
            <a:off x="4676760" y="1085760"/>
            <a:ext cx="2365560" cy="218592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33" descr="2.png"/>
          <p:cNvPicPr/>
          <p:nvPr/>
        </p:nvPicPr>
        <p:blipFill>
          <a:blip r:embed="rId3"/>
          <a:stretch/>
        </p:blipFill>
        <p:spPr>
          <a:xfrm>
            <a:off x="4748040" y="3117960"/>
            <a:ext cx="2395800" cy="2485800"/>
          </a:xfrm>
          <a:prstGeom prst="rect">
            <a:avLst/>
          </a:prstGeom>
          <a:ln w="0">
            <a:noFill/>
          </a:ln>
        </p:spPr>
      </p:pic>
      <p:pic>
        <p:nvPicPr>
          <p:cNvPr id="597" name="图片 34" descr="1.png"/>
          <p:cNvPicPr/>
          <p:nvPr/>
        </p:nvPicPr>
        <p:blipFill>
          <a:blip r:embed="rId4"/>
          <a:stretch/>
        </p:blipFill>
        <p:spPr>
          <a:xfrm>
            <a:off x="2454120" y="3300480"/>
            <a:ext cx="2365560" cy="218592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35" descr="2.png"/>
          <p:cNvPicPr/>
          <p:nvPr/>
        </p:nvPicPr>
        <p:blipFill>
          <a:blip r:embed="rId5"/>
          <a:stretch/>
        </p:blipFill>
        <p:spPr>
          <a:xfrm>
            <a:off x="2352600" y="1000080"/>
            <a:ext cx="2395440" cy="2486160"/>
          </a:xfrm>
          <a:prstGeom prst="rect">
            <a:avLst/>
          </a:prstGeom>
          <a:ln w="0">
            <a:noFill/>
          </a:ln>
        </p:spPr>
      </p:pic>
      <p:sp>
        <p:nvSpPr>
          <p:cNvPr id="59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6"/>
          <p:cNvSpPr/>
          <p:nvPr/>
        </p:nvSpPr>
        <p:spPr>
          <a:xfrm>
            <a:off x="59112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12"/>
          <p:cNvSpPr/>
          <p:nvPr/>
        </p:nvSpPr>
        <p:spPr>
          <a:xfrm>
            <a:off x="59979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13"/>
          <p:cNvSpPr/>
          <p:nvPr/>
        </p:nvSpPr>
        <p:spPr>
          <a:xfrm>
            <a:off x="54979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14"/>
          <p:cNvSpPr/>
          <p:nvPr/>
        </p:nvSpPr>
        <p:spPr>
          <a:xfrm>
            <a:off x="25689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31"/>
          <p:cNvSpPr/>
          <p:nvPr/>
        </p:nvSpPr>
        <p:spPr>
          <a:xfrm>
            <a:off x="29260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BFE2-9B13-4AE4-917E-6275AAED8AD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图片 29" descr="2.png"/>
          <p:cNvPicPr/>
          <p:nvPr/>
        </p:nvPicPr>
        <p:blipFill>
          <a:blip r:embed="rId2"/>
          <a:stretch/>
        </p:blipFill>
        <p:spPr>
          <a:xfrm>
            <a:off x="4357800" y="654120"/>
            <a:ext cx="2759040" cy="3206520"/>
          </a:xfrm>
          <a:prstGeom prst="rect">
            <a:avLst/>
          </a:prstGeom>
          <a:ln w="0">
            <a:noFill/>
          </a:ln>
        </p:spPr>
      </p:pic>
      <p:sp>
        <p:nvSpPr>
          <p:cNvPr id="61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11"/>
          <p:cNvSpPr/>
          <p:nvPr/>
        </p:nvSpPr>
        <p:spPr>
          <a:xfrm>
            <a:off x="52120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12"/>
          <p:cNvSpPr/>
          <p:nvPr/>
        </p:nvSpPr>
        <p:spPr>
          <a:xfrm>
            <a:off x="535500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13"/>
          <p:cNvSpPr/>
          <p:nvPr/>
        </p:nvSpPr>
        <p:spPr>
          <a:xfrm>
            <a:off x="29260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17"/>
          <p:cNvSpPr/>
          <p:nvPr/>
        </p:nvSpPr>
        <p:spPr>
          <a:xfrm>
            <a:off x="292608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图片 28" descr="1.png"/>
          <p:cNvPicPr/>
          <p:nvPr/>
        </p:nvPicPr>
        <p:blipFill>
          <a:blip r:embed="rId3"/>
          <a:stretch/>
        </p:blipFill>
        <p:spPr>
          <a:xfrm>
            <a:off x="1992240" y="654120"/>
            <a:ext cx="3652920" cy="255420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31" descr="4.png"/>
          <p:cNvPicPr/>
          <p:nvPr/>
        </p:nvPicPr>
        <p:blipFill>
          <a:blip r:embed="rId4"/>
          <a:stretch/>
        </p:blipFill>
        <p:spPr>
          <a:xfrm>
            <a:off x="2122560" y="2440080"/>
            <a:ext cx="2679480" cy="3274920"/>
          </a:xfrm>
          <a:prstGeom prst="rect">
            <a:avLst/>
          </a:prstGeom>
          <a:ln w="0">
            <a:noFill/>
          </a:ln>
        </p:spPr>
      </p:pic>
      <p:pic>
        <p:nvPicPr>
          <p:cNvPr id="624" name="图片 30" descr="3.png"/>
          <p:cNvPicPr/>
          <p:nvPr/>
        </p:nvPicPr>
        <p:blipFill>
          <a:blip r:embed="rId5"/>
          <a:stretch/>
        </p:blipFill>
        <p:spPr>
          <a:xfrm>
            <a:off x="4097160" y="2766960"/>
            <a:ext cx="3046680" cy="2816280"/>
          </a:xfrm>
          <a:prstGeom prst="rect">
            <a:avLst/>
          </a:prstGeom>
          <a:ln w="0">
            <a:noFill/>
          </a:ln>
        </p:spPr>
      </p:pic>
      <p:sp>
        <p:nvSpPr>
          <p:cNvPr id="625" name="文本框 20494"/>
          <p:cNvSpPr/>
          <p:nvPr/>
        </p:nvSpPr>
        <p:spPr>
          <a:xfrm>
            <a:off x="396720" y="63104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0:09Z</dcterms:modified>
  <cp:revision>3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