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B818-14D7-42C8-8E87-2D59078DE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B845-0604-4B81-BABE-6370DCBF0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D7D7-EEDA-467D-8037-C26577BD5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4A0F-8EE6-41AA-98DF-06FBC0797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7A16E-7216-4685-8218-6E386438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DBD6-5610-4DBC-8E08-B88A139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FC6D-6A1F-4B6E-9A6B-96A98CB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1D347-43CC-4758-B628-4875EB1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0EC43-B0F1-46D5-86E4-F353707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3CA2A-A992-46BE-A971-886E728B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3866-FAFC-4E0B-82A1-77146AA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95DB-8F8B-48E7-8770-DD4FD6EA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679F8-D6E4-4FE2-BF4A-3DB531F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A0C73-8741-4468-89A6-F9D93DD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12B0E-DF31-42A5-B9B7-BE1608C9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31A6-0C14-4386-A4AE-552A931D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5E64-947F-4E1D-9D88-18390EC6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A796E-5541-4680-861B-68BC533E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BF001-2ACC-49D7-8552-7866E2F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2B3EE-E9F5-410D-94FE-B0BCE4E9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F1A3C-147A-4975-AFEB-6EC97B9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769DB-10BE-4AF2-A6FD-18665CC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A543-2449-4695-B2D0-169E48F3F6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0C6D5-0E02-4EAF-8BA6-2B5A4676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AC054-4BDE-416F-B11B-3535CD7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F814-E5DD-461D-857E-8488288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09C6-20A7-4C3D-9601-42FF5F6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A202C-EB65-4C5E-9D6F-AEB334A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27B3F-4862-4A50-AE12-1D9B6699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D8897-FEF1-4032-A64F-9922AC3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8A5C-16BE-4F58-B491-D96F7D5D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B537-F5CF-4495-BCF3-F9754BFF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F975-7D7A-4F83-AC2B-C77875C8B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E1C9-1EBC-4B87-BCD0-CDE0DFDAF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A460-3C74-4091-8EB7-B096B298F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677A-9C49-4D88-A6FD-812523CC1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2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Picture 33" descr="nature_p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01C-71A3-4D37-834A-A531F38B87CA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8"/>
          <p:cNvSpPr/>
          <p:nvPr/>
        </p:nvSpPr>
        <p:spPr>
          <a:xfrm>
            <a:off x="35928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B9BF-9827-4397-9688-EB2D75AF6D4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FD20-05DE-4D42-9C37-B6002D7A10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893-EF2A-4909-8C04-EF66632CE6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宋体"/>
              </a:rPr>
              <a:t>Templat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634120" y="255888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bd463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523476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文本框 4101"/>
          <p:cNvSpPr/>
          <p:nvPr/>
        </p:nvSpPr>
        <p:spPr>
          <a:xfrm>
            <a:off x="2574720" y="148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树叶欧美企业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2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3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4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5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6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0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7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50000">
                  <a:srgbClr val="ffffff"/>
                </a:gs>
                <a:gs pos="100000">
                  <a:srgbClr val="9072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8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0722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9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50000">
                  <a:srgbClr val="4e3e15"/>
                </a:gs>
                <a:gs pos="100000">
                  <a:srgbClr val="9072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0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b4818"/>
                </a:gs>
                <a:gs pos="100000">
                  <a:srgbClr val="907226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1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2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3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4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6e3700"/>
                </a:gs>
                <a:gs pos="100000">
                  <a:srgbClr val="cc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5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24100"/>
                </a:gs>
                <a:gs pos="100000">
                  <a:srgbClr val="cc66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6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47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8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9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0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1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52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50000">
                  <a:srgbClr val="ffffff"/>
                </a:gs>
                <a:gs pos="100000">
                  <a:srgbClr val="ebd4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ebd463">
                    <a:alpha val="32156"/>
                  </a:srgbClr>
                </a:gs>
                <a:gs pos="100000">
                  <a:srgbClr val="6d6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4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50000">
                  <a:srgbClr val="7f7336"/>
                </a:gs>
                <a:gs pos="100000">
                  <a:srgbClr val="ebd4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5873f"/>
                </a:gs>
                <a:gs pos="100000">
                  <a:srgbClr val="ebd46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6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7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58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9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0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1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3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4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5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6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9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70" name="文本框 14378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31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74" name="Rectangle 4"/>
            <p:cNvSpPr/>
            <p:nvPr/>
          </p:nvSpPr>
          <p:spPr>
            <a:xfrm rot="13770000">
              <a:off x="4808160" y="36237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 rot="20856000">
              <a:off x="2937960" y="32238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6" name="Rectangle 6"/>
            <p:cNvSpPr/>
            <p:nvPr/>
          </p:nvSpPr>
          <p:spPr>
            <a:xfrm rot="18394200">
              <a:off x="4916520" y="2241000"/>
              <a:ext cx="531720" cy="122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77" name="Group 7"/>
            <p:cNvGrpSpPr/>
            <p:nvPr/>
          </p:nvGrpSpPr>
          <p:grpSpPr>
            <a:xfrm>
              <a:off x="3813120" y="2276640"/>
              <a:ext cx="1498680" cy="1420920"/>
              <a:chOff x="3813120" y="2276640"/>
              <a:chExt cx="1498680" cy="1420920"/>
            </a:xfrm>
          </p:grpSpPr>
          <p:grpSp>
            <p:nvGrpSpPr>
              <p:cNvPr id="378" name="Group 8"/>
              <p:cNvGrpSpPr/>
              <p:nvPr/>
            </p:nvGrpSpPr>
            <p:grpSpPr>
              <a:xfrm>
                <a:off x="3813120" y="2276640"/>
                <a:ext cx="1498680" cy="1420920"/>
                <a:chOff x="3813120" y="2276640"/>
                <a:chExt cx="1498680" cy="1420920"/>
              </a:xfrm>
            </p:grpSpPr>
            <p:sp>
              <p:nvSpPr>
                <p:cNvPr id="379" name="Oval 9"/>
                <p:cNvSpPr/>
                <p:nvPr/>
              </p:nvSpPr>
              <p:spPr>
                <a:xfrm>
                  <a:off x="3813120" y="22766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6600"/>
                    </a:gs>
                    <a:gs pos="100000">
                      <a:srgbClr val="321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0"/>
                <p:cNvSpPr/>
                <p:nvPr/>
              </p:nvSpPr>
              <p:spPr>
                <a:xfrm>
                  <a:off x="3984480" y="230004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Text Box 11"/>
              <p:cNvSpPr/>
              <p:nvPr/>
            </p:nvSpPr>
            <p:spPr>
              <a:xfrm>
                <a:off x="3845520" y="2894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2"/>
            <p:cNvGrpSpPr/>
            <p:nvPr/>
          </p:nvGrpSpPr>
          <p:grpSpPr>
            <a:xfrm>
              <a:off x="5097240" y="1447920"/>
              <a:ext cx="909360" cy="770040"/>
              <a:chOff x="5097240" y="1447920"/>
              <a:chExt cx="909360" cy="770040"/>
            </a:xfrm>
          </p:grpSpPr>
          <p:grpSp>
            <p:nvGrpSpPr>
              <p:cNvPr id="383" name="Group 13"/>
              <p:cNvGrpSpPr/>
              <p:nvPr/>
            </p:nvGrpSpPr>
            <p:grpSpPr>
              <a:xfrm>
                <a:off x="5123880" y="1447920"/>
                <a:ext cx="810720" cy="770040"/>
                <a:chOff x="5123880" y="1447920"/>
                <a:chExt cx="810720" cy="770040"/>
              </a:xfrm>
            </p:grpSpPr>
            <p:sp>
              <p:nvSpPr>
                <p:cNvPr id="384" name="Oval 14"/>
                <p:cNvSpPr/>
                <p:nvPr/>
              </p:nvSpPr>
              <p:spPr>
                <a:xfrm>
                  <a:off x="5123880" y="1447920"/>
                  <a:ext cx="81072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3934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5"/>
                <p:cNvSpPr/>
                <p:nvPr/>
              </p:nvSpPr>
              <p:spPr>
                <a:xfrm>
                  <a:off x="5216040" y="1460520"/>
                  <a:ext cx="62496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d4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Text Box 16"/>
              <p:cNvSpPr/>
              <p:nvPr/>
            </p:nvSpPr>
            <p:spPr>
              <a:xfrm>
                <a:off x="5097240" y="17452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7"/>
            <p:cNvGrpSpPr/>
            <p:nvPr/>
          </p:nvGrpSpPr>
          <p:grpSpPr>
            <a:xfrm>
              <a:off x="1752480" y="2571840"/>
              <a:ext cx="1622520" cy="1598760"/>
              <a:chOff x="1752480" y="2571840"/>
              <a:chExt cx="1622520" cy="1598760"/>
            </a:xfrm>
          </p:grpSpPr>
          <p:grpSp>
            <p:nvGrpSpPr>
              <p:cNvPr id="388" name="Group 18"/>
              <p:cNvGrpSpPr/>
              <p:nvPr/>
            </p:nvGrpSpPr>
            <p:grpSpPr>
              <a:xfrm>
                <a:off x="1752480" y="2571840"/>
                <a:ext cx="1622520" cy="1598760"/>
                <a:chOff x="1752480" y="2571840"/>
                <a:chExt cx="1622520" cy="1598760"/>
              </a:xfrm>
            </p:grpSpPr>
            <p:sp>
              <p:nvSpPr>
                <p:cNvPr id="389" name="Oval 19"/>
                <p:cNvSpPr/>
                <p:nvPr/>
              </p:nvSpPr>
              <p:spPr>
                <a:xfrm>
                  <a:off x="1752480" y="25718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9c2e"/>
                    </a:gs>
                    <a:gs pos="100000">
                      <a:srgbClr val="5163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20"/>
                <p:cNvSpPr/>
                <p:nvPr/>
              </p:nvSpPr>
              <p:spPr>
                <a:xfrm>
                  <a:off x="1937880" y="2598120"/>
                  <a:ext cx="1251720" cy="603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f9c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21"/>
              <p:cNvSpPr/>
              <p:nvPr/>
            </p:nvSpPr>
            <p:spPr>
              <a:xfrm>
                <a:off x="178560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2"/>
            <p:cNvGrpSpPr/>
            <p:nvPr/>
          </p:nvGrpSpPr>
          <p:grpSpPr>
            <a:xfrm>
              <a:off x="5060880" y="3756240"/>
              <a:ext cx="1873080" cy="1776240"/>
              <a:chOff x="5060880" y="3756240"/>
              <a:chExt cx="1873080" cy="1776240"/>
            </a:xfrm>
          </p:grpSpPr>
          <p:grpSp>
            <p:nvGrpSpPr>
              <p:cNvPr id="393" name="Group 23"/>
              <p:cNvGrpSpPr/>
              <p:nvPr/>
            </p:nvGrpSpPr>
            <p:grpSpPr>
              <a:xfrm>
                <a:off x="5060880" y="3756240"/>
                <a:ext cx="1873080" cy="1776240"/>
                <a:chOff x="5060880" y="3756240"/>
                <a:chExt cx="1873080" cy="1776240"/>
              </a:xfrm>
            </p:grpSpPr>
            <p:sp>
              <p:nvSpPr>
                <p:cNvPr id="394" name="Oval 24"/>
                <p:cNvSpPr/>
                <p:nvPr/>
              </p:nvSpPr>
              <p:spPr>
                <a:xfrm>
                  <a:off x="5060880" y="37562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a3b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5"/>
                <p:cNvSpPr/>
                <p:nvPr/>
              </p:nvSpPr>
              <p:spPr>
                <a:xfrm>
                  <a:off x="5274720" y="378684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72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26"/>
              <p:cNvSpPr/>
              <p:nvPr/>
            </p:nvSpPr>
            <p:spPr>
              <a:xfrm>
                <a:off x="5274000" y="4525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97" name="Oval 27"/>
            <p:cNvSpPr/>
            <p:nvPr/>
          </p:nvSpPr>
          <p:spPr>
            <a:xfrm>
              <a:off x="1939680" y="4229280"/>
              <a:ext cx="131940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8" name="Oval 28"/>
            <p:cNvSpPr/>
            <p:nvPr/>
          </p:nvSpPr>
          <p:spPr>
            <a:xfrm>
              <a:off x="3936960" y="3699000"/>
              <a:ext cx="1320840" cy="412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9" name="Oval 29"/>
            <p:cNvSpPr/>
            <p:nvPr/>
          </p:nvSpPr>
          <p:spPr>
            <a:xfrm>
              <a:off x="5373720" y="5532480"/>
              <a:ext cx="131904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0" name="Oval 30"/>
            <p:cNvSpPr/>
            <p:nvPr/>
          </p:nvSpPr>
          <p:spPr>
            <a:xfrm>
              <a:off x="5248080" y="2276640"/>
              <a:ext cx="60480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04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5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6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4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6e3700"/>
                </a:gs>
                <a:gs pos="100000">
                  <a:srgbClr val="cc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6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24100"/>
                </a:gs>
                <a:gs pos="100000">
                  <a:srgbClr val="cc66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28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92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437" name="AutoShape 93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8" name="AutoShape 94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9" name="AutoShape 95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0" name="AutoShape 96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1" name="AutoShape 97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2" name="AutoShape 98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43" name="Group 99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444" name="Oval 100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5" name="Oval 101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6" name="Oval 102"/>
              <p:cNvSpPr/>
              <p:nvPr/>
            </p:nvSpPr>
            <p:spPr>
              <a:xfrm>
                <a:off x="1901880" y="18374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7" name="Oval 103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8" name="Oval 104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49" name="Text Box 105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0" name="Text Box 106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51" name="Group 107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452" name="AutoShape 108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3" name="AutoShape 109"/>
            <p:cNvSpPr/>
            <p:nvPr/>
          </p:nvSpPr>
          <p:spPr>
            <a:xfrm>
              <a:off x="353880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4" name="AutoShape 110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5" name="AutoShape 111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6" name="Oval 112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7" name="Oval 113"/>
            <p:cNvSpPr/>
            <p:nvPr/>
          </p:nvSpPr>
          <p:spPr>
            <a:xfrm>
              <a:off x="4256280" y="18334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8" name="Oval 114"/>
            <p:cNvSpPr/>
            <p:nvPr/>
          </p:nvSpPr>
          <p:spPr>
            <a:xfrm>
              <a:off x="4264200" y="18367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9" name="Oval 115"/>
            <p:cNvSpPr/>
            <p:nvPr/>
          </p:nvSpPr>
          <p:spPr>
            <a:xfrm>
              <a:off x="4270320" y="18432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0" name="Oval 116"/>
            <p:cNvSpPr/>
            <p:nvPr/>
          </p:nvSpPr>
          <p:spPr>
            <a:xfrm>
              <a:off x="4305600" y="18590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1" name="Text Box 117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2" name="Text Box 118"/>
            <p:cNvSpPr/>
            <p:nvPr/>
          </p:nvSpPr>
          <p:spPr>
            <a:xfrm>
              <a:off x="358164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3" name="AutoShape 119"/>
            <p:cNvSpPr/>
            <p:nvPr/>
          </p:nvSpPr>
          <p:spPr>
            <a:xfrm>
              <a:off x="35085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4" name="AutoShape 120"/>
            <p:cNvSpPr/>
            <p:nvPr/>
          </p:nvSpPr>
          <p:spPr>
            <a:xfrm>
              <a:off x="3552840" y="50180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65" name="Group 121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466" name="AutoShape 122"/>
            <p:cNvSpPr/>
            <p:nvPr/>
          </p:nvSpPr>
          <p:spPr>
            <a:xfrm>
              <a:off x="586764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7" name="AutoShape 123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8" name="AutoShape 124"/>
            <p:cNvSpPr/>
            <p:nvPr/>
          </p:nvSpPr>
          <p:spPr>
            <a:xfrm>
              <a:off x="591840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9" name="AutoShape 125"/>
            <p:cNvSpPr/>
            <p:nvPr/>
          </p:nvSpPr>
          <p:spPr>
            <a:xfrm>
              <a:off x="591840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70" name="Group 126"/>
            <p:cNvGrpSpPr/>
            <p:nvPr/>
          </p:nvGrpSpPr>
          <p:grpSpPr>
            <a:xfrm>
              <a:off x="6612120" y="1828800"/>
              <a:ext cx="642960" cy="642960"/>
              <a:chOff x="6612120" y="1828800"/>
              <a:chExt cx="642960" cy="642960"/>
            </a:xfrm>
          </p:grpSpPr>
          <p:sp>
            <p:nvSpPr>
              <p:cNvPr id="471" name="Oval 127"/>
              <p:cNvSpPr/>
              <p:nvPr/>
            </p:nvSpPr>
            <p:spPr>
              <a:xfrm>
                <a:off x="661212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2" name="Oval 128"/>
              <p:cNvSpPr/>
              <p:nvPr/>
            </p:nvSpPr>
            <p:spPr>
              <a:xfrm>
                <a:off x="661860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3" name="Oval 129"/>
              <p:cNvSpPr/>
              <p:nvPr/>
            </p:nvSpPr>
            <p:spPr>
              <a:xfrm>
                <a:off x="6626520" y="18374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4" name="Oval 130"/>
              <p:cNvSpPr/>
              <p:nvPr/>
            </p:nvSpPr>
            <p:spPr>
              <a:xfrm>
                <a:off x="663300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5" name="Oval 131"/>
              <p:cNvSpPr/>
              <p:nvPr/>
            </p:nvSpPr>
            <p:spPr>
              <a:xfrm>
                <a:off x="666684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132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7" name="Text Box 133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8" name="AutoShape 134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9" name="AutoShape 135"/>
            <p:cNvSpPr/>
            <p:nvPr/>
          </p:nvSpPr>
          <p:spPr>
            <a:xfrm>
              <a:off x="5905440" y="50180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97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83" name="Group 3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84" name="Rectangle 4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85" name="Rectangle 5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93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87" name="Group 59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88" name="Group 60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89" name="Freeform 61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62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63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92" name="Freeform 64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65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Group 66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95" name="Oval 67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68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69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0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1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Group 72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501" name="Oval 73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74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75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76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Text Box 77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6" name="Text Box 78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94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508" name="Group 41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509" name="Group 42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510" name="Freeform 43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44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Group 45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513" name="Freeform 46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47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Group 48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516" name="Oval 49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50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51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2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20" name="Oval 53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Group 54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522" name="Oval 55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Oval 56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Oval 57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58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7" name="Text Box 80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95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29" name="Group 6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30" name="Group 7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31" name="Freeform 8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9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0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34" name="Freeform 11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12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7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39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40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43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48" name="Text Box 82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96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50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51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52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55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Oval 31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8" name="Oval 32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9" name="Oval 33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0" name="Oval 34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1" name="Oval 35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62" name="Group 36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63" name="Oval 37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3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5" name="Oval 39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6" name="Oval 40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8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85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70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1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2" name="Text Box 88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3" name="Text Box 89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cxnSp>
            <p:nvCxnSpPr>
              <p:cNvPr id="574" name="AutoShape 90"/>
              <p:cNvCxnSpPr>
                <a:stCxn id="570" idx="3"/>
                <a:endCxn id="571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  <p:cxnSp>
            <p:nvCxnSpPr>
              <p:cNvPr id="575" name="AutoShape 91"/>
              <p:cNvCxnSpPr>
                <a:stCxn id="571" idx="3"/>
                <a:endCxn id="572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  <p:cxnSp>
            <p:nvCxnSpPr>
              <p:cNvPr id="576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80" name="Group 4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1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82" name="Group 6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83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a4944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8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bd463">
                        <a:alpha val="0"/>
                      </a:srgbClr>
                    </a:gs>
                    <a:gs pos="50000">
                      <a:srgbClr val="f4e8aa"/>
                    </a:gs>
                    <a:gs pos="100000">
                      <a:srgbClr val="ebd46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85" name="Text Box 9"/>
                <p:cNvSpPr/>
                <p:nvPr/>
              </p:nvSpPr>
              <p:spPr>
                <a:xfrm>
                  <a:off x="191484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11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88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89" name="Group 13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90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e9962"/>
                    </a:gs>
                    <a:gs pos="100000">
                      <a:srgbClr val="907226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5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0c3a3"/>
                    </a:gs>
                    <a:gs pos="100000">
                      <a:srgbClr val="90722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16"/>
                <p:cNvSpPr/>
                <p:nvPr/>
              </p:nvSpPr>
              <p:spPr>
                <a:xfrm>
                  <a:off x="1914840" y="33858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Text Box 17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18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5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96" name="Group 20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97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f9e5d"/>
                    </a:gs>
                    <a:gs pos="100000">
                      <a:srgbClr val="cc66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22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b583"/>
                    </a:gs>
                    <a:gs pos="100000">
                      <a:srgbClr val="cc66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07" name="Group 7"/>
          <p:cNvGrpSpPr/>
          <p:nvPr/>
        </p:nvGrpSpPr>
        <p:grpSpPr>
          <a:xfrm>
            <a:off x="1127880" y="1863720"/>
            <a:ext cx="6214680" cy="1324080"/>
            <a:chOff x="1127880" y="1863720"/>
            <a:chExt cx="6214680" cy="1324080"/>
          </a:xfrm>
        </p:grpSpPr>
        <p:sp>
          <p:nvSpPr>
            <p:cNvPr id="608" name="Rectangle 8"/>
            <p:cNvSpPr/>
            <p:nvPr/>
          </p:nvSpPr>
          <p:spPr>
            <a:xfrm rot="3418800">
              <a:off x="1335960" y="2071440"/>
              <a:ext cx="873000" cy="970920"/>
            </a:xfrm>
            <a:prstGeom prst="rect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09" name="Group 9"/>
            <p:cNvGrpSpPr/>
            <p:nvPr/>
          </p:nvGrpSpPr>
          <p:grpSpPr>
            <a:xfrm>
              <a:off x="2258280" y="2245680"/>
              <a:ext cx="901080" cy="124200"/>
              <a:chOff x="2258280" y="2245680"/>
              <a:chExt cx="901080" cy="124200"/>
            </a:xfrm>
          </p:grpSpPr>
          <p:sp>
            <p:nvSpPr>
              <p:cNvPr id="610" name="Oval 10"/>
              <p:cNvSpPr/>
              <p:nvPr/>
            </p:nvSpPr>
            <p:spPr>
              <a:xfrm>
                <a:off x="225828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1" name="Rectangle 11"/>
              <p:cNvSpPr/>
              <p:nvPr/>
            </p:nvSpPr>
            <p:spPr>
              <a:xfrm>
                <a:off x="234468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2" name="Oval 12"/>
              <p:cNvSpPr/>
              <p:nvPr/>
            </p:nvSpPr>
            <p:spPr>
              <a:xfrm>
                <a:off x="302292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3" name="Oval 13"/>
              <p:cNvSpPr/>
              <p:nvPr/>
            </p:nvSpPr>
            <p:spPr>
              <a:xfrm>
                <a:off x="309600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14" name="Rectangle 14"/>
            <p:cNvSpPr/>
            <p:nvPr/>
          </p:nvSpPr>
          <p:spPr>
            <a:xfrm rot="3418800">
              <a:off x="3000600" y="2009160"/>
              <a:ext cx="873000" cy="970920"/>
            </a:xfrm>
            <a:prstGeom prst="rect">
              <a:avLst/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922920" y="2245680"/>
              <a:ext cx="901080" cy="124200"/>
              <a:chOff x="3922920" y="2245680"/>
              <a:chExt cx="901080" cy="124200"/>
            </a:xfrm>
          </p:grpSpPr>
          <p:sp>
            <p:nvSpPr>
              <p:cNvPr id="616" name="Oval 16"/>
              <p:cNvSpPr/>
              <p:nvPr/>
            </p:nvSpPr>
            <p:spPr>
              <a:xfrm>
                <a:off x="392292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7" name="Rectangle 17"/>
              <p:cNvSpPr/>
              <p:nvPr/>
            </p:nvSpPr>
            <p:spPr>
              <a:xfrm>
                <a:off x="400932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8" name="Oval 18"/>
              <p:cNvSpPr/>
              <p:nvPr/>
            </p:nvSpPr>
            <p:spPr>
              <a:xfrm>
                <a:off x="468756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9" name="Oval 19"/>
              <p:cNvSpPr/>
              <p:nvPr/>
            </p:nvSpPr>
            <p:spPr>
              <a:xfrm>
                <a:off x="476064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20" name="Rectangle 20"/>
            <p:cNvSpPr/>
            <p:nvPr/>
          </p:nvSpPr>
          <p:spPr>
            <a:xfrm rot="3418800">
              <a:off x="4592520" y="2009160"/>
              <a:ext cx="873000" cy="969120"/>
            </a:xfrm>
            <a:prstGeom prst="rect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21" name="Group 21"/>
            <p:cNvGrpSpPr/>
            <p:nvPr/>
          </p:nvGrpSpPr>
          <p:grpSpPr>
            <a:xfrm>
              <a:off x="5587560" y="2245680"/>
              <a:ext cx="1178640" cy="124200"/>
              <a:chOff x="5587560" y="2245680"/>
              <a:chExt cx="1178640" cy="124200"/>
            </a:xfrm>
          </p:grpSpPr>
          <p:sp>
            <p:nvSpPr>
              <p:cNvPr id="622" name="Oval 22"/>
              <p:cNvSpPr/>
              <p:nvPr/>
            </p:nvSpPr>
            <p:spPr>
              <a:xfrm>
                <a:off x="5587560" y="2245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3" name="Rectangle 23"/>
              <p:cNvSpPr/>
              <p:nvPr/>
            </p:nvSpPr>
            <p:spPr>
              <a:xfrm>
                <a:off x="5700600" y="2246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4" name="Oval 24"/>
              <p:cNvSpPr/>
              <p:nvPr/>
            </p:nvSpPr>
            <p:spPr>
              <a:xfrm>
                <a:off x="6587640" y="22471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5" name="Oval 25"/>
              <p:cNvSpPr/>
              <p:nvPr/>
            </p:nvSpPr>
            <p:spPr>
              <a:xfrm>
                <a:off x="6683040" y="22870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26" name="Rectangle 26"/>
            <p:cNvSpPr/>
            <p:nvPr/>
          </p:nvSpPr>
          <p:spPr>
            <a:xfrm rot="3418800">
              <a:off x="6261120" y="2009160"/>
              <a:ext cx="873000" cy="971280"/>
            </a:xfrm>
            <a:prstGeom prst="rect">
              <a:avLst/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2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052640" y="2459160"/>
          <a:ext cx="7043760" cy="2901960"/>
        </p:xfrm>
        <a:graphic>
          <a:graphicData uri="http://schemas.openxmlformats.org/drawingml/2006/table">
            <a:tbl>
              <a:tblPr/>
              <a:tblGrid>
                <a:gridCol w="1589040"/>
                <a:gridCol w="1092240"/>
                <a:gridCol w="1103400"/>
                <a:gridCol w="1082520"/>
                <a:gridCol w="1092240"/>
                <a:gridCol w="10843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41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31313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2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3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4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07226"/>
                </a:gs>
                <a:gs pos="100000">
                  <a:srgbClr val="b5a16e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5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6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41e1e"/>
                </a:gs>
                <a:gs pos="100000">
                  <a:srgbClr val="2c101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7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f9c2e"/>
                </a:gs>
                <a:gs pos="100000">
                  <a:srgbClr val="455519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8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9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52" name="Group 15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53" name="Freeform 16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c3e00"/>
                  </a:gs>
                  <a:gs pos="100000">
                    <a:srgbClr val="cc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4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5" name="Freeform 18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6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8" name="Freeform 21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9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60" name="文本框 22551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Group 3"/>
          <p:cNvGrpSpPr/>
          <p:nvPr/>
        </p:nvGrpSpPr>
        <p:grpSpPr>
          <a:xfrm>
            <a:off x="1219320" y="1600200"/>
            <a:ext cx="6781320" cy="4266360"/>
            <a:chOff x="1219320" y="1600200"/>
            <a:chExt cx="6781320" cy="4266360"/>
          </a:xfrm>
        </p:grpSpPr>
        <p:sp>
          <p:nvSpPr>
            <p:cNvPr id="664" name="AutoShape 4"/>
            <p:cNvSpPr/>
            <p:nvPr/>
          </p:nvSpPr>
          <p:spPr>
            <a:xfrm>
              <a:off x="2129400" y="2288520"/>
              <a:ext cx="5072760" cy="247608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65" name="AutoShape 5"/>
            <p:cNvSpPr/>
            <p:nvPr/>
          </p:nvSpPr>
          <p:spPr>
            <a:xfrm>
              <a:off x="1918440" y="160020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a473"/>
                </a:gs>
                <a:gs pos="50000">
                  <a:srgbClr val="907226"/>
                </a:gs>
                <a:gs pos="100000">
                  <a:srgbClr val="b8a47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66" name="Text Box 6"/>
            <p:cNvSpPr/>
            <p:nvPr/>
          </p:nvSpPr>
          <p:spPr>
            <a:xfrm>
              <a:off x="366192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67" name="Group 7"/>
            <p:cNvGrpSpPr/>
            <p:nvPr/>
          </p:nvGrpSpPr>
          <p:grpSpPr>
            <a:xfrm>
              <a:off x="1219320" y="3980160"/>
              <a:ext cx="1363320" cy="1796400"/>
              <a:chOff x="1219320" y="3980160"/>
              <a:chExt cx="1363320" cy="1796400"/>
            </a:xfrm>
          </p:grpSpPr>
          <p:grpSp>
            <p:nvGrpSpPr>
              <p:cNvPr id="668" name="Group 8"/>
              <p:cNvGrpSpPr/>
              <p:nvPr/>
            </p:nvGrpSpPr>
            <p:grpSpPr>
              <a:xfrm>
                <a:off x="1219320" y="3980160"/>
                <a:ext cx="1363320" cy="1368000"/>
                <a:chOff x="1219320" y="3980160"/>
                <a:chExt cx="1363320" cy="1368000"/>
              </a:xfrm>
            </p:grpSpPr>
            <p:grpSp>
              <p:nvGrpSpPr>
                <p:cNvPr id="669" name="Group 9"/>
                <p:cNvGrpSpPr/>
                <p:nvPr/>
              </p:nvGrpSpPr>
              <p:grpSpPr>
                <a:xfrm>
                  <a:off x="1219320" y="3980160"/>
                  <a:ext cx="1363320" cy="1368000"/>
                  <a:chOff x="1219320" y="3980160"/>
                  <a:chExt cx="1363320" cy="1368000"/>
                </a:xfrm>
              </p:grpSpPr>
              <p:sp>
                <p:nvSpPr>
                  <p:cNvPr id="670" name="Oval 10"/>
                  <p:cNvSpPr/>
                  <p:nvPr/>
                </p:nvSpPr>
                <p:spPr>
                  <a:xfrm>
                    <a:off x="121932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f9c2e"/>
                      </a:gs>
                      <a:gs pos="100000">
                        <a:srgbClr val="5163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Freeform 11"/>
                  <p:cNvSpPr/>
                  <p:nvPr/>
                </p:nvSpPr>
                <p:spPr>
                  <a:xfrm>
                    <a:off x="1375200" y="4003560"/>
                    <a:ext cx="1051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f9c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2"/>
                <p:cNvSpPr/>
                <p:nvPr/>
              </p:nvSpPr>
              <p:spPr>
                <a:xfrm>
                  <a:off x="1316880" y="46746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Oval 13"/>
              <p:cNvSpPr/>
              <p:nvPr/>
            </p:nvSpPr>
            <p:spPr>
              <a:xfrm>
                <a:off x="1359000" y="542556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4"/>
            <p:cNvGrpSpPr/>
            <p:nvPr/>
          </p:nvGrpSpPr>
          <p:grpSpPr>
            <a:xfrm>
              <a:off x="6602400" y="3940200"/>
              <a:ext cx="1398240" cy="1866240"/>
              <a:chOff x="6602400" y="3940200"/>
              <a:chExt cx="1398240" cy="1866240"/>
            </a:xfrm>
          </p:grpSpPr>
          <p:grpSp>
            <p:nvGrpSpPr>
              <p:cNvPr id="675" name="Group 15"/>
              <p:cNvGrpSpPr/>
              <p:nvPr/>
            </p:nvGrpSpPr>
            <p:grpSpPr>
              <a:xfrm>
                <a:off x="6602400" y="3940200"/>
                <a:ext cx="1398240" cy="1383120"/>
                <a:chOff x="6602400" y="3940200"/>
                <a:chExt cx="1398240" cy="1383120"/>
              </a:xfrm>
            </p:grpSpPr>
            <p:grpSp>
              <p:nvGrpSpPr>
                <p:cNvPr id="676" name="Group 16"/>
                <p:cNvGrpSpPr/>
                <p:nvPr/>
              </p:nvGrpSpPr>
              <p:grpSpPr>
                <a:xfrm>
                  <a:off x="6602400" y="3940200"/>
                  <a:ext cx="1398240" cy="1383120"/>
                  <a:chOff x="6602400" y="3940200"/>
                  <a:chExt cx="1398240" cy="1383120"/>
                </a:xfrm>
              </p:grpSpPr>
              <p:sp>
                <p:nvSpPr>
                  <p:cNvPr id="677" name="Oval 17"/>
                  <p:cNvSpPr/>
                  <p:nvPr/>
                </p:nvSpPr>
                <p:spPr>
                  <a:xfrm>
                    <a:off x="660240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321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Freeform 18"/>
                  <p:cNvSpPr/>
                  <p:nvPr/>
                </p:nvSpPr>
                <p:spPr>
                  <a:xfrm>
                    <a:off x="6762240" y="3962880"/>
                    <a:ext cx="1078560" cy="5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Text Box 19"/>
                <p:cNvSpPr/>
                <p:nvPr/>
              </p:nvSpPr>
              <p:spPr>
                <a:xfrm>
                  <a:off x="6683040" y="45849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Oval 20"/>
              <p:cNvSpPr/>
              <p:nvPr/>
            </p:nvSpPr>
            <p:spPr>
              <a:xfrm>
                <a:off x="664164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21"/>
            <p:cNvGrpSpPr/>
            <p:nvPr/>
          </p:nvGrpSpPr>
          <p:grpSpPr>
            <a:xfrm>
              <a:off x="2967120" y="3980160"/>
              <a:ext cx="1397880" cy="1886400"/>
              <a:chOff x="2967120" y="3980160"/>
              <a:chExt cx="1397880" cy="1886400"/>
            </a:xfrm>
          </p:grpSpPr>
          <p:grpSp>
            <p:nvGrpSpPr>
              <p:cNvPr id="682" name="Group 22"/>
              <p:cNvGrpSpPr/>
              <p:nvPr/>
            </p:nvGrpSpPr>
            <p:grpSpPr>
              <a:xfrm>
                <a:off x="2967120" y="3980160"/>
                <a:ext cx="1397880" cy="1373400"/>
                <a:chOff x="2967120" y="3980160"/>
                <a:chExt cx="1397880" cy="1373400"/>
              </a:xfrm>
            </p:grpSpPr>
            <p:sp>
              <p:nvSpPr>
                <p:cNvPr id="683" name="Oval 23"/>
                <p:cNvSpPr/>
                <p:nvPr/>
              </p:nvSpPr>
              <p:spPr>
                <a:xfrm>
                  <a:off x="296712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a3b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4"/>
                <p:cNvSpPr/>
                <p:nvPr/>
              </p:nvSpPr>
              <p:spPr>
                <a:xfrm>
                  <a:off x="3127680" y="400212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72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Text Box 25"/>
              <p:cNvSpPr/>
              <p:nvPr/>
            </p:nvSpPr>
            <p:spPr>
              <a:xfrm>
                <a:off x="303696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86" name="Oval 26"/>
              <p:cNvSpPr/>
              <p:nvPr/>
            </p:nvSpPr>
            <p:spPr>
              <a:xfrm>
                <a:off x="2967120" y="542520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27"/>
            <p:cNvGrpSpPr/>
            <p:nvPr/>
          </p:nvGrpSpPr>
          <p:grpSpPr>
            <a:xfrm>
              <a:off x="4854600" y="3940200"/>
              <a:ext cx="1397880" cy="1886400"/>
              <a:chOff x="4854600" y="3940200"/>
              <a:chExt cx="1397880" cy="1886400"/>
            </a:xfrm>
          </p:grpSpPr>
          <p:grpSp>
            <p:nvGrpSpPr>
              <p:cNvPr id="688" name="Group 28"/>
              <p:cNvGrpSpPr/>
              <p:nvPr/>
            </p:nvGrpSpPr>
            <p:grpSpPr>
              <a:xfrm>
                <a:off x="4854600" y="3940200"/>
                <a:ext cx="1397880" cy="1372320"/>
                <a:chOff x="4854600" y="3940200"/>
                <a:chExt cx="1397880" cy="1372320"/>
              </a:xfrm>
            </p:grpSpPr>
            <p:sp>
              <p:nvSpPr>
                <p:cNvPr id="689" name="Oval 29"/>
                <p:cNvSpPr/>
                <p:nvPr/>
              </p:nvSpPr>
              <p:spPr>
                <a:xfrm>
                  <a:off x="4854600" y="394020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796d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30"/>
                <p:cNvSpPr/>
                <p:nvPr/>
              </p:nvSpPr>
              <p:spPr>
                <a:xfrm>
                  <a:off x="5014440" y="396216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d4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31"/>
              <p:cNvSpPr/>
              <p:nvPr/>
            </p:nvSpPr>
            <p:spPr>
              <a:xfrm>
                <a:off x="4924440" y="46004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92" name="Oval 32"/>
              <p:cNvSpPr/>
              <p:nvPr/>
            </p:nvSpPr>
            <p:spPr>
              <a:xfrm>
                <a:off x="4854600" y="538524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89"/>
          <p:cNvGrpSpPr/>
          <p:nvPr/>
        </p:nvGrpSpPr>
        <p:grpSpPr>
          <a:xfrm>
            <a:off x="1710720" y="1960200"/>
            <a:ext cx="5452200" cy="1089360"/>
            <a:chOff x="1710720" y="1960200"/>
            <a:chExt cx="5452200" cy="1089360"/>
          </a:xfrm>
        </p:grpSpPr>
        <p:sp>
          <p:nvSpPr>
            <p:cNvPr id="133" name="Oval 34"/>
            <p:cNvSpPr/>
            <p:nvPr/>
          </p:nvSpPr>
          <p:spPr>
            <a:xfrm rot="1758000">
              <a:off x="1854360" y="21589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34" name="Group 81"/>
            <p:cNvGrpSpPr/>
            <p:nvPr/>
          </p:nvGrpSpPr>
          <p:grpSpPr>
            <a:xfrm>
              <a:off x="1710720" y="1960200"/>
              <a:ext cx="5452200" cy="1064160"/>
              <a:chOff x="1710720" y="1960200"/>
              <a:chExt cx="5452200" cy="1064160"/>
            </a:xfrm>
          </p:grpSpPr>
          <p:sp>
            <p:nvSpPr>
              <p:cNvPr id="135" name="AutoShape 32"/>
              <p:cNvSpPr/>
              <p:nvPr/>
            </p:nvSpPr>
            <p:spPr>
              <a:xfrm>
                <a:off x="2193840" y="21888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541e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Oval 35"/>
              <p:cNvSpPr/>
              <p:nvPr/>
            </p:nvSpPr>
            <p:spPr>
              <a:xfrm rot="1758000">
                <a:off x="1828800" y="21337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ebd463"/>
                  </a:gs>
                  <a:gs pos="100000">
                    <a:srgbClr val="6d622e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Text Box 37"/>
              <p:cNvSpPr/>
              <p:nvPr/>
            </p:nvSpPr>
            <p:spPr>
              <a:xfrm>
                <a:off x="2730600" y="23079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Text Box 38"/>
              <p:cNvSpPr/>
              <p:nvPr/>
            </p:nvSpPr>
            <p:spPr>
              <a:xfrm>
                <a:off x="2058840" y="21888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39" name="Picture 85" descr="Picture1"/>
            <p:cNvPicPr/>
            <p:nvPr/>
          </p:nvPicPr>
          <p:blipFill>
            <a:blip r:embed="rId1"/>
            <a:stretch/>
          </p:blipFill>
          <p:spPr>
            <a:xfrm>
              <a:off x="1905120" y="22046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0"/>
          <p:cNvGrpSpPr/>
          <p:nvPr/>
        </p:nvGrpSpPr>
        <p:grpSpPr>
          <a:xfrm>
            <a:off x="1710720" y="2874600"/>
            <a:ext cx="5452200" cy="1089360"/>
            <a:chOff x="1710720" y="2874600"/>
            <a:chExt cx="5452200" cy="1089360"/>
          </a:xfrm>
        </p:grpSpPr>
        <p:sp>
          <p:nvSpPr>
            <p:cNvPr id="141" name="Oval 43"/>
            <p:cNvSpPr/>
            <p:nvPr/>
          </p:nvSpPr>
          <p:spPr>
            <a:xfrm rot="1758000">
              <a:off x="1828800" y="30481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42" name="Group 82"/>
            <p:cNvGrpSpPr/>
            <p:nvPr/>
          </p:nvGrpSpPr>
          <p:grpSpPr>
            <a:xfrm>
              <a:off x="1736280" y="2899800"/>
              <a:ext cx="5426640" cy="1064160"/>
              <a:chOff x="1736280" y="2899800"/>
              <a:chExt cx="5426640" cy="1064160"/>
            </a:xfrm>
          </p:grpSpPr>
          <p:sp>
            <p:nvSpPr>
              <p:cNvPr id="143" name="AutoShape 40"/>
              <p:cNvSpPr/>
              <p:nvPr/>
            </p:nvSpPr>
            <p:spPr>
              <a:xfrm>
                <a:off x="2194200" y="3103200"/>
                <a:ext cx="4968720" cy="66780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9072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Oval 42"/>
              <p:cNvSpPr/>
              <p:nvPr/>
            </p:nvSpPr>
            <p:spPr>
              <a:xfrm rot="1758000">
                <a:off x="1854360" y="30733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Text Box 45"/>
              <p:cNvSpPr/>
              <p:nvPr/>
            </p:nvSpPr>
            <p:spPr>
              <a:xfrm>
                <a:off x="2730960" y="32223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Text Box 46"/>
              <p:cNvSpPr/>
              <p:nvPr/>
            </p:nvSpPr>
            <p:spPr>
              <a:xfrm>
                <a:off x="2058840" y="31032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47" name="Picture 86" descr="Picture1"/>
            <p:cNvPicPr/>
            <p:nvPr/>
          </p:nvPicPr>
          <p:blipFill>
            <a:blip r:embed="rId2"/>
            <a:stretch/>
          </p:blipFill>
          <p:spPr>
            <a:xfrm>
              <a:off x="1905120" y="310320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91"/>
          <p:cNvGrpSpPr/>
          <p:nvPr/>
        </p:nvGrpSpPr>
        <p:grpSpPr>
          <a:xfrm>
            <a:off x="1710720" y="3789000"/>
            <a:ext cx="5452200" cy="1089360"/>
            <a:chOff x="1710720" y="3789000"/>
            <a:chExt cx="5452200" cy="1089360"/>
          </a:xfrm>
        </p:grpSpPr>
        <p:grpSp>
          <p:nvGrpSpPr>
            <p:cNvPr id="149" name="Group 83"/>
            <p:cNvGrpSpPr/>
            <p:nvPr/>
          </p:nvGrpSpPr>
          <p:grpSpPr>
            <a:xfrm>
              <a:off x="1710720" y="3789000"/>
              <a:ext cx="5452200" cy="1089360"/>
              <a:chOff x="1710720" y="3789000"/>
              <a:chExt cx="5452200" cy="1089360"/>
            </a:xfrm>
          </p:grpSpPr>
          <p:sp>
            <p:nvSpPr>
              <p:cNvPr id="150" name="AutoShape 48"/>
              <p:cNvSpPr/>
              <p:nvPr/>
            </p:nvSpPr>
            <p:spPr>
              <a:xfrm>
                <a:off x="2193840" y="40176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7f9c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Oval 50"/>
              <p:cNvSpPr/>
              <p:nvPr/>
            </p:nvSpPr>
            <p:spPr>
              <a:xfrm rot="1758000">
                <a:off x="1854360" y="39877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Oval 51"/>
              <p:cNvSpPr/>
              <p:nvPr/>
            </p:nvSpPr>
            <p:spPr>
              <a:xfrm rot="1758000">
                <a:off x="1828800" y="39625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7f9c2e"/>
                  </a:gs>
                  <a:gs pos="100000">
                    <a:srgbClr val="3b4815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Text Box 53"/>
              <p:cNvSpPr/>
              <p:nvPr/>
            </p:nvSpPr>
            <p:spPr>
              <a:xfrm>
                <a:off x="2730600" y="41367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4" name="Text Box 54"/>
              <p:cNvSpPr/>
              <p:nvPr/>
            </p:nvSpPr>
            <p:spPr>
              <a:xfrm>
                <a:off x="2058840" y="4017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87" descr="Picture1"/>
            <p:cNvPicPr/>
            <p:nvPr/>
          </p:nvPicPr>
          <p:blipFill>
            <a:blip r:embed="rId3"/>
            <a:stretch/>
          </p:blipFill>
          <p:spPr>
            <a:xfrm>
              <a:off x="1905120" y="401760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92"/>
          <p:cNvGrpSpPr/>
          <p:nvPr/>
        </p:nvGrpSpPr>
        <p:grpSpPr>
          <a:xfrm>
            <a:off x="1710720" y="4703400"/>
            <a:ext cx="5452200" cy="1089360"/>
            <a:chOff x="1710720" y="4703400"/>
            <a:chExt cx="5452200" cy="1089360"/>
          </a:xfrm>
        </p:grpSpPr>
        <p:grpSp>
          <p:nvGrpSpPr>
            <p:cNvPr id="157" name="Group 84"/>
            <p:cNvGrpSpPr/>
            <p:nvPr/>
          </p:nvGrpSpPr>
          <p:grpSpPr>
            <a:xfrm>
              <a:off x="1710720" y="4703400"/>
              <a:ext cx="5452200" cy="1089360"/>
              <a:chOff x="1710720" y="4703400"/>
              <a:chExt cx="5452200" cy="1089360"/>
            </a:xfrm>
          </p:grpSpPr>
          <p:sp>
            <p:nvSpPr>
              <p:cNvPr id="158" name="AutoShape 56"/>
              <p:cNvSpPr/>
              <p:nvPr/>
            </p:nvSpPr>
            <p:spPr>
              <a:xfrm>
                <a:off x="2193840" y="49320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Oval 58"/>
              <p:cNvSpPr/>
              <p:nvPr/>
            </p:nvSpPr>
            <p:spPr>
              <a:xfrm rot="1758000">
                <a:off x="1854360" y="49021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0" name="Oval 59"/>
              <p:cNvSpPr/>
              <p:nvPr/>
            </p:nvSpPr>
            <p:spPr>
              <a:xfrm rot="1758000">
                <a:off x="1828800" y="48769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1" name="Text Box 61"/>
              <p:cNvSpPr/>
              <p:nvPr/>
            </p:nvSpPr>
            <p:spPr>
              <a:xfrm>
                <a:off x="2730600" y="50511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2" name="Text Box 62"/>
              <p:cNvSpPr/>
              <p:nvPr/>
            </p:nvSpPr>
            <p:spPr>
              <a:xfrm>
                <a:off x="2058840" y="495288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88" descr="Picture1"/>
            <p:cNvPicPr/>
            <p:nvPr/>
          </p:nvPicPr>
          <p:blipFill>
            <a:blip r:embed="rId4"/>
            <a:stretch/>
          </p:blipFill>
          <p:spPr>
            <a:xfrm>
              <a:off x="1905120" y="49478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4AE2-8A36-4435-9003-93E06ACDD1C7}" type="slidenum">
              <a:rPr b="0" lang="zh-CN" sz="1400" spc="-1" strike="noStrike">
                <a:solidFill>
                  <a:srgbClr val="0033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WordArt 2"/>
          <p:cNvSpPr txBox="1"/>
          <p:nvPr/>
        </p:nvSpPr>
        <p:spPr>
          <a:xfrm>
            <a:off x="2057400" y="281952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541e1e"/>
                    </a:gs>
                    <a:gs pos="100000">
                      <a:srgbClr val="ebd46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541e1e"/>
                  </a:gs>
                  <a:gs pos="100000">
                    <a:srgbClr val="ebd463"/>
                  </a:gs>
                </a:gsLst>
                <a:lin ang="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371240" y="523476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4640" y="1734840"/>
            <a:ext cx="754092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541e1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541e1e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541e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0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2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f9c2e"/>
              </a:gs>
              <a:gs pos="100000">
                <a:srgbClr val="aec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5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6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7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6371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19f"/>
                    </a:gs>
                    <a:gs pos="100000">
                      <a:srgbClr val="90722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622e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bd463">
                      <a:alpha val="0"/>
                    </a:srgbClr>
                  </a:gs>
                  <a:gs pos="100000">
                    <a:srgbClr val="f8f0c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aa84e"/>
                  </a:gs>
                  <a:gs pos="100000">
                    <a:srgbClr val="ebd463">
                      <a:alpha val="48235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2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d463">
                      <a:alpha val="38039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5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07226"/>
              </a:gs>
              <a:gs pos="100000">
                <a:srgbClr val="dcd2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文本框 8214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9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3227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100000">
                  <a:srgbClr val="4a43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2d38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462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5" name="Line 16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cxnSp>
          <p:nvCxnSpPr>
            <p:cNvPr id="207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00"/>
              </a:solidFill>
              <a:round/>
            </a:ln>
          </p:spPr>
        </p:cxnSp>
        <p:sp>
          <p:nvSpPr>
            <p:cNvPr id="20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2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07226"/>
                </a:gs>
                <a:gs pos="50000">
                  <a:srgbClr val="433512"/>
                </a:gs>
                <a:gs pos="100000">
                  <a:srgbClr val="9072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9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3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34" name="AutoShape 5"/>
              <p:cNvSpPr/>
              <p:nvPr/>
            </p:nvSpPr>
            <p:spPr>
              <a:xfrm flipH="1" rot="16200000">
                <a:off x="2927160" y="3258720"/>
                <a:ext cx="4604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5" name="AutoShape 6"/>
              <p:cNvSpPr/>
              <p:nvPr/>
            </p:nvSpPr>
            <p:spPr>
              <a:xfrm flipH="1" rot="5400000">
                <a:off x="5530680" y="320580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6" name="AutoShape 7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9" name="Oval 10"/>
              <p:cNvSpPr/>
              <p:nvPr/>
            </p:nvSpPr>
            <p:spPr>
              <a:xfrm>
                <a:off x="3560760" y="2471040"/>
                <a:ext cx="1816920" cy="1878480"/>
              </a:xfrm>
              <a:prstGeom prst="ellipse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ffffff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0" name="Oval 11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1" name="Oval 12"/>
              <p:cNvSpPr/>
              <p:nvPr/>
            </p:nvSpPr>
            <p:spPr>
              <a:xfrm>
                <a:off x="3679200" y="2595960"/>
                <a:ext cx="1578960" cy="1631520"/>
              </a:xfrm>
              <a:prstGeom prst="ellipse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4e3e15"/>
                  </a:gs>
                  <a:gs pos="100000">
                    <a:srgbClr val="90722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2" name="Oval 13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4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4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5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6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60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61" name="Line 3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64" name="Line 4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7" name="Line 5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70" name="Line 6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73" name="Line 7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76" name="Line 8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9" name="Line 9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82" name="Line 10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85" name="Line 11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91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92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9c2e"/>
                  </a:gs>
                  <a:gs pos="50000">
                    <a:srgbClr val="3b4815"/>
                  </a:gs>
                  <a:gs pos="100000">
                    <a:srgbClr val="7f9c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3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f9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4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226"/>
                  </a:gs>
                  <a:gs pos="50000">
                    <a:srgbClr val="433512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5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07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5e2f00"/>
                  </a:gs>
                  <a:gs pos="100000">
                    <a:srgbClr val="cc66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d463"/>
                  </a:gs>
                  <a:gs pos="50000">
                    <a:srgbClr val="6d622e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bd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f9c2e"/>
                  </a:gs>
                  <a:gs pos="50000">
                    <a:srgbClr val="5c7121"/>
                  </a:gs>
                  <a:gs pos="100000">
                    <a:srgbClr val="7f9c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68531c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44a00"/>
                  </a:gs>
                  <a:gs pos="100000">
                    <a:srgbClr val="cc66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ebd463"/>
                  </a:gs>
                  <a:gs pos="50000">
                    <a:srgbClr val="aa9a48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08" name="Freeform 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a7f3a">
                    <a:alpha val="32156"/>
                  </a:srgbClr>
                </a:gs>
                <a:gs pos="100000">
                  <a:srgbClr val="9072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9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f9c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4815"/>
                </a:gs>
                <a:gs pos="50000">
                  <a:srgbClr val="7f9c2e"/>
                </a:gs>
                <a:gs pos="100000">
                  <a:srgbClr val="3b48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72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4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3512"/>
                </a:gs>
                <a:gs pos="50000">
                  <a:srgbClr val="907226"/>
                </a:gs>
                <a:gs pos="100000">
                  <a:srgbClr val="4335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5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6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e2a76c">
                    <a:alpha val="32156"/>
                  </a:srgbClr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20" name="Group 16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321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2800"/>
                  </a:gs>
                  <a:gs pos="50000">
                    <a:srgbClr val="cc6600"/>
                  </a:gs>
                  <a:gs pos="100000">
                    <a:srgbClr val="4f2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6" name="Text Box 22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8" name="Text Box 24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0:48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