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64B-885B-4F63-B00F-6DF27BEB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4BA-98A2-4038-AAC4-CAB79E28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CE2-87C6-41A8-B4C2-4091CC3C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06B-B90E-4BF1-8B97-C1E1EF23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90D-00F5-4E77-9482-EAB95746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A2E-B86D-40DC-ACC6-544102E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6AE-9347-48C0-889E-B6E65DD3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D70-7AB3-40BF-AD58-49C46E88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87A-55EC-4375-AF93-C28E0A54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F54B-85EC-48AD-9212-A76DA1A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BB29-C39A-4647-913F-F89DF27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360-039E-4C23-BC7F-ED16BFB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6710-F075-47A0-8408-45B7B46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4FA-9CFB-4E48-8733-B4B7BFC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ADBF-D72B-4EFE-98F3-146BDE0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A85-E4D1-4308-8CC0-946F361D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A11B-B62F-4CFE-AADE-243C4953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5795-7A2B-48E7-BE59-66CD4D6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0081-19E1-4255-9574-EEFB3FA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5DAF-9913-48C0-BD41-D94CC83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44D4-4DB8-437B-9A25-A8EEA254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7319-05F6-4490-A813-20D4EB09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84-2D91-40C4-876A-830DC25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1AD3-6C52-4CDA-BA81-BF15D1F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8FE1-BBDA-47A7-AE1E-780BE8B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054E-E6BD-42AA-BD34-A79900A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9CBC-6331-4EF8-8842-E22F99A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C8A1-B1A3-4552-9C90-6943C08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5C16-F12B-4248-AF18-90F7C903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116A-D2F7-44BA-9A8C-BC951C87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D716-9406-41C1-806A-968E79EE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0963-BEC1-4795-8BDD-B6D476B8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877B-FFB6-4138-86BB-79645126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C29-9C31-43A8-8568-B882728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5FCB-5E8D-479D-A58D-9BAB29F9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1664-879C-46A9-B89D-3672E431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B422-E36F-4827-B532-59CDAFB9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B72B-F8DE-4B56-96CB-D84B0591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C4F0-B6B3-43C1-A40A-E39DDF1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2352-5DA0-49B5-988C-10C644A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B5F9-FDB7-41B7-B4C6-FD494D6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C783-0478-4148-A700-AF9FD209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5355-23F6-404A-A3E6-1206174A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5CB-4502-4A56-891A-65D4C97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094-8680-49D7-AF7C-195349F3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566-0C0A-4DDA-88D1-B7B0AD7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EE5-059A-4B1E-9F1D-2CC3D89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0F2-7B10-4AB8-A0D8-E4A4DBC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2310-76F1-4D1B-8B2C-E3B15850C1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CEA3-56D5-49BE-9980-4810DA2CCA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5D89-06B6-41C5-89B4-7C31766612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.glzy8.com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海量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.glzy8.com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海量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035-9F07-4E08-A8AA-776E80AF3A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362-2BC5-49ED-8812-BD0E6FCB1D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442-4FB5-4873-841F-625A5F93A3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lidan\Desktop\LOGO.png"/>
          <p:cNvPicPr/>
          <p:nvPr/>
        </p:nvPicPr>
        <p:blipFill>
          <a:blip r:embed="rId1"/>
          <a:stretch/>
        </p:blipFill>
        <p:spPr>
          <a:xfrm>
            <a:off x="6072120" y="4786200"/>
            <a:ext cx="2873520" cy="773280"/>
          </a:xfrm>
          <a:prstGeom prst="rect">
            <a:avLst/>
          </a:prstGeom>
          <a:ln w="0">
            <a:noFill/>
          </a:ln>
        </p:spPr>
      </p:pic>
      <p:sp>
        <p:nvSpPr>
          <p:cNvPr id="165" name="矩形 5122"/>
          <p:cNvSpPr txBox="1"/>
          <p:nvPr/>
        </p:nvSpPr>
        <p:spPr>
          <a:xfrm>
            <a:off x="3200400" y="2597040"/>
            <a:ext cx="2743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团队工作计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5123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2070000" y="336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团队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6146"/>
          <p:cNvGrpSpPr/>
          <p:nvPr/>
        </p:nvGrpSpPr>
        <p:grpSpPr>
          <a:xfrm>
            <a:off x="2195640" y="1450800"/>
            <a:ext cx="4897440" cy="2799000"/>
            <a:chOff x="2195640" y="1450800"/>
            <a:chExt cx="4897440" cy="2799000"/>
          </a:xfrm>
        </p:grpSpPr>
        <p:pic>
          <p:nvPicPr>
            <p:cNvPr id="170" name="Picture 2" descr="C:\Users\lidan\Desktop\linebg.png"/>
            <p:cNvPicPr/>
            <p:nvPr/>
          </p:nvPicPr>
          <p:blipFill>
            <a:blip r:embed="rId1"/>
            <a:stretch/>
          </p:blipFill>
          <p:spPr>
            <a:xfrm>
              <a:off x="2195640" y="145080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4108680" y="1463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Picture 2" descr="C:\Users\lidan\Desktop\linebg.png"/>
            <p:cNvPicPr/>
            <p:nvPr/>
          </p:nvPicPr>
          <p:blipFill>
            <a:blip r:embed="rId2"/>
            <a:stretch/>
          </p:blipFill>
          <p:spPr>
            <a:xfrm>
              <a:off x="2195640" y="220104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6"/>
            <p:cNvSpPr/>
            <p:nvPr/>
          </p:nvSpPr>
          <p:spPr>
            <a:xfrm>
              <a:off x="4108680" y="2213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Picture 2" descr="C:\Users\lidan\Desktop\linebg.png"/>
            <p:cNvPicPr/>
            <p:nvPr/>
          </p:nvPicPr>
          <p:blipFill>
            <a:blip r:embed="rId3"/>
            <a:stretch/>
          </p:blipFill>
          <p:spPr>
            <a:xfrm>
              <a:off x="2195640" y="296028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8"/>
            <p:cNvSpPr/>
            <p:nvPr/>
          </p:nvSpPr>
          <p:spPr>
            <a:xfrm>
              <a:off x="4108680" y="297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2" descr="C:\Users\lidan\Desktop\linebg.png"/>
            <p:cNvPicPr/>
            <p:nvPr/>
          </p:nvPicPr>
          <p:blipFill>
            <a:blip r:embed="rId4"/>
            <a:stretch/>
          </p:blipFill>
          <p:spPr>
            <a:xfrm>
              <a:off x="2195640" y="3710520"/>
              <a:ext cx="489744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0"/>
            <p:cNvSpPr/>
            <p:nvPr/>
          </p:nvSpPr>
          <p:spPr>
            <a:xfrm>
              <a:off x="4108680" y="37227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lidan\Desktop\11.png"/>
          <p:cNvPicPr/>
          <p:nvPr/>
        </p:nvPicPr>
        <p:blipFill>
          <a:blip r:embed="rId1"/>
          <a:stretch/>
        </p:blipFill>
        <p:spPr>
          <a:xfrm>
            <a:off x="928800" y="1571760"/>
            <a:ext cx="3332160" cy="3220920"/>
          </a:xfrm>
          <a:prstGeom prst="rect">
            <a:avLst/>
          </a:prstGeom>
          <a:ln w="0">
            <a:noFill/>
          </a:ln>
        </p:spPr>
      </p:pic>
      <p:cxnSp>
        <p:nvCxnSpPr>
          <p:cNvPr id="180" name="肘形连接符 5"/>
          <p:cNvCxnSpPr/>
          <p:nvPr/>
        </p:nvCxnSpPr>
        <p:spPr>
          <a:xfrm flipV="1">
            <a:off x="3070800" y="1142640"/>
            <a:ext cx="7866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TextBox 6"/>
          <p:cNvSpPr/>
          <p:nvPr/>
        </p:nvSpPr>
        <p:spPr>
          <a:xfrm>
            <a:off x="3578040" y="8650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肘形连接符 8"/>
          <p:cNvCxnSpPr/>
          <p:nvPr/>
        </p:nvCxnSpPr>
        <p:spPr>
          <a:xfrm flipH="1">
            <a:off x="2641320" y="3998880"/>
            <a:ext cx="4291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TextBox 9"/>
          <p:cNvSpPr/>
          <p:nvPr/>
        </p:nvSpPr>
        <p:spPr>
          <a:xfrm>
            <a:off x="2363760" y="46674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肘形连接符 12"/>
          <p:cNvCxnSpPr/>
          <p:nvPr/>
        </p:nvCxnSpPr>
        <p:spPr>
          <a:xfrm>
            <a:off x="3571920" y="2928960"/>
            <a:ext cx="1929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TextBox 13"/>
          <p:cNvSpPr/>
          <p:nvPr/>
        </p:nvSpPr>
        <p:spPr>
          <a:xfrm>
            <a:off x="5292000" y="30002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lidan\Desktop\shu1.png"/>
          <p:cNvPicPr/>
          <p:nvPr/>
        </p:nvPicPr>
        <p:blipFill>
          <a:blip r:embed="rId1"/>
          <a:stretch/>
        </p:blipFill>
        <p:spPr>
          <a:xfrm>
            <a:off x="857160" y="1714680"/>
            <a:ext cx="2217960" cy="1928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lidan\Desktop\shu2.png"/>
          <p:cNvPicPr/>
          <p:nvPr/>
        </p:nvPicPr>
        <p:blipFill>
          <a:blip r:embed="rId2"/>
          <a:stretch/>
        </p:blipFill>
        <p:spPr>
          <a:xfrm>
            <a:off x="3603600" y="1643040"/>
            <a:ext cx="2343240" cy="2038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lidan\Desktop\shu3.png"/>
          <p:cNvPicPr/>
          <p:nvPr/>
        </p:nvPicPr>
        <p:blipFill>
          <a:blip r:embed="rId3"/>
          <a:stretch/>
        </p:blipFill>
        <p:spPr>
          <a:xfrm>
            <a:off x="6286680" y="1571760"/>
            <a:ext cx="2342880" cy="2038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1710720" y="192096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2231280" y="222408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47120" y="286704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699560" y="315288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146960" y="286704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119960" y="221472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294080" y="22147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4915080" y="2430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882960" y="30002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48160" y="285768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4865760" y="3049560"/>
            <a:ext cx="38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5136840" y="3170160"/>
            <a:ext cx="3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5438880" y="3071880"/>
            <a:ext cx="38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6897600" y="2152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7543800" y="2152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7559640" y="27241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4"/>
          <p:cNvSpPr/>
          <p:nvPr/>
        </p:nvSpPr>
        <p:spPr>
          <a:xfrm>
            <a:off x="6932520" y="272268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5560" y="428760"/>
            <a:ext cx="13287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6680" y="5072040"/>
            <a:ext cx="30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pt.glzy8.com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宋体"/>
              </a:rPr>
              <a:t>海量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F2CB-D3A3-44DB-8871-2E6FDE34A2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副标题 4" descr=""/>
          <p:cNvPicPr/>
          <p:nvPr/>
        </p:nvPicPr>
        <p:blipFill>
          <a:blip r:embed="rId1"/>
          <a:stretch/>
        </p:blipFill>
        <p:spPr>
          <a:xfrm>
            <a:off x="4363920" y="1657440"/>
            <a:ext cx="4572000" cy="112860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71280" y="409680"/>
            <a:ext cx="6480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海量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1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6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