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5C3-8CFF-486E-91BE-07E2F92C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203-18E2-4E84-B7CE-AAE03A4D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C5F-0473-472A-845E-7F025783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2B6-D6FE-41BC-A2D3-42504B5B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D7EE-DEB7-4096-B7D3-4A07784A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B28F-70F7-4944-ABF4-20AE7331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4E77-E92A-46F9-BA8A-7541ACB0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74F-D6CA-4F4A-AB0A-26F5321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4C9D-2837-4BDA-8E59-76414C3E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5F5B-A73A-4527-A0F4-4392FB02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5932-7ADC-42AD-AAA7-A7DF17F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43B-897D-4D6D-9CC0-8891E2A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2265-71FC-4017-A592-9D151EA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5F19-184C-4572-9B08-6F762A04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EBC-DF5B-4506-94F5-47D218A6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6F90-080C-496D-BF15-87E7F881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9B4E-77D8-432B-918A-F21FFB89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778-E3DD-4AD3-8993-24FF9BFC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035-5EE5-46EC-8F45-C3D73C2D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B7A-C54C-46E5-9423-B9442F01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8FC-4419-4848-AB56-62E90C4E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6F4-039E-417A-9038-0991251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6B2-9B7B-4750-94EA-35646810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2C2-5ACB-4984-8C36-BF95EEA5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93CC-1BF4-468B-A3D2-2613F0BD344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6501-B89B-44E6-A545-3F7E24475A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659A-BA8F-4CC6-9774-1CDDFA3AB8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8D81-DE40-436D-AB12-E78925722C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785960" y="20718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"/>
          <p:cNvSpPr/>
          <p:nvPr/>
        </p:nvSpPr>
        <p:spPr>
          <a:xfrm>
            <a:off x="1857240" y="208764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85960" y="15717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070000" y="404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童话卡通马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3A73-AB8C-418A-AF02-72CCB2FA93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2926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283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283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4976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568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5569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1783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/>
          <p:cNvSpPr/>
          <p:nvPr/>
        </p:nvSpPr>
        <p:spPr>
          <a:xfrm>
            <a:off x="3354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4854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32119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211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5069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414072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211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2354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44978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42120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069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2711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4497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58550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44978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27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13Z</dcterms:modified>
  <cp:revision>1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