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8A9-AD2C-4518-9AEC-35ADCA99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9C9-2230-40AA-BD35-5E1D1B12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CA1-B91B-4349-B97B-942E9669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CB07-BF20-4E5E-944B-CF5A0E5D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F147-A27D-48C6-81DB-F33EAE89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C5F0-C77B-4983-9620-832CEE20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30E2-32BC-4E58-9221-947939F7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829D-3AFC-4FBE-86F9-B8D6D246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2EC0-561C-4DD8-9ADD-57A51E20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A1E-8E6A-45BE-88C8-D62911BD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3731-EAFA-41F3-8895-120C4E78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231-AB63-4E39-9E27-ADDD3785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2490-7C74-41C9-878A-A0164410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4267-F5D9-4FBC-9CD8-840E89C7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B12F-24A6-4AF8-82CB-28383574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2C6E-CA38-44F1-AEEA-64831B74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B068-E72A-4394-8DD4-B45DC31C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4A7-5FB1-45FC-B518-1D17C0D2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41C-0B60-49CA-80B3-DB6FA765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11C-0AB4-4DF7-A261-50193737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639-F2FB-48CC-9B3D-4084D0E0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152-2BE2-401F-B465-2E0C0F4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493-60F8-4F38-9DC9-4BD356DE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53D-3970-450C-A766-59B317A5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8DC8-CB96-4B03-9123-A8402F9086F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055E-5B57-4664-AA64-47E160EC95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6D2-3D8F-4AEA-A5D8-CB6CE64BBC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E796-01E2-45F5-9F06-6308941FBB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3" descr="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074" descr="D:\Work\mb\2.png2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5" descr="7"/>
          <p:cNvPicPr/>
          <p:nvPr/>
        </p:nvPicPr>
        <p:blipFill>
          <a:blip r:embed="rId3"/>
          <a:stretch/>
        </p:blipFill>
        <p:spPr>
          <a:xfrm>
            <a:off x="4638600" y="2535120"/>
            <a:ext cx="2914560" cy="6667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076"/>
          <p:cNvSpPr/>
          <p:nvPr/>
        </p:nvSpPr>
        <p:spPr>
          <a:xfrm>
            <a:off x="76320" y="577548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3921120" y="550800"/>
            <a:ext cx="48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我的工作计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4097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098" descr="5"/>
          <p:cNvPicPr/>
          <p:nvPr/>
        </p:nvPicPr>
        <p:blipFill>
          <a:blip r:embed="rId2"/>
          <a:stretch/>
        </p:blipFill>
        <p:spPr>
          <a:xfrm>
            <a:off x="0" y="-20520"/>
            <a:ext cx="12192120" cy="10810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099" descr="10"/>
          <p:cNvPicPr/>
          <p:nvPr/>
        </p:nvPicPr>
        <p:blipFill>
          <a:blip r:embed="rId3"/>
          <a:stretch/>
        </p:blipFill>
        <p:spPr>
          <a:xfrm>
            <a:off x="0" y="-14400"/>
            <a:ext cx="1730520" cy="4716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100" descr="4"/>
          <p:cNvPicPr/>
          <p:nvPr/>
        </p:nvPicPr>
        <p:blipFill>
          <a:blip r:embed="rId4"/>
          <a:stretch/>
        </p:blipFill>
        <p:spPr>
          <a:xfrm>
            <a:off x="0" y="1374840"/>
            <a:ext cx="121921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5121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122" descr="8"/>
          <p:cNvPicPr/>
          <p:nvPr/>
        </p:nvPicPr>
        <p:blipFill>
          <a:blip r:embed="rId2"/>
          <a:stretch/>
        </p:blipFill>
        <p:spPr>
          <a:xfrm>
            <a:off x="5052960" y="2587680"/>
            <a:ext cx="2086200" cy="4284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5123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6145" descr="3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146" descr="5"/>
          <p:cNvPicPr/>
          <p:nvPr/>
        </p:nvPicPr>
        <p:blipFill>
          <a:blip r:embed="rId2"/>
          <a:stretch/>
        </p:blipFill>
        <p:spPr>
          <a:xfrm>
            <a:off x="0" y="-7920"/>
            <a:ext cx="12192120" cy="10810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147" descr="11"/>
          <p:cNvPicPr/>
          <p:nvPr/>
        </p:nvPicPr>
        <p:blipFill>
          <a:blip r:embed="rId3"/>
          <a:stretch/>
        </p:blipFill>
        <p:spPr>
          <a:xfrm>
            <a:off x="41400" y="15840"/>
            <a:ext cx="1733400" cy="4762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6148" descr="6"/>
          <p:cNvPicPr/>
          <p:nvPr/>
        </p:nvPicPr>
        <p:blipFill>
          <a:blip r:embed="rId4"/>
          <a:stretch/>
        </p:blipFill>
        <p:spPr>
          <a:xfrm>
            <a:off x="0" y="-190440"/>
            <a:ext cx="121921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9C1B-CCB9-4B2F-A283-8841795FD95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7169" descr="0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7170" descr="9"/>
          <p:cNvPicPr/>
          <p:nvPr/>
        </p:nvPicPr>
        <p:blipFill>
          <a:blip r:embed="rId2"/>
          <a:stretch/>
        </p:blipFill>
        <p:spPr>
          <a:xfrm>
            <a:off x="5052960" y="2579760"/>
            <a:ext cx="20862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4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