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B8DC-E773-4805-88D5-C09FC143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B736-02C6-44CA-9679-9028C8F1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45C83-A6E4-45EF-8176-395DCA4F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AC13B-A637-47DB-AFED-8B24A811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D15DA-9E37-433B-AE8F-535C54B6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25E13-5DCD-4B91-91D7-C4209FFB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B9169-1BA6-470B-9649-630F3CAE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FD1AD-A93D-4C99-9573-DDB8A3ED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0A3B7-F17E-4735-BC84-19BCA1A8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0DF35-D18C-4DF8-AEAE-E09DD5B0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985D6-080D-4325-A84F-3AA2BE26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95301-DEB0-44BF-B20F-59FFB4E6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5D4-BF3B-48C0-BC05-19FC58CD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E1C18-BBAC-4DAD-AF40-24E25028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AE568-D21C-4F98-B5E9-077BD878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91B7B-95FC-4CA5-9B89-73EF61A6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32EF5-0A89-4A1D-9DE0-F3F98873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8BBA2-B349-4292-9B2D-48B0924D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1EB63-5154-4532-8961-B82E4CD4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7CF1A-8D24-4AB2-A545-FE28A63A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3E1D1-043C-4858-BA72-6C1036CF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AA6ED-2B83-4A94-A23C-564D13F4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CB6E6-47AC-4654-A5ED-A3F0CB16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1C80-5141-486C-B58E-A062BD78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01353-E327-400B-8745-22E58F50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F2F21-F94D-4631-8F70-7233FA29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9D428-BA5D-4662-A48E-5E317DF9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1689A-7214-4CB6-A400-63BCABF0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DAEFC-7E28-4E9B-AEC9-F16854DA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00263-8B74-4CD5-A38B-0D14C21A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57269-95CE-4CB3-859B-3F1F79CD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13BA1-B1AE-4253-8E55-B2F49F59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4FE0A-B1B1-4A21-9BE5-2270ADCA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19E8E-540C-4F31-BADB-31604918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8017-4CC7-4A46-8349-C233C7BE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821C3-4182-45AD-9F0C-2C290426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D12F7-61DA-45B0-A744-5ADF6A46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098BE-7839-4104-B5EE-06D4930A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38235-AB92-4E51-AC23-AC5BF19B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20EFD-2F61-4832-AF3D-AE882CCC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A0892-38B1-4B61-9D9D-B45D211C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194E4-80AF-4EC5-A0F0-BAE05CE7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BA8EF-D215-418D-8125-E7C73109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876D5-DC25-401F-A139-86B7906B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DBCB4-677A-44E0-9EF3-6689E182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2451-3A89-4569-9071-F3B8E646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78082-E110-4342-8A51-08A7139E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37EE6-F5F6-426C-9D58-A8F7EE6C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3CEC1-ABA5-434E-BA30-21B7C02A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9D450-2318-4DCA-931C-62BEE9C0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3DB57-48FD-4730-A001-7A266E66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F17C68-E3E8-4893-9469-A77D1AE4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613968-9EB1-4767-A90D-B867CB97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62B0F-9970-4866-8272-2E8DE536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2A704-2C12-428C-B346-51A3396F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F65360-A443-48EB-BD79-FF582CD2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34B5-5380-44DD-B4B7-7A546756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7F645-1271-4D35-A745-C8DAC460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A95B7-E60C-4CE4-9AA0-20FAD6F2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60990E-FF12-46D6-89E2-4DD027AB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29DAB-EEAF-4046-B8C7-34B912D2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428104-61C6-4A29-812F-2BC66BC4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E5046-474F-4227-9E17-DA4F32CF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9197CC-713E-47EF-9686-855E53DC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1288-4620-478D-B69B-640DEBD6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9A48-D5A2-4F67-8CFF-46CBA46E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21E5-6A6D-46ED-B367-236E4CC6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0E03-1892-4D18-A655-3F7D50F8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C889-DCF7-44D3-9E58-160263CB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F1FB-9A80-4CAC-B5A4-BA1D8D15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ED4E-4E61-44E0-B767-C62DFD70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37B2-45A6-4AE1-8160-4A964FAF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4BD0-CDFC-4BC1-A1F7-6F5FA1C7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5717-EE91-41B6-86E6-9DB88B54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8D691-6802-4D30-A738-51FB7651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8B44F-9D6F-4647-A400-8F7D7C52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9B40C-ADA6-4B6B-9AD5-9811B90F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6D25C-E37E-44ED-A142-6D9B15DD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BEABE-B104-493E-9B9D-E9059AA2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971-AC9B-4247-A7B5-36693CBA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4D662-07A8-4268-8FC7-2A9099CD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C106A-2D69-4502-899B-761E81A3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8C885-9A3E-440F-B1DA-F9ACD0FD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2B053-6B70-4BB2-A4F9-51B74752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4C6C1-EC0B-453F-B2FC-B4901557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01C0A-FA2D-4BE1-AF9B-FD24B387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963E1-A45F-4A7E-82FC-310FF3EF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DD76E-7D07-4C5F-82AF-56943897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45EF3-0AF8-46DE-A08B-D7DB2487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AFFC2-DFE9-4886-B83E-DF154F83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D3CB-AEA3-4869-8B17-0209C88A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86195-6719-4EAE-A0FA-1032BAFF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5E57C-887F-461F-BDB9-02423F37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BA2DD-EE88-4C21-8687-7D8A9713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6ED1B-4900-45EE-903C-90B41060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6D543-108E-48CA-83FD-46FF0AC6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232BE-206B-4168-9B06-532C21AC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CF54B-6778-4E70-9F48-87C41BBB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15495-8266-4F8D-B513-7E2B7FE2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33939-0894-45B9-BD30-708B88F6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4588C-6F2C-448D-9CA1-B3086B89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D63E-25B9-4F9A-A9F2-349DE073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CDEA2-0B3C-46D8-98BA-01FBCE23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C67B2-C641-4B7B-BEFF-98E7B973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DE99E-82DE-4B81-ADAF-BD3F9D27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0D0F0-0176-48FC-9EB0-5D466825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F4476-E227-4A11-AA33-24E2837C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529F9-7DFC-4698-9CF2-35D7E854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DAEB2-3C7E-4690-B5FD-317635E1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CC161-818E-4B13-8323-74F5ED65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CFF6D-9848-4028-9DFC-BF4E5FF4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D7A14-FF82-4E6A-BBE9-86AEA29F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05B-E8ED-4E17-9D12-285283F3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AC2CC-678D-4657-A240-DAB8F782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8CAEC-BE60-4F06-AF61-DB5BC3C0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E9248-31D2-46E5-ABAD-E3FA67A1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C9ACC-1301-4D61-81BD-C92DD001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D2E70-F904-4C27-B7CF-71475CE1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6B853-1AFD-4766-A908-D68D0CFF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E0F84-7D05-4376-8A90-31DFEE8D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F7333-90C0-4DD9-B9D4-3C51D477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3194E-B422-4649-A31C-525B3A3A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7A0E5-3D8F-4B3F-AE75-77354297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27EE-8869-4D2C-BF2B-268E515C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82ECA-1DEB-4909-964F-2B2F9C37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D21E7-7F79-443B-9712-E92556E3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41D96-FB90-4FD1-B524-098D1289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593FB-DDCF-40B6-B585-D5686470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309EF-5FB7-4A59-8AC4-184A0F1C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8B468-8EE9-46AD-9F46-B63B0026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537D0-7C36-4F60-B4A6-50CE8C3D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8A70C-2CFB-4108-8FE8-29D98B43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FF4F1-BE69-4EDF-B57C-199333F5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BBDC8-411D-44AB-877E-1EAF339F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1BD5-20B1-4D80-A2BA-8D482331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277E1-A963-43CA-AA9C-98613A5D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7F75C-D5AE-466F-A062-60A1DB0B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7BED5-91C5-49E8-B53A-7B8A4BFD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BA87E-0FE6-4723-B2B7-C010DCAB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FCCD5-EBD7-4F43-85BA-A1081CA4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C6A60-B3F3-4F14-9953-B636DA1E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9C003-34C5-4220-A193-D2832BCE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6249C-92FE-423D-BDCF-8298C869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DF5B6-63A6-4906-946A-56A3471B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F3E8A-CCD2-41F9-B53C-A8B85DA2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C838-B53B-4257-B450-ECE08D0C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2C030-C883-4CDE-86C7-89A50B8D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7CBFA-C6F4-4B74-8DF5-9F8E7420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39614-5EBC-464C-84CB-526D7FF6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EE9C3-4D9C-487D-8134-82B9B432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3DBD2-5BB4-4CF3-8D63-9C134AC2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5525C-D24D-4A96-89CA-2A5F7766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27DD2-32D1-4462-AF7C-615B4E1B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795F3-6F4E-48ED-A763-B9FFF101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7C7F8-ABBC-41A3-9B74-655AF903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63A3D-216C-443A-83A5-30E599D3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C688-8BDD-42FE-8BE4-C7C360CB2795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6ABD-B3F7-4B8E-B02A-4CB2039F514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6AD7-4336-46A7-8F9C-9BE67EC15C6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9EF6-480B-4B50-9FCA-405629F64D4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A964-4C3D-4889-A9F6-2469D406D8B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BD10-E38D-44C9-8F76-1458A938AE3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1C43-E5CE-4DA0-81F2-F9F8C43669A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1121-B895-411D-BFC2-55AB9CC4D52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CDAC-0665-445F-A89E-08B3AB91349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BE3A-6297-454F-AFE9-4BE3CA7275D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2C48-76FA-4DEE-9123-AABE466336E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E9CB-83B3-4D10-9419-ABA396DB50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36FB-1709-409A-9149-547C465AAAE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1E45-7255-4E18-B610-81A3000BDEC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6392-EA08-4E97-8C88-32EB9D36060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09F0-BE2B-443C-8A2F-BADF69E5F5E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CC30-B858-4D29-8E0B-5F278ED6E03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387E-5C01-45F7-80F9-FF0B37E0BB7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690F-F01F-4241-826A-35695791D97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F1D7-6BD4-40A0-A477-A1D1B5DB183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D326-D02F-4CBE-8A7D-97C266FCACA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0253-D6FD-4BD4-BD9E-E52FF42EC6C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BC73-BAC8-4793-9C45-6C291789CF6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E562-206C-47D8-B3B4-9D4D8CDC619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8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2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3"/>
          <p:cNvSpPr/>
          <p:nvPr/>
        </p:nvSpPr>
        <p:spPr>
          <a:xfrm flipV="1">
            <a:off x="0" y="5372640"/>
            <a:ext cx="9144000" cy="1484280"/>
          </a:xfrm>
          <a:prstGeom prst="rect">
            <a:avLst/>
          </a:prstGeom>
          <a:solidFill>
            <a:srgbClr val="80808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133200" y="5423040"/>
            <a:ext cx="8871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汉仪娃娃篆简"/>
              </a:rPr>
              <a:t>今天，你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汉仪娃娃篆简"/>
              </a:rPr>
              <a:t>微笑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汉仪娃娃篆简"/>
              </a:rPr>
              <a:t>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108000" y="5373720"/>
            <a:ext cx="8870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汉仪娃娃篆简"/>
              </a:rPr>
              <a:t>今天，你</a:t>
            </a:r>
            <a:r>
              <a:rPr b="0" lang="zh-CN" sz="7200" spc="-1" strike="noStrike">
                <a:solidFill>
                  <a:srgbClr val="ff9900"/>
                </a:solidFill>
                <a:latin typeface="Arial"/>
                <a:ea typeface="汉仪娃娃篆简"/>
              </a:rPr>
              <a:t>微笑</a:t>
            </a: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汉仪娃娃篆简"/>
              </a:rPr>
              <a:t>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3284640" y="504828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宋体"/>
              </a:rPr>
              <a:t>快乐办公之心灵秘籍</a:t>
            </a:r>
            <a:r>
              <a:rPr b="0" lang="zh-CN" sz="2000" spc="-1" strike="noStrike">
                <a:solidFill>
                  <a:srgbClr val="99cc00"/>
                </a:solidFill>
                <a:latin typeface="Arial"/>
                <a:ea typeface="宋体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5367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15368"/>
          <p:cNvSpPr/>
          <p:nvPr/>
        </p:nvSpPr>
        <p:spPr>
          <a:xfrm>
            <a:off x="2142720" y="4346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微笑工作开心上班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5079960" y="393372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1836720" y="393372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5079960" y="285264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1836720" y="285264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6"/>
          <p:cNvSpPr/>
          <p:nvPr/>
        </p:nvSpPr>
        <p:spPr>
          <a:xfrm>
            <a:off x="5079960" y="1844640"/>
            <a:ext cx="1871640" cy="504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1836720" y="1844640"/>
            <a:ext cx="1871640" cy="504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2219400" y="631800"/>
            <a:ext cx="494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1712880" y="693720"/>
            <a:ext cx="588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微笑上班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绝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1806480" y="180828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乐观心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5105520" y="180828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提升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1806480" y="285264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管理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5119560" y="2852640"/>
            <a:ext cx="21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保持健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1806480" y="39085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加强沟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5119560" y="3908520"/>
            <a:ext cx="21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把握今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6" descr="5"/>
          <p:cNvPicPr/>
          <p:nvPr/>
        </p:nvPicPr>
        <p:blipFill>
          <a:blip r:embed="rId2"/>
          <a:stretch/>
        </p:blipFill>
        <p:spPr>
          <a:xfrm rot="720000">
            <a:off x="7380360" y="4436640"/>
            <a:ext cx="118404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4"/>
          <p:cNvPicPr/>
          <p:nvPr/>
        </p:nvPicPr>
        <p:blipFill>
          <a:blip r:embed="rId2"/>
          <a:stretch/>
        </p:blipFill>
        <p:spPr>
          <a:xfrm>
            <a:off x="900000" y="2276640"/>
            <a:ext cx="3065400" cy="19969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01300000084627121640859141042"/>
          <p:cNvPicPr/>
          <p:nvPr/>
        </p:nvPicPr>
        <p:blipFill>
          <a:blip r:embed="rId3"/>
          <a:stretch/>
        </p:blipFill>
        <p:spPr>
          <a:xfrm>
            <a:off x="5364000" y="2133720"/>
            <a:ext cx="2816280" cy="20872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4"/>
          <p:cNvSpPr/>
          <p:nvPr/>
        </p:nvSpPr>
        <p:spPr>
          <a:xfrm>
            <a:off x="4140360" y="285444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汉仪娃娃篆简"/>
              </a:rPr>
              <a:t>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1279440" y="866880"/>
            <a:ext cx="65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乐观心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619280" y="4365720"/>
            <a:ext cx="12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愁眉苦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6229440" y="4365720"/>
            <a:ext cx="15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笑对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1619280" y="5157720"/>
            <a:ext cx="614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9900"/>
                </a:solidFill>
                <a:latin typeface="Arial"/>
                <a:ea typeface="汉仪娃娃篆简"/>
              </a:rPr>
              <a:t>我们不能选择工作，但可以选择心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828720" y="1557360"/>
            <a:ext cx="759132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遇到压力时要看到压力后面的动力；遇到挫折时要看到挫折后面的成长，遇到成功时要看到成功后面的失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任何事情都有两个以上的选择，我们要做的是选择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积极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应对心态。有专家研究，一个乐观系数高的人，在处理问题时，他就会比一般人多出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机会得到满意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正向乐观的态度不仅会平息由环境压力而带来的紊乱情绪，也较能使问题导向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积极正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1692360" y="838080"/>
            <a:ext cx="58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、乐观心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8313604_093835684000_2副本"/>
          <p:cNvPicPr/>
          <p:nvPr/>
        </p:nvPicPr>
        <p:blipFill>
          <a:blip r:embed="rId2"/>
          <a:stretch/>
        </p:blipFill>
        <p:spPr>
          <a:xfrm>
            <a:off x="6811920" y="5016600"/>
            <a:ext cx="16081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1979640" y="4797360"/>
            <a:ext cx="5256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9900"/>
                </a:solidFill>
                <a:latin typeface="汉仪娃娃篆简"/>
                <a:ea typeface="汉仪娃娃篆简"/>
              </a:rPr>
              <a:t>人们需要快乐</a:t>
            </a:r>
            <a:r>
              <a:rPr b="0" lang="zh-CN" sz="2600" spc="-1" strike="noStrike">
                <a:solidFill>
                  <a:srgbClr val="ff9900"/>
                </a:solidFill>
                <a:latin typeface="汉仪娃娃篆简"/>
                <a:ea typeface="汉仪娃娃篆简"/>
              </a:rPr>
              <a:t>,</a:t>
            </a:r>
            <a:r>
              <a:rPr b="0" lang="zh-CN" sz="2600" spc="-1" strike="noStrike">
                <a:solidFill>
                  <a:srgbClr val="ff9900"/>
                </a:solidFill>
                <a:latin typeface="汉仪娃娃篆简"/>
                <a:ea typeface="汉仪娃娃篆简"/>
              </a:rPr>
              <a:t>就像需要衣服一样。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玛格瑞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科利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格雷厄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2"/>
          <a:stretch/>
        </p:blipFill>
        <p:spPr>
          <a:xfrm>
            <a:off x="2048040" y="981000"/>
            <a:ext cx="51879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1044720" y="1557360"/>
            <a:ext cx="76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熟读以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黄金法则，让你快乐长伴，每天以微笑面对工作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1042920" y="2635200"/>
            <a:ext cx="766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9900"/>
                </a:solidFill>
                <a:latin typeface="Arial"/>
                <a:ea typeface="汉仪娃娃篆简"/>
              </a:rPr>
              <a:t>今天，你微笑了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8313604_093835684000_2副本"/>
          <p:cNvPicPr/>
          <p:nvPr/>
        </p:nvPicPr>
        <p:blipFill>
          <a:blip r:embed="rId2"/>
          <a:stretch/>
        </p:blipFill>
        <p:spPr>
          <a:xfrm>
            <a:off x="3492360" y="3286080"/>
            <a:ext cx="2592360" cy="2589120"/>
          </a:xfrm>
          <a:prstGeom prst="rect">
            <a:avLst/>
          </a:prstGeom>
          <a:ln w="0">
            <a:noFill/>
          </a:ln>
        </p:spPr>
      </p:pic>
      <p:sp>
        <p:nvSpPr>
          <p:cNvPr id="571" name="文本框 20484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962B-04F3-4049-AD38-DBF253ACB62F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9"/>
          <p:cNvPicPr/>
          <p:nvPr/>
        </p:nvPicPr>
        <p:blipFill>
          <a:blip r:embed="rId2"/>
          <a:stretch/>
        </p:blipFill>
        <p:spPr>
          <a:xfrm>
            <a:off x="2211480" y="3286080"/>
            <a:ext cx="4593960" cy="331308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3"/>
          <p:cNvSpPr/>
          <p:nvPr/>
        </p:nvSpPr>
        <p:spPr>
          <a:xfrm>
            <a:off x="1260360" y="2349360"/>
            <a:ext cx="667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汉仪娃娃篆简"/>
              </a:rPr>
              <a:t>谢  谢  观  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14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