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168-F456-4A95-A4E9-826071A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DC3-E4BF-4E7C-AD92-77DFBF32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01E-01B4-465C-B665-1C95DFDA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E16-AE82-45D8-8207-54B83A74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866B-B764-4D5D-B70E-61AEB098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B29-8A3C-42C0-AE4F-124569D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2DA-5053-443D-BBBD-E07E0BCD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873-5114-4D15-A04B-C7E430C6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4E5C-F608-4BEC-A007-8C66ECD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EE5F-9683-480B-B00B-875C2E78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FAE8-01CF-471D-9EB7-1443A9E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757-6DD6-4ADC-97C2-EBF63DA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FB36-8DA0-4D18-B2C0-2F774E1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8AC-78F9-4EE9-AF66-39DFD8C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625-43E1-4BA5-9445-8724E90D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EFBE-F49B-480C-8108-584C719C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385-D23C-431E-8F97-6A04C433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484-3CAD-44DC-8C95-915030D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12A-1D3E-4BDF-B02D-FB9E305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36-B6CF-49C0-8444-27B63C1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AFD-F095-4F46-97A0-3277DD9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961-1B27-42A9-BD80-D65B29E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364-A7D5-43B1-8DAF-BAA7F06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310-7BCE-41A2-896C-0E27376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4BC-0D7D-4E10-99A4-4E80093F32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DD7-E385-4D6B-8CAA-A78208C0E8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A094-B8D4-4C8C-AE08-FF420073D5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13C9-60D9-42BF-967E-BE0D16024A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5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073"/>
          <p:cNvGrpSpPr/>
          <p:nvPr/>
        </p:nvGrpSpPr>
        <p:grpSpPr>
          <a:xfrm>
            <a:off x="0" y="2416320"/>
            <a:ext cx="12195000" cy="2023920"/>
            <a:chOff x="0" y="2416320"/>
            <a:chExt cx="12195000" cy="2023920"/>
          </a:xfrm>
        </p:grpSpPr>
        <p:pic>
          <p:nvPicPr>
            <p:cNvPr id="83" name="图片 3074" descr="2009113225749936_2_副本"/>
            <p:cNvPicPr/>
            <p:nvPr/>
          </p:nvPicPr>
          <p:blipFill>
            <a:blip r:embed="rId1"/>
            <a:srcRect l="0" t="36293" r="0" b="40515"/>
            <a:stretch/>
          </p:blipFill>
          <p:spPr>
            <a:xfrm>
              <a:off x="6120" y="2419920"/>
              <a:ext cx="12188880" cy="20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3075" descr="001"/>
            <p:cNvPicPr/>
            <p:nvPr/>
          </p:nvPicPr>
          <p:blipFill>
            <a:blip r:embed="rId2"/>
            <a:srcRect l="0" t="69910" r="0" b="6463"/>
            <a:stretch/>
          </p:blipFill>
          <p:spPr>
            <a:xfrm>
              <a:off x="2520" y="3961440"/>
              <a:ext cx="12188520" cy="4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3076" descr="001"/>
            <p:cNvPicPr/>
            <p:nvPr/>
          </p:nvPicPr>
          <p:blipFill>
            <a:blip r:embed="rId3"/>
            <a:srcRect l="0" t="69910" r="0" b="8089"/>
            <a:stretch/>
          </p:blipFill>
          <p:spPr>
            <a:xfrm flipH="1" rot="10800000">
              <a:off x="0" y="2415960"/>
              <a:ext cx="1218888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文本框 3077"/>
          <p:cNvSpPr/>
          <p:nvPr/>
        </p:nvSpPr>
        <p:spPr>
          <a:xfrm>
            <a:off x="1029600" y="2684520"/>
            <a:ext cx="3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1041480" y="324000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Simple, Powerful and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2477520" y="83664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文艺工作背景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5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097"/>
          <p:cNvSpPr/>
          <p:nvPr/>
        </p:nvSpPr>
        <p:spPr>
          <a:xfrm>
            <a:off x="3167280" y="2249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098"/>
          <p:cNvSpPr/>
          <p:nvPr/>
        </p:nvSpPr>
        <p:spPr>
          <a:xfrm>
            <a:off x="3565440" y="242568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4099"/>
          <p:cNvSpPr/>
          <p:nvPr/>
        </p:nvSpPr>
        <p:spPr>
          <a:xfrm>
            <a:off x="4849920" y="1863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4100"/>
          <p:cNvSpPr/>
          <p:nvPr/>
        </p:nvSpPr>
        <p:spPr>
          <a:xfrm>
            <a:off x="4851360" y="238932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afe Office 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101"/>
          <p:cNvSpPr/>
          <p:nvPr/>
        </p:nvSpPr>
        <p:spPr>
          <a:xfrm>
            <a:off x="4838760" y="2914560"/>
            <a:ext cx="27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afe Office Power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102"/>
          <p:cNvSpPr/>
          <p:nvPr/>
        </p:nvSpPr>
        <p:spPr>
          <a:xfrm>
            <a:off x="4849920" y="344016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afe Office Ex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726080" y="1905120"/>
            <a:ext cx="1440" cy="1788840"/>
            <a:chOff x="4726080" y="1905120"/>
            <a:chExt cx="1440" cy="1788840"/>
          </a:xfrm>
        </p:grpSpPr>
        <p:sp>
          <p:nvSpPr>
            <p:cNvPr id="97" name="直接连接符 4103"/>
            <p:cNvSpPr/>
            <p:nvPr/>
          </p:nvSpPr>
          <p:spPr>
            <a:xfrm>
              <a:off x="4726080" y="1905120"/>
              <a:ext cx="1440" cy="1788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726080" y="1905120"/>
              <a:ext cx="1440" cy="17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4104"/>
          <p:cNvGrpSpPr/>
          <p:nvPr/>
        </p:nvGrpSpPr>
        <p:grpSpPr>
          <a:xfrm>
            <a:off x="3240" y="-46080"/>
            <a:ext cx="2211120" cy="6918480"/>
            <a:chOff x="3240" y="-46080"/>
            <a:chExt cx="2211120" cy="6918480"/>
          </a:xfrm>
        </p:grpSpPr>
        <p:pic>
          <p:nvPicPr>
            <p:cNvPr id="100" name="图片 4105" descr="2_副本"/>
            <p:cNvPicPr/>
            <p:nvPr/>
          </p:nvPicPr>
          <p:blipFill>
            <a:blip r:embed="rId1"/>
            <a:srcRect l="54348" t="0" r="15633" b="0"/>
            <a:stretch/>
          </p:blipFill>
          <p:spPr>
            <a:xfrm>
              <a:off x="3240" y="6480"/>
              <a:ext cx="2194560" cy="68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组合 4106"/>
            <p:cNvGrpSpPr/>
            <p:nvPr/>
          </p:nvGrpSpPr>
          <p:grpSpPr>
            <a:xfrm>
              <a:off x="284400" y="5574240"/>
              <a:ext cx="1766160" cy="527040"/>
              <a:chOff x="284400" y="5574240"/>
              <a:chExt cx="1766160" cy="527040"/>
            </a:xfrm>
          </p:grpSpPr>
          <p:sp>
            <p:nvSpPr>
              <p:cNvPr id="102" name="文本框 4107"/>
              <p:cNvSpPr/>
              <p:nvPr/>
            </p:nvSpPr>
            <p:spPr>
              <a:xfrm>
                <a:off x="284400" y="5574240"/>
                <a:ext cx="176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WPS Offic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文本框 4108"/>
              <p:cNvSpPr/>
              <p:nvPr/>
            </p:nvSpPr>
            <p:spPr>
              <a:xfrm>
                <a:off x="314640" y="5870160"/>
                <a:ext cx="1588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b2b2b2"/>
                    </a:solidFill>
                    <a:latin typeface="Calibri"/>
                  </a:rPr>
                  <a:t>Simple, Powerful and free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4" name="图片 4109" descr="001"/>
            <p:cNvPicPr/>
            <p:nvPr/>
          </p:nvPicPr>
          <p:blipFill>
            <a:blip r:embed="rId2"/>
            <a:srcRect l="18042" t="0" r="0" b="0"/>
            <a:stretch/>
          </p:blipFill>
          <p:spPr>
            <a:xfrm rot="16200000">
              <a:off x="-1939680" y="2718000"/>
              <a:ext cx="6918480" cy="139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7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5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121" descr="7_副本"/>
          <p:cNvPicPr/>
          <p:nvPr/>
        </p:nvPicPr>
        <p:blipFill>
          <a:blip r:embed="rId1"/>
          <a:srcRect l="0" t="32625" r="0" b="52789"/>
          <a:stretch/>
        </p:blipFill>
        <p:spPr>
          <a:xfrm>
            <a:off x="-6480" y="5683320"/>
            <a:ext cx="12220560" cy="11905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122"/>
          <p:cNvSpPr/>
          <p:nvPr/>
        </p:nvSpPr>
        <p:spPr>
          <a:xfrm>
            <a:off x="5261040" y="2765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200560" y="3168720"/>
            <a:ext cx="1789200" cy="1440"/>
            <a:chOff x="5200560" y="3168720"/>
            <a:chExt cx="1789200" cy="1440"/>
          </a:xfrm>
        </p:grpSpPr>
        <p:sp>
          <p:nvSpPr>
            <p:cNvPr id="108" name="直接连接符 5123"/>
            <p:cNvSpPr/>
            <p:nvPr/>
          </p:nvSpPr>
          <p:spPr>
            <a:xfrm flipH="1">
              <a:off x="5200560" y="3168720"/>
              <a:ext cx="17892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400000">
              <a:off x="6094440" y="2274840"/>
              <a:ext cx="144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5124"/>
          <p:cNvGrpSpPr/>
          <p:nvPr/>
        </p:nvGrpSpPr>
        <p:grpSpPr>
          <a:xfrm>
            <a:off x="10277640" y="6067440"/>
            <a:ext cx="1766880" cy="527760"/>
            <a:chOff x="10277640" y="6067440"/>
            <a:chExt cx="1766880" cy="527760"/>
          </a:xfrm>
        </p:grpSpPr>
        <p:sp>
          <p:nvSpPr>
            <p:cNvPr id="111" name="文本框 5125"/>
            <p:cNvSpPr/>
            <p:nvPr/>
          </p:nvSpPr>
          <p:spPr>
            <a:xfrm>
              <a:off x="10277640" y="6067440"/>
              <a:ext cx="17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WPS Offi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文本框 5126"/>
            <p:cNvSpPr/>
            <p:nvPr/>
          </p:nvSpPr>
          <p:spPr>
            <a:xfrm>
              <a:off x="10307880" y="6364080"/>
              <a:ext cx="1589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b2b2b2"/>
                  </a:solidFill>
                  <a:latin typeface="Calibri"/>
                </a:rPr>
                <a:t>Simple, Powerful and fre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图片 5127" descr="001"/>
          <p:cNvPicPr/>
          <p:nvPr/>
        </p:nvPicPr>
        <p:blipFill>
          <a:blip r:embed="rId2"/>
          <a:srcRect l="18042" t="50869" r="0" b="-14788"/>
          <a:stretch/>
        </p:blipFill>
        <p:spPr>
          <a:xfrm rot="10800000">
            <a:off x="-23760" y="5471640"/>
            <a:ext cx="12244320" cy="8892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12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9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5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6145"/>
          <p:cNvSpPr/>
          <p:nvPr/>
        </p:nvSpPr>
        <p:spPr>
          <a:xfrm>
            <a:off x="1380960" y="2206800"/>
            <a:ext cx="7496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款开放、高效、安全，与微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ic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度兼容并极具中文本地化优势的办公软件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版包含三大组件：文字（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演示（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esentation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表格（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readshee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从功能上与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一对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M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巧体积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下载安装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\Linux\Mac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平台支持，全面兼容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档格式，并提供营养丰富的海量文档资源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您带来轻松愉悦的办公体验，每天已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在使用它，你还不快试试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6146"/>
          <p:cNvGrpSpPr/>
          <p:nvPr/>
        </p:nvGrpSpPr>
        <p:grpSpPr>
          <a:xfrm>
            <a:off x="4068720" y="1647720"/>
            <a:ext cx="1976400" cy="383760"/>
            <a:chOff x="4068720" y="1647720"/>
            <a:chExt cx="1976400" cy="383760"/>
          </a:xfrm>
        </p:grpSpPr>
        <p:sp>
          <p:nvSpPr>
            <p:cNvPr id="117" name="文本框 6147"/>
            <p:cNvSpPr/>
            <p:nvPr/>
          </p:nvSpPr>
          <p:spPr>
            <a:xfrm>
              <a:off x="4215960" y="1647720"/>
              <a:ext cx="18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是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068720" y="2030400"/>
              <a:ext cx="1789200" cy="1080"/>
              <a:chOff x="4068720" y="2030400"/>
              <a:chExt cx="1789200" cy="1080"/>
            </a:xfrm>
          </p:grpSpPr>
          <p:sp>
            <p:nvSpPr>
              <p:cNvPr id="119" name="直接连接符 6148"/>
              <p:cNvSpPr/>
              <p:nvPr/>
            </p:nvSpPr>
            <p:spPr>
              <a:xfrm flipH="1">
                <a:off x="4068720" y="2030400"/>
                <a:ext cx="1789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 rot="5400000">
                <a:off x="4962600" y="1136160"/>
                <a:ext cx="1080" cy="178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1" name="图片 6149" descr="2"/>
          <p:cNvPicPr/>
          <p:nvPr/>
        </p:nvPicPr>
        <p:blipFill>
          <a:blip r:embed="rId1"/>
          <a:srcRect l="33064" t="5092" r="295" b="45748"/>
          <a:stretch/>
        </p:blipFill>
        <p:spPr>
          <a:xfrm>
            <a:off x="3851280" y="3800520"/>
            <a:ext cx="22384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6150"/>
          <p:cNvGrpSpPr/>
          <p:nvPr/>
        </p:nvGrpSpPr>
        <p:grpSpPr>
          <a:xfrm>
            <a:off x="9963000" y="-46080"/>
            <a:ext cx="2217960" cy="6918480"/>
            <a:chOff x="9963000" y="-46080"/>
            <a:chExt cx="2217960" cy="6918480"/>
          </a:xfrm>
        </p:grpSpPr>
        <p:pic>
          <p:nvPicPr>
            <p:cNvPr id="123" name="图片 6151" descr="未标题-1_副本"/>
            <p:cNvPicPr/>
            <p:nvPr/>
          </p:nvPicPr>
          <p:blipFill>
            <a:blip r:embed="rId2"/>
            <a:srcRect l="2316" t="631" r="60337" b="1573"/>
            <a:stretch/>
          </p:blipFill>
          <p:spPr>
            <a:xfrm>
              <a:off x="9963000" y="5040"/>
              <a:ext cx="2217960" cy="68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组合 6152"/>
            <p:cNvGrpSpPr/>
            <p:nvPr/>
          </p:nvGrpSpPr>
          <p:grpSpPr>
            <a:xfrm>
              <a:off x="10276200" y="5965560"/>
              <a:ext cx="1765800" cy="527040"/>
              <a:chOff x="10276200" y="5965560"/>
              <a:chExt cx="1765800" cy="527040"/>
            </a:xfrm>
          </p:grpSpPr>
          <p:sp>
            <p:nvSpPr>
              <p:cNvPr id="125" name="文本框 6153"/>
              <p:cNvSpPr/>
              <p:nvPr/>
            </p:nvSpPr>
            <p:spPr>
              <a:xfrm>
                <a:off x="10276200" y="5965560"/>
                <a:ext cx="176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77777"/>
                    </a:solidFill>
                    <a:latin typeface="微软雅黑"/>
                    <a:ea typeface="微软雅黑"/>
                  </a:rPr>
                  <a:t>WPS Offic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文本框 6154"/>
              <p:cNvSpPr/>
              <p:nvPr/>
            </p:nvSpPr>
            <p:spPr>
              <a:xfrm>
                <a:off x="10306440" y="6261480"/>
                <a:ext cx="1587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b2b2b2"/>
                    </a:solidFill>
                    <a:latin typeface="Calibri"/>
                  </a:rPr>
                  <a:t>Simple, Powerful and free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7" name="图片 6155" descr="001"/>
            <p:cNvPicPr/>
            <p:nvPr/>
          </p:nvPicPr>
          <p:blipFill>
            <a:blip r:embed="rId3"/>
            <a:srcRect l="18042" t="0" r="0" b="0"/>
            <a:stretch/>
          </p:blipFill>
          <p:spPr>
            <a:xfrm flipH="1" rot="5400000">
              <a:off x="7203600" y="2718000"/>
              <a:ext cx="6918480" cy="138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6E9-9F4F-43BB-948D-00425D262B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5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7169" descr="2009113225749936_2_副本"/>
          <p:cNvPicPr/>
          <p:nvPr/>
        </p:nvPicPr>
        <p:blipFill>
          <a:blip r:embed="rId1"/>
          <a:srcRect l="1318" t="13772" r="0" b="62791"/>
          <a:stretch/>
        </p:blipFill>
        <p:spPr>
          <a:xfrm>
            <a:off x="3622680" y="2793960"/>
            <a:ext cx="4946760" cy="83808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7170"/>
          <p:cNvGrpSpPr/>
          <p:nvPr/>
        </p:nvGrpSpPr>
        <p:grpSpPr>
          <a:xfrm>
            <a:off x="7023240" y="3625920"/>
            <a:ext cx="1766880" cy="526680"/>
            <a:chOff x="7023240" y="3625920"/>
            <a:chExt cx="1766880" cy="526680"/>
          </a:xfrm>
        </p:grpSpPr>
        <p:sp>
          <p:nvSpPr>
            <p:cNvPr id="134" name="文本框 7171"/>
            <p:cNvSpPr/>
            <p:nvPr/>
          </p:nvSpPr>
          <p:spPr>
            <a:xfrm>
              <a:off x="7023240" y="3625920"/>
              <a:ext cx="17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微软雅黑"/>
                  <a:ea typeface="微软雅黑"/>
                </a:rPr>
                <a:t>WPS Offi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文本框 7172"/>
            <p:cNvSpPr/>
            <p:nvPr/>
          </p:nvSpPr>
          <p:spPr>
            <a:xfrm>
              <a:off x="7053480" y="3921480"/>
              <a:ext cx="1589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b2b2b2"/>
                  </a:solidFill>
                  <a:latin typeface="Calibri"/>
                </a:rPr>
                <a:t>Simple, Powerful and fre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7173"/>
          <p:cNvSpPr/>
          <p:nvPr/>
        </p:nvSpPr>
        <p:spPr>
          <a:xfrm>
            <a:off x="3903480" y="290988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