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93F-A711-453D-9F2C-BBCEC40C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C083-C9CD-48D9-A279-A8AC63B4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B7F8-6751-4BE8-9824-8C7E187D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7AB-EA4D-4E4B-9476-50832C68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BBD8-EA73-46F8-A693-159487CC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C483-3F8B-4878-B98E-B2FBE133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14B9-0EC0-45BC-B4C7-6E0AD98C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2AA1-80EA-460A-90DA-8C4100CC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7422-7CBF-443F-83A4-E4A2B068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A32F-D327-4454-A3C9-87330E17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AC5E-1ABC-4938-87F3-50B5D8EC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F5F-AEF0-45FB-AD57-28AABEBF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01C8-B398-407F-8A89-39A863C7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5736-778F-4202-9D0D-5972681D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9B02-4B5A-48D3-8D06-914F691B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66D2-D87C-4E58-8BBB-DA7134FB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EC54-13AC-427E-9A0E-B6C032507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81953-CEB3-401B-9763-09229D12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02FF7-9F5E-498B-9927-29381E02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70292-2159-46F4-BF6D-7700081C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E69EF-767E-4A2B-9F54-F8C408CE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7038F-3B84-47EB-81EE-76611522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C19-DB3A-4F46-9072-58ABB08E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FBDC5-5D85-429D-BE13-5EEF1806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9A4CD-3636-4EAF-8052-146A0238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DC464-AA47-4C78-972B-15D286E7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6F812-23C1-4593-AF0A-E0408702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09A13-10B6-4EFC-82D4-E135C4E2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CA551-6DFB-46D8-8258-5747A475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D067F-B4ED-4261-A339-A53B5999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613D-455C-4D50-90C1-431D27F4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62E-B026-44E5-9E36-41BDE762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C09B-A01D-4BC8-A9AE-50E34BBB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B13-E3A0-4E11-947E-1E9A0E87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6180-997B-462E-AD66-E8CD1F23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103-5FAA-4C2F-9566-215FF510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2B9F-DA72-4370-BFA9-12A76BC4B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71EA-C2E5-41CE-A602-7D62B55CDCA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360A-5A54-491F-A14D-65597E5E51A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65F9-DD7E-424E-A146-5C6E8D80C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19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690200" y="358092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4100"/>
          <p:cNvSpPr/>
          <p:nvPr/>
        </p:nvSpPr>
        <p:spPr>
          <a:xfrm>
            <a:off x="2339640" y="9540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熊猫工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9365-753D-4A9E-9A3D-173B8B16A8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5121" descr="D:\Data Files\My Documents\My Webs\soniacoleman\Tutorials\PowerPointTemplates\Templates20\SnowBear\SnowBear_button.jpg"/>
          <p:cNvPicPr/>
          <p:nvPr/>
        </p:nvPicPr>
        <p:blipFill>
          <a:blip r:embed="rId1"/>
          <a:stretch/>
        </p:blipFill>
        <p:spPr>
          <a:xfrm>
            <a:off x="6477120" y="5638680"/>
            <a:ext cx="2158920" cy="88920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5122"/>
          <p:cNvSpPr/>
          <p:nvPr/>
        </p:nvSpPr>
        <p:spPr>
          <a:xfrm>
            <a:off x="755640" y="98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969696"/>
                </a:solidFill>
                <a:uFillTx/>
                <a:latin typeface="Arial"/>
                <a:ea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20:49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46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