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3C2-3C0C-4452-9D73-80D48DE3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706-3B3A-4BB9-843C-719B00AD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283-76F4-45B1-81A6-F9BD17F2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4ED-AB03-4C00-9C1C-CC85AA02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6197-5424-47B0-BBD0-DFA1B030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3002-4367-418C-86D1-66FC5CB4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5680-517C-447D-857F-50E630FE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AF6D-BFFB-4CE1-994A-706B4E80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0A78-3405-477F-BB68-EE3087D6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5B72-39B3-475C-8D5E-4E3BB388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E796-7532-493D-8E46-BE4ED5AE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F26-35EC-4E6A-BB74-70E38610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AB6B-4E83-47AF-B554-B4D6DE9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FA4F-6C1D-4870-A4C6-FCC4643D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3FFE-EAE0-47B8-B38C-4E8253F6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93C1-375A-4614-9026-6073B54F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58BF-9F41-4578-A84F-22A8357C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7BC-826A-4A6B-9FA4-80287E82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CA0-27F8-4D88-9713-9ABBDEE2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FD8-7E9B-4934-A45A-7BC5F8D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C17-5044-4CB0-9EA6-1385DCEE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AF9-DFAC-48AA-B6D7-9BCB2963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4E2-03E4-468B-90BA-DF53060D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7F6-C585-4E69-8BD6-B15B708C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F5FB-2D68-453F-97E8-93F40CFCAD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4BE7-58FB-447E-B4DF-8A30B224138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30EC-59B8-4CB7-B847-C44BB776D1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09656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4920" y="473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992240" y="507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小学安全校车卡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7854-DDAC-4088-942B-E5AFB7920F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em ipsum dolor sit amet, consectetur adipisicing e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 do eiusmod tempor incididunt ut labore et dolore magna ali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em ipsum dolor sit amet, consectetur adipisicing e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5123"/>
          <p:cNvSpPr/>
          <p:nvPr/>
        </p:nvSpPr>
        <p:spPr>
          <a:xfrm>
            <a:off x="1835280" y="915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5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5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