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0EB-A2BD-4B92-AE83-882F35A4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301-AB69-47E7-ABED-A6767A3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A1A-5BA1-488B-B4D6-EDB3002C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EDE-2444-46BC-9D9C-8DF28AC8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584-5293-44FD-BF01-89F8D5A8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2D1-57D2-4EBF-BDD6-F6B9CCF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2A5-95EE-4A4C-8009-9A3CFB6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4EC2-6DB3-450B-B463-62B2202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AB3B-16F9-45B5-9449-760CC79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C42-4D28-4C40-89E4-D4BC5A57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746D-311B-4857-8DBE-05304DE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E65-C3C3-462A-9659-F4A4847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B203-1EC8-42FB-A842-B2E19E5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FF18-FD8A-49DF-9D13-B8491B0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272-BDF9-4431-A873-EF652F2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72E8-8B0D-4A8D-9D9F-B84862B1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0E26-DC9C-48CB-871F-84965B4E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B19-2028-4B13-A4A5-E95C19B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4C3-50D7-4810-BEFE-5A37DDBA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367-6654-4C67-B5E6-69ED9AE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3C7-5DE3-4805-8BE5-7D75F7B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AC4-129F-4164-9A16-ED31222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902-A198-4742-AAFB-9D8ABFD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558-C32F-44FA-B4AC-C70DE24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6A1-3D6A-49F5-A976-686E0D4B7C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A16-38C3-4615-9259-2EE1F3C7FB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36F-507A-4AE0-9CFF-DC0B7048EA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2880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2354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355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378880" y="1341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休闲办公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01988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97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87696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783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12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127"/>
          <p:cNvSpPr/>
          <p:nvPr/>
        </p:nvSpPr>
        <p:spPr>
          <a:xfrm>
            <a:off x="611280" y="1628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283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26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51408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07180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5690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18D-EF78-43CB-8B62-87191EC90A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4212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354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926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497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4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