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972-0544-4E22-9B89-38F81408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605-A7DB-4DE7-973B-4F475C56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1EC-C4C2-424B-A4FE-71AFDE2A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31F-0A53-4941-B531-78F704EE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3803-B17D-4915-9D89-FE88E088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33BB-4F3F-45C1-B45A-FF8C1BC3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0B3D-2B17-471D-BB45-2E117B5B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A36C-3C2D-4743-A1C7-3B73B048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C1D0-668F-4191-A80F-D6ADBDBE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AD11-D020-4239-9B53-18D647AB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CA66-68FB-44AB-B2AC-F930CAC6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1A5-609E-45AD-A756-C497A19E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456E-54D5-44F2-9FAD-33215E17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23AF-20B5-4A62-BA2C-2E29119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881A-37F5-41A6-9264-8A9FBF39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3C16-B13A-4873-A67C-41A40F4C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726F-030E-4630-B03D-6D19784B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BB0-A1FD-4810-AFEC-35E2679D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BB7-90DE-4471-9789-92BE70A3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EA9-FDCC-43D1-89B7-14944333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845-593E-4F60-95E1-D9958DB2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619-F452-4BCA-A5E5-2BB2B73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20F-EB45-4D1E-80C1-81535A33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891-4F5A-43FB-A4DE-89192981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B235-B198-409A-AFDB-68E5748E1B8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EA20-4CE4-4883-B0DF-68C58B1F4AA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37E9-BE06-4225-8BE8-B044F5E537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单击开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  <p:pic>
        <p:nvPicPr>
          <p:cNvPr id="84" name="Picture 2" descr="C:\Documents and Settings\lin\桌面\15\15\png2.png"/>
          <p:cNvPicPr/>
          <p:nvPr/>
        </p:nvPicPr>
        <p:blipFill>
          <a:blip r:embed="rId1"/>
          <a:stretch/>
        </p:blipFill>
        <p:spPr>
          <a:xfrm>
            <a:off x="3962520" y="336240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2090160" y="692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疗检查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2"/>
          <p:cNvSpPr/>
          <p:nvPr/>
        </p:nvSpPr>
        <p:spPr>
          <a:xfrm>
            <a:off x="25704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圆角矩形 3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4"/>
          <p:cNvSpPr/>
          <p:nvPr/>
        </p:nvSpPr>
        <p:spPr>
          <a:xfrm>
            <a:off x="5530680" y="981000"/>
            <a:ext cx="251964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5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6"/>
          <p:cNvSpPr/>
          <p:nvPr/>
        </p:nvSpPr>
        <p:spPr>
          <a:xfrm>
            <a:off x="5522760" y="2205000"/>
            <a:ext cx="251964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50920" y="2882880"/>
            <a:ext cx="4176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保持血压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除废物和多余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刺激骨髓造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维持骨骼的强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维持体内电解质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332000" y="3429000"/>
            <a:ext cx="3095640" cy="360"/>
            <a:chOff x="1332000" y="3429000"/>
            <a:chExt cx="3095640" cy="360"/>
          </a:xfrm>
        </p:grpSpPr>
        <p:sp>
          <p:nvSpPr>
            <p:cNvPr id="223" name="直接连接符 8"/>
            <p:cNvSpPr/>
            <p:nvPr/>
          </p:nvSpPr>
          <p:spPr>
            <a:xfrm>
              <a:off x="1332000" y="3429000"/>
              <a:ext cx="3095640" cy="0"/>
            </a:xfrm>
            <a:prstGeom prst="line">
              <a:avLst/>
            </a:prstGeom>
            <a:ln w="93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1332000" y="342900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332000" y="4005360"/>
            <a:ext cx="3095640" cy="360"/>
            <a:chOff x="1332000" y="4005360"/>
            <a:chExt cx="3095640" cy="360"/>
          </a:xfrm>
        </p:grpSpPr>
        <p:sp>
          <p:nvSpPr>
            <p:cNvPr id="226" name="直接连接符 9"/>
            <p:cNvSpPr/>
            <p:nvPr/>
          </p:nvSpPr>
          <p:spPr>
            <a:xfrm>
              <a:off x="1332000" y="40053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1332000" y="40053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32000" y="4581360"/>
            <a:ext cx="3095640" cy="360"/>
            <a:chOff x="1332000" y="4581360"/>
            <a:chExt cx="3095640" cy="360"/>
          </a:xfrm>
        </p:grpSpPr>
        <p:sp>
          <p:nvSpPr>
            <p:cNvPr id="229" name="直接连接符 10"/>
            <p:cNvSpPr/>
            <p:nvPr/>
          </p:nvSpPr>
          <p:spPr>
            <a:xfrm>
              <a:off x="1332000" y="45813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1332000" y="45813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32000" y="5084640"/>
            <a:ext cx="3095640" cy="1800"/>
            <a:chOff x="1332000" y="5084640"/>
            <a:chExt cx="3095640" cy="1800"/>
          </a:xfrm>
        </p:grpSpPr>
        <p:sp>
          <p:nvSpPr>
            <p:cNvPr id="232" name="直接连接符 11"/>
            <p:cNvSpPr/>
            <p:nvPr/>
          </p:nvSpPr>
          <p:spPr>
            <a:xfrm>
              <a:off x="1332000" y="5084640"/>
              <a:ext cx="3095640" cy="180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1332000" y="5084640"/>
              <a:ext cx="3095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332000" y="5632560"/>
            <a:ext cx="3095640" cy="360"/>
            <a:chOff x="1332000" y="5632560"/>
            <a:chExt cx="3095640" cy="360"/>
          </a:xfrm>
        </p:grpSpPr>
        <p:sp>
          <p:nvSpPr>
            <p:cNvPr id="235" name="直接连接符 12"/>
            <p:cNvSpPr/>
            <p:nvPr/>
          </p:nvSpPr>
          <p:spPr>
            <a:xfrm>
              <a:off x="1332000" y="56325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1332000" y="56325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圆角矩形标注 13"/>
          <p:cNvSpPr/>
          <p:nvPr/>
        </p:nvSpPr>
        <p:spPr>
          <a:xfrm>
            <a:off x="5508720" y="3139920"/>
            <a:ext cx="2374920" cy="1081080"/>
          </a:xfrm>
          <a:prstGeom prst="wedgeRoundRectCallout">
            <a:avLst>
              <a:gd name="adj1" fmla="val -85620"/>
              <a:gd name="adj2" fmla="val 7643"/>
              <a:gd name="adj3" fmla="val 16667"/>
            </a:avLst>
          </a:prstGeom>
          <a:noFill/>
          <a:ln w="25560">
            <a:solidFill>
              <a:srgbClr val="0070c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每天过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500</a:t>
            </a: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－</a:t>
            </a:r>
            <a:r>
              <a:rPr b="0" lang="en-US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升血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-162000" y="2852640"/>
            <a:ext cx="9468000" cy="1800"/>
            <a:chOff x="-162000" y="2852640"/>
            <a:chExt cx="9468000" cy="1800"/>
          </a:xfrm>
        </p:grpSpPr>
        <p:sp>
          <p:nvSpPr>
            <p:cNvPr id="239" name="直接连接符 14"/>
            <p:cNvSpPr/>
            <p:nvPr/>
          </p:nvSpPr>
          <p:spPr>
            <a:xfrm>
              <a:off x="-162000" y="2852640"/>
              <a:ext cx="9468000" cy="1800"/>
            </a:xfrm>
            <a:prstGeom prst="line">
              <a:avLst/>
            </a:prstGeom>
            <a:ln w="284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-162000" y="2852640"/>
              <a:ext cx="946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2"/>
          <p:cNvGrpSpPr/>
          <p:nvPr/>
        </p:nvGrpSpPr>
        <p:grpSpPr>
          <a:xfrm>
            <a:off x="682560" y="4076640"/>
            <a:ext cx="514440" cy="530280"/>
            <a:chOff x="682560" y="4076640"/>
            <a:chExt cx="514440" cy="530280"/>
          </a:xfrm>
        </p:grpSpPr>
        <p:sp>
          <p:nvSpPr>
            <p:cNvPr id="242" name="右箭头 16"/>
            <p:cNvSpPr/>
            <p:nvPr/>
          </p:nvSpPr>
          <p:spPr>
            <a:xfrm>
              <a:off x="682560" y="4076640"/>
              <a:ext cx="514440" cy="5302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3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803520" y="4204440"/>
              <a:ext cx="272520" cy="27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2" descr="C:\Documents and Settings\lin\桌面\肾\20100412091515_82870.jpg"/>
          <p:cNvPicPr/>
          <p:nvPr/>
        </p:nvPicPr>
        <p:blipFill>
          <a:blip r:embed="rId2"/>
          <a:stretch/>
        </p:blipFill>
        <p:spPr>
          <a:xfrm>
            <a:off x="6073920" y="4316400"/>
            <a:ext cx="12445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"/>
          <p:cNvSpPr/>
          <p:nvPr/>
        </p:nvSpPr>
        <p:spPr>
          <a:xfrm>
            <a:off x="25704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3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圆角矩形 4"/>
          <p:cNvSpPr/>
          <p:nvPr/>
        </p:nvSpPr>
        <p:spPr>
          <a:xfrm>
            <a:off x="5530680" y="981000"/>
            <a:ext cx="251964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 6"/>
          <p:cNvSpPr/>
          <p:nvPr/>
        </p:nvSpPr>
        <p:spPr>
          <a:xfrm>
            <a:off x="5522760" y="2205000"/>
            <a:ext cx="251964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250920" y="2882880"/>
            <a:ext cx="4176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保持血压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排除废物和多余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刺激骨髓造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维持骨骼的强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维持体内电解质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332000" y="3429000"/>
            <a:ext cx="3095640" cy="360"/>
            <a:chOff x="1332000" y="3429000"/>
            <a:chExt cx="3095640" cy="360"/>
          </a:xfrm>
        </p:grpSpPr>
        <p:sp>
          <p:nvSpPr>
            <p:cNvPr id="253" name="直接连接符 8"/>
            <p:cNvSpPr/>
            <p:nvPr/>
          </p:nvSpPr>
          <p:spPr>
            <a:xfrm>
              <a:off x="1332000" y="3429000"/>
              <a:ext cx="3095640" cy="0"/>
            </a:xfrm>
            <a:prstGeom prst="line">
              <a:avLst/>
            </a:prstGeom>
            <a:ln w="93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1332000" y="342900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332000" y="4005360"/>
            <a:ext cx="3095640" cy="360"/>
            <a:chOff x="1332000" y="4005360"/>
            <a:chExt cx="3095640" cy="360"/>
          </a:xfrm>
        </p:grpSpPr>
        <p:sp>
          <p:nvSpPr>
            <p:cNvPr id="256" name="直接连接符 9"/>
            <p:cNvSpPr/>
            <p:nvPr/>
          </p:nvSpPr>
          <p:spPr>
            <a:xfrm>
              <a:off x="1332000" y="40053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1332000" y="40053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332000" y="4581360"/>
            <a:ext cx="3095640" cy="360"/>
            <a:chOff x="1332000" y="4581360"/>
            <a:chExt cx="3095640" cy="360"/>
          </a:xfrm>
        </p:grpSpPr>
        <p:sp>
          <p:nvSpPr>
            <p:cNvPr id="259" name="直接连接符 10"/>
            <p:cNvSpPr/>
            <p:nvPr/>
          </p:nvSpPr>
          <p:spPr>
            <a:xfrm>
              <a:off x="1332000" y="45813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1332000" y="45813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332000" y="5084640"/>
            <a:ext cx="3095640" cy="1800"/>
            <a:chOff x="1332000" y="5084640"/>
            <a:chExt cx="3095640" cy="1800"/>
          </a:xfrm>
        </p:grpSpPr>
        <p:sp>
          <p:nvSpPr>
            <p:cNvPr id="262" name="直接连接符 11"/>
            <p:cNvSpPr/>
            <p:nvPr/>
          </p:nvSpPr>
          <p:spPr>
            <a:xfrm>
              <a:off x="1332000" y="5084640"/>
              <a:ext cx="3095640" cy="180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1332000" y="5084640"/>
              <a:ext cx="3095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332000" y="5632560"/>
            <a:ext cx="3095640" cy="360"/>
            <a:chOff x="1332000" y="5632560"/>
            <a:chExt cx="3095640" cy="360"/>
          </a:xfrm>
        </p:grpSpPr>
        <p:sp>
          <p:nvSpPr>
            <p:cNvPr id="265" name="直接连接符 12"/>
            <p:cNvSpPr/>
            <p:nvPr/>
          </p:nvSpPr>
          <p:spPr>
            <a:xfrm>
              <a:off x="1332000" y="56325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1332000" y="56325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圆角矩形标注 13"/>
          <p:cNvSpPr/>
          <p:nvPr/>
        </p:nvSpPr>
        <p:spPr>
          <a:xfrm>
            <a:off x="5508720" y="3139920"/>
            <a:ext cx="2374920" cy="1081080"/>
          </a:xfrm>
          <a:prstGeom prst="wedgeRoundRectCallout">
            <a:avLst>
              <a:gd name="adj1" fmla="val -85620"/>
              <a:gd name="adj2" fmla="val 61393"/>
              <a:gd name="adj3" fmla="val 16667"/>
            </a:avLst>
          </a:prstGeom>
          <a:noFill/>
          <a:ln w="25560">
            <a:solidFill>
              <a:srgbClr val="0070c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分泌促红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成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-162000" y="2852640"/>
            <a:ext cx="9468000" cy="1800"/>
            <a:chOff x="-162000" y="2852640"/>
            <a:chExt cx="9468000" cy="1800"/>
          </a:xfrm>
        </p:grpSpPr>
        <p:sp>
          <p:nvSpPr>
            <p:cNvPr id="269" name="直接连接符 14"/>
            <p:cNvSpPr/>
            <p:nvPr/>
          </p:nvSpPr>
          <p:spPr>
            <a:xfrm>
              <a:off x="-162000" y="2852640"/>
              <a:ext cx="9468000" cy="1800"/>
            </a:xfrm>
            <a:prstGeom prst="line">
              <a:avLst/>
            </a:prstGeom>
            <a:ln w="284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-162000" y="2852640"/>
              <a:ext cx="946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272" name="右箭头 16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Picture 2" descr="C:\Documents and Settings\lin\桌面\20081224103709743.jpg"/>
          <p:cNvPicPr/>
          <p:nvPr/>
        </p:nvPicPr>
        <p:blipFill>
          <a:blip r:embed="rId2"/>
          <a:stretch/>
        </p:blipFill>
        <p:spPr>
          <a:xfrm>
            <a:off x="5797440" y="4245120"/>
            <a:ext cx="17971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2"/>
          <p:cNvSpPr/>
          <p:nvPr/>
        </p:nvSpPr>
        <p:spPr>
          <a:xfrm>
            <a:off x="25704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3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4"/>
          <p:cNvSpPr/>
          <p:nvPr/>
        </p:nvSpPr>
        <p:spPr>
          <a:xfrm>
            <a:off x="5530680" y="981000"/>
            <a:ext cx="251964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5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6"/>
          <p:cNvSpPr/>
          <p:nvPr/>
        </p:nvSpPr>
        <p:spPr>
          <a:xfrm>
            <a:off x="5522760" y="2205000"/>
            <a:ext cx="251964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250920" y="2882880"/>
            <a:ext cx="4176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保持血压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排除废物和多余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刺激骨髓造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维持骨骼的强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维持体内电解质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332000" y="3429000"/>
            <a:ext cx="3095640" cy="360"/>
            <a:chOff x="1332000" y="3429000"/>
            <a:chExt cx="3095640" cy="360"/>
          </a:xfrm>
        </p:grpSpPr>
        <p:sp>
          <p:nvSpPr>
            <p:cNvPr id="283" name="直接连接符 8"/>
            <p:cNvSpPr/>
            <p:nvPr/>
          </p:nvSpPr>
          <p:spPr>
            <a:xfrm>
              <a:off x="1332000" y="3429000"/>
              <a:ext cx="3095640" cy="0"/>
            </a:xfrm>
            <a:prstGeom prst="line">
              <a:avLst/>
            </a:prstGeom>
            <a:ln w="93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1332000" y="342900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332000" y="4005360"/>
            <a:ext cx="3095640" cy="360"/>
            <a:chOff x="1332000" y="4005360"/>
            <a:chExt cx="3095640" cy="360"/>
          </a:xfrm>
        </p:grpSpPr>
        <p:sp>
          <p:nvSpPr>
            <p:cNvPr id="286" name="直接连接符 9"/>
            <p:cNvSpPr/>
            <p:nvPr/>
          </p:nvSpPr>
          <p:spPr>
            <a:xfrm>
              <a:off x="1332000" y="40053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1332000" y="40053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332000" y="4581360"/>
            <a:ext cx="3095640" cy="360"/>
            <a:chOff x="1332000" y="4581360"/>
            <a:chExt cx="3095640" cy="360"/>
          </a:xfrm>
        </p:grpSpPr>
        <p:sp>
          <p:nvSpPr>
            <p:cNvPr id="289" name="直接连接符 10"/>
            <p:cNvSpPr/>
            <p:nvPr/>
          </p:nvSpPr>
          <p:spPr>
            <a:xfrm>
              <a:off x="1332000" y="45813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1332000" y="45813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332000" y="5084640"/>
            <a:ext cx="3095640" cy="1800"/>
            <a:chOff x="1332000" y="5084640"/>
            <a:chExt cx="3095640" cy="1800"/>
          </a:xfrm>
        </p:grpSpPr>
        <p:sp>
          <p:nvSpPr>
            <p:cNvPr id="292" name="直接连接符 11"/>
            <p:cNvSpPr/>
            <p:nvPr/>
          </p:nvSpPr>
          <p:spPr>
            <a:xfrm>
              <a:off x="1332000" y="5084640"/>
              <a:ext cx="3095640" cy="180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1332000" y="5084640"/>
              <a:ext cx="3095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332000" y="5632560"/>
            <a:ext cx="3095640" cy="360"/>
            <a:chOff x="1332000" y="5632560"/>
            <a:chExt cx="3095640" cy="360"/>
          </a:xfrm>
        </p:grpSpPr>
        <p:sp>
          <p:nvSpPr>
            <p:cNvPr id="295" name="直接连接符 12"/>
            <p:cNvSpPr/>
            <p:nvPr/>
          </p:nvSpPr>
          <p:spPr>
            <a:xfrm>
              <a:off x="1332000" y="56325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1332000" y="56325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圆角矩形标注 13"/>
          <p:cNvSpPr/>
          <p:nvPr/>
        </p:nvSpPr>
        <p:spPr>
          <a:xfrm>
            <a:off x="5508720" y="3139920"/>
            <a:ext cx="2374920" cy="1081080"/>
          </a:xfrm>
          <a:prstGeom prst="wedgeRoundRectCallout">
            <a:avLst>
              <a:gd name="adj1" fmla="val -85620"/>
              <a:gd name="adj2" fmla="val 61393"/>
              <a:gd name="adj3" fmla="val 16667"/>
            </a:avLst>
          </a:prstGeom>
          <a:noFill/>
          <a:ln w="25560">
            <a:solidFill>
              <a:srgbClr val="0070c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分泌促红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生成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-162000" y="2852640"/>
            <a:ext cx="9468000" cy="1800"/>
            <a:chOff x="-162000" y="2852640"/>
            <a:chExt cx="9468000" cy="1800"/>
          </a:xfrm>
        </p:grpSpPr>
        <p:sp>
          <p:nvSpPr>
            <p:cNvPr id="299" name="直接连接符 14"/>
            <p:cNvSpPr/>
            <p:nvPr/>
          </p:nvSpPr>
          <p:spPr>
            <a:xfrm>
              <a:off x="-162000" y="2852640"/>
              <a:ext cx="9468000" cy="1800"/>
            </a:xfrm>
            <a:prstGeom prst="line">
              <a:avLst/>
            </a:prstGeom>
            <a:ln w="284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-162000" y="2852640"/>
              <a:ext cx="946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22"/>
          <p:cNvGrpSpPr/>
          <p:nvPr/>
        </p:nvGrpSpPr>
        <p:grpSpPr>
          <a:xfrm>
            <a:off x="9683640" y="6593040"/>
            <a:ext cx="514440" cy="528480"/>
            <a:chOff x="9683640" y="6593040"/>
            <a:chExt cx="514440" cy="528480"/>
          </a:xfrm>
        </p:grpSpPr>
        <p:sp>
          <p:nvSpPr>
            <p:cNvPr id="302" name="右箭头 16"/>
            <p:cNvSpPr/>
            <p:nvPr/>
          </p:nvSpPr>
          <p:spPr>
            <a:xfrm>
              <a:off x="9683640" y="6593040"/>
              <a:ext cx="5144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3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9804600" y="6720480"/>
              <a:ext cx="272520" cy="27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4" name="Picture 2" descr="C:\Documents and Settings\lin\桌面\20081224103709743.jpg"/>
          <p:cNvPicPr/>
          <p:nvPr/>
        </p:nvPicPr>
        <p:blipFill>
          <a:blip r:embed="rId2"/>
          <a:stretch/>
        </p:blipFill>
        <p:spPr>
          <a:xfrm>
            <a:off x="5797440" y="4245120"/>
            <a:ext cx="1797120" cy="1601640"/>
          </a:xfrm>
          <a:prstGeom prst="rect">
            <a:avLst/>
          </a:prstGeom>
          <a:ln w="0">
            <a:noFill/>
          </a:ln>
        </p:spPr>
      </p:pic>
      <p:sp>
        <p:nvSpPr>
          <p:cNvPr id="305" name="圆角矩形 20"/>
          <p:cNvSpPr/>
          <p:nvPr/>
        </p:nvSpPr>
        <p:spPr>
          <a:xfrm>
            <a:off x="5537160" y="981000"/>
            <a:ext cx="25192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21965E-006 L 3.33333E-006 -0.17827 E">
                                      <p:cBhvr>
                                        <p:cTn id="298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1"/>
                            </p:stCondLst>
                            <p:childTnLst>
                              <p:par>
                                <p:cTn id="305" dur="indefinite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28"/>
          <p:cNvGrpSpPr/>
          <p:nvPr/>
        </p:nvGrpSpPr>
        <p:grpSpPr>
          <a:xfrm>
            <a:off x="34920" y="2276640"/>
            <a:ext cx="9144000" cy="4640040"/>
            <a:chOff x="34920" y="2276640"/>
            <a:chExt cx="9144000" cy="4640040"/>
          </a:xfrm>
        </p:grpSpPr>
        <p:sp>
          <p:nvSpPr>
            <p:cNvPr id="308" name="右箭头 4"/>
            <p:cNvSpPr/>
            <p:nvPr/>
          </p:nvSpPr>
          <p:spPr>
            <a:xfrm>
              <a:off x="34920" y="2276640"/>
              <a:ext cx="9144000" cy="464004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00416f"/>
                </a:gs>
                <a:gs pos="100000">
                  <a:srgbClr val="007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5"/>
            <p:cNvSpPr/>
            <p:nvPr/>
          </p:nvSpPr>
          <p:spPr>
            <a:xfrm>
              <a:off x="337572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为什么要保护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任意多边形 6"/>
            <p:cNvSpPr/>
            <p:nvPr/>
          </p:nvSpPr>
          <p:spPr>
            <a:xfrm>
              <a:off x="640728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如何保护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2"/>
          <p:cNvGrpSpPr/>
          <p:nvPr/>
        </p:nvGrpSpPr>
        <p:grpSpPr>
          <a:xfrm>
            <a:off x="34920" y="2276640"/>
            <a:ext cx="9144000" cy="4640040"/>
            <a:chOff x="34920" y="2276640"/>
            <a:chExt cx="9144000" cy="4640040"/>
          </a:xfrm>
        </p:grpSpPr>
        <p:sp>
          <p:nvSpPr>
            <p:cNvPr id="312" name="右箭头 8"/>
            <p:cNvSpPr/>
            <p:nvPr/>
          </p:nvSpPr>
          <p:spPr>
            <a:xfrm>
              <a:off x="34920" y="2276640"/>
              <a:ext cx="9144000" cy="464004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00416f"/>
                </a:gs>
                <a:gs pos="100000">
                  <a:srgbClr val="007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10"/>
            <p:cNvSpPr/>
            <p:nvPr/>
          </p:nvSpPr>
          <p:spPr>
            <a:xfrm>
              <a:off x="640728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如何保护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任意多边形 9"/>
          <p:cNvSpPr/>
          <p:nvPr/>
        </p:nvSpPr>
        <p:spPr>
          <a:xfrm>
            <a:off x="3376440" y="365904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为什么要保护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任意多边形 2"/>
          <p:cNvSpPr/>
          <p:nvPr/>
        </p:nvSpPr>
        <p:spPr>
          <a:xfrm>
            <a:off x="25704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17"/>
          <p:cNvGrpSpPr/>
          <p:nvPr/>
        </p:nvGrpSpPr>
        <p:grpSpPr>
          <a:xfrm>
            <a:off x="34920" y="2305080"/>
            <a:ext cx="9144000" cy="4640400"/>
            <a:chOff x="34920" y="2305080"/>
            <a:chExt cx="9144000" cy="4640400"/>
          </a:xfrm>
        </p:grpSpPr>
        <p:sp>
          <p:nvSpPr>
            <p:cNvPr id="317" name="右箭头 14"/>
            <p:cNvSpPr/>
            <p:nvPr/>
          </p:nvSpPr>
          <p:spPr>
            <a:xfrm>
              <a:off x="34920" y="2305080"/>
              <a:ext cx="9144000" cy="4640400"/>
            </a:xfrm>
            <a:prstGeom prst="rightArrow">
              <a:avLst>
                <a:gd name="adj1" fmla="val 50000"/>
                <a:gd name="adj2" fmla="val 49983"/>
              </a:avLst>
            </a:prstGeom>
            <a:gradFill rotWithShape="0">
              <a:gsLst>
                <a:gs pos="0">
                  <a:srgbClr val="00416f"/>
                </a:gs>
                <a:gs pos="100000">
                  <a:srgbClr val="007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任意多边形 15"/>
            <p:cNvSpPr/>
            <p:nvPr/>
          </p:nvSpPr>
          <p:spPr>
            <a:xfrm>
              <a:off x="6407280" y="3658680"/>
              <a:ext cx="2743200" cy="18561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如何保护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16"/>
            <p:cNvSpPr/>
            <p:nvPr/>
          </p:nvSpPr>
          <p:spPr>
            <a:xfrm>
              <a:off x="279720" y="3644280"/>
              <a:ext cx="2743200" cy="18561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什么是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"/>
                            </p:stCondLst>
                            <p:childTnLst>
                              <p:par>
                                <p:cTn id="3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9618 L -0.00104 0.42913 E">
                                      <p:cBhvr>
                                        <p:cTn id="333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12139E-006 L -8.33333E-007 -0.43075 E">
                                      <p:cBhvr>
                                        <p:cTn id="335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00"/>
                            </p:stCondLst>
                            <p:childTnLst>
                              <p:par>
                                <p:cTn id="33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1"/>
                            </p:stCondLst>
                            <p:childTnLst>
                              <p:par>
                                <p:cTn id="342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3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2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1"/>
          <p:cNvSpPr/>
          <p:nvPr/>
        </p:nvSpPr>
        <p:spPr>
          <a:xfrm>
            <a:off x="337644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为什么要保护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4"/>
          <p:cNvSpPr/>
          <p:nvPr/>
        </p:nvSpPr>
        <p:spPr>
          <a:xfrm>
            <a:off x="25092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为什么要保护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62A2-8D68-401D-8A58-E3AE3FCDEA9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89017E-007 L -0.34219 -2.89017E-007 E">
                                      <p:cBhvr>
                                        <p:cTn id="353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2"/>
          <p:cNvSpPr/>
          <p:nvPr/>
        </p:nvSpPr>
        <p:spPr>
          <a:xfrm>
            <a:off x="25092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为什么要保护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5"/>
          <p:cNvSpPr/>
          <p:nvPr/>
        </p:nvSpPr>
        <p:spPr>
          <a:xfrm>
            <a:off x="4680000" y="3860640"/>
            <a:ext cx="325440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下弧形箭头 6"/>
          <p:cNvSpPr/>
          <p:nvPr/>
        </p:nvSpPr>
        <p:spPr>
          <a:xfrm>
            <a:off x="2700360" y="4581360"/>
            <a:ext cx="3529080" cy="1040040"/>
          </a:xfrm>
          <a:custGeom>
            <a:avLst/>
            <a:gdLst>
              <a:gd name="textAreaLeft" fmla="*/ 784800 w 3529080"/>
              <a:gd name="textAreaRight" fmla="*/ 2614320 w 3529080"/>
              <a:gd name="textAreaTop" fmla="*/ 139320 h 1040040"/>
              <a:gd name="textAreaBottom" fmla="*/ 900720 h 104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07" hR="21600" stAng="10800000" swAng="-5400000"/>
                <a:lnTo>
                  <a:pt x="11197" y="21600"/>
                </a:lnTo>
                <a:arcTo wR="9607" hR="21600" stAng="5400000" swAng="-3591828"/>
                <a:lnTo>
                  <a:pt x="21295" y="5400"/>
                </a:lnTo>
                <a:lnTo>
                  <a:pt x="20009" y="0"/>
                </a:lnTo>
                <a:lnTo>
                  <a:pt x="18113" y="5400"/>
                </a:lnTo>
                <a:lnTo>
                  <a:pt x="18909" y="5400"/>
                </a:lnTo>
                <a:arcTo wR="9607" hR="21600" stAng="1808172" swAng="3464922"/>
                <a:lnTo>
                  <a:pt x="10402" y="21526"/>
                </a:lnTo>
                <a:arcTo wR="9607" hR="21600" stAng="5526906" swAng="5273094"/>
                <a:close/>
              </a:path>
              <a:path fill="darkenLess" w="21600" h="21600">
                <a:moveTo>
                  <a:pt x="0" y="0"/>
                </a:moveTo>
                <a:arcTo wR="9607" hR="21600" stAng="10800000" swAng="-5400000"/>
                <a:lnTo>
                  <a:pt x="11197" y="21600"/>
                </a:lnTo>
                <a:arcTo wR="9607" hR="21600" stAng="5400000" swAng="126906"/>
                <a:lnTo>
                  <a:pt x="10402" y="21526"/>
                </a:lnTo>
                <a:arcTo wR="9607" hR="21600" stAng="5526906" swAng="5273094"/>
                <a:close/>
              </a:path>
            </a:pathLst>
          </a:custGeom>
          <a:noFill/>
          <a:ln w="25560">
            <a:solidFill>
              <a:srgbClr val="0070c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下弧形箭头 7"/>
          <p:cNvSpPr/>
          <p:nvPr/>
        </p:nvSpPr>
        <p:spPr>
          <a:xfrm rot="10800000">
            <a:off x="2700000" y="2637000"/>
            <a:ext cx="3529080" cy="1039680"/>
          </a:xfrm>
          <a:custGeom>
            <a:avLst/>
            <a:gdLst>
              <a:gd name="textAreaLeft" fmla="*/ 784800 w 3529080"/>
              <a:gd name="textAreaRight" fmla="*/ 2614320 w 3529080"/>
              <a:gd name="textAreaTop" fmla="*/ 139320 h 1039680"/>
              <a:gd name="textAreaBottom" fmla="*/ 900360 h 10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07" hR="21600" stAng="10800000" swAng="-5400000"/>
                <a:lnTo>
                  <a:pt x="11197" y="21600"/>
                </a:lnTo>
                <a:arcTo wR="9607" hR="21600" stAng="5400000" swAng="-3591828"/>
                <a:lnTo>
                  <a:pt x="21295" y="5400"/>
                </a:lnTo>
                <a:lnTo>
                  <a:pt x="20009" y="0"/>
                </a:lnTo>
                <a:lnTo>
                  <a:pt x="18113" y="5400"/>
                </a:lnTo>
                <a:lnTo>
                  <a:pt x="18909" y="5400"/>
                </a:lnTo>
                <a:arcTo wR="9607" hR="21600" stAng="1808172" swAng="3464922"/>
                <a:lnTo>
                  <a:pt x="10402" y="21526"/>
                </a:lnTo>
                <a:arcTo wR="9607" hR="21600" stAng="5526906" swAng="5273094"/>
                <a:close/>
              </a:path>
              <a:path fill="darkenLess" w="21600" h="21600">
                <a:moveTo>
                  <a:pt x="0" y="0"/>
                </a:moveTo>
                <a:arcTo wR="9607" hR="21600" stAng="10800000" swAng="-5400000"/>
                <a:lnTo>
                  <a:pt x="11197" y="21600"/>
                </a:lnTo>
                <a:arcTo wR="9607" hR="21600" stAng="5400000" swAng="126906"/>
                <a:lnTo>
                  <a:pt x="10402" y="21526"/>
                </a:lnTo>
                <a:arcTo wR="9607" hR="21600" stAng="5526906" swAng="5273094"/>
                <a:close/>
              </a:path>
            </a:pathLst>
          </a:custGeom>
          <a:noFill/>
          <a:ln w="25560">
            <a:solidFill>
              <a:srgbClr val="0070c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8"/>
          <p:cNvSpPr/>
          <p:nvPr/>
        </p:nvSpPr>
        <p:spPr>
          <a:xfrm>
            <a:off x="1209600" y="3860640"/>
            <a:ext cx="325440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病严重危害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22"/>
          <p:cNvGrpSpPr/>
          <p:nvPr/>
        </p:nvGrpSpPr>
        <p:grpSpPr>
          <a:xfrm>
            <a:off x="10044000" y="5756400"/>
            <a:ext cx="513000" cy="530280"/>
            <a:chOff x="10044000" y="5756400"/>
            <a:chExt cx="513000" cy="530280"/>
          </a:xfrm>
        </p:grpSpPr>
        <p:sp>
          <p:nvSpPr>
            <p:cNvPr id="331" name="右箭头 11"/>
            <p:cNvSpPr/>
            <p:nvPr/>
          </p:nvSpPr>
          <p:spPr>
            <a:xfrm>
              <a:off x="10044000" y="5756400"/>
              <a:ext cx="513000" cy="5302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10164600" y="5884200"/>
              <a:ext cx="271440" cy="27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组合 22"/>
          <p:cNvGrpSpPr/>
          <p:nvPr/>
        </p:nvGrpSpPr>
        <p:grpSpPr>
          <a:xfrm>
            <a:off x="539640" y="2852640"/>
            <a:ext cx="513000" cy="528840"/>
            <a:chOff x="539640" y="2852640"/>
            <a:chExt cx="513000" cy="528840"/>
          </a:xfrm>
        </p:grpSpPr>
        <p:sp>
          <p:nvSpPr>
            <p:cNvPr id="334" name="右箭头 14"/>
            <p:cNvSpPr/>
            <p:nvPr/>
          </p:nvSpPr>
          <p:spPr>
            <a:xfrm>
              <a:off x="539640" y="2852640"/>
              <a:ext cx="51300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660240" y="298008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2"/>
          <p:cNvSpPr/>
          <p:nvPr/>
        </p:nvSpPr>
        <p:spPr>
          <a:xfrm>
            <a:off x="25092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为什么要保护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3"/>
          <p:cNvSpPr/>
          <p:nvPr/>
        </p:nvSpPr>
        <p:spPr>
          <a:xfrm>
            <a:off x="4680000" y="3860640"/>
            <a:ext cx="325440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下弧形箭头 4"/>
          <p:cNvSpPr/>
          <p:nvPr/>
        </p:nvSpPr>
        <p:spPr>
          <a:xfrm>
            <a:off x="2700360" y="4581360"/>
            <a:ext cx="3529080" cy="1040040"/>
          </a:xfrm>
          <a:custGeom>
            <a:avLst/>
            <a:gdLst>
              <a:gd name="textAreaLeft" fmla="*/ 784800 w 3529080"/>
              <a:gd name="textAreaRight" fmla="*/ 2614320 w 3529080"/>
              <a:gd name="textAreaTop" fmla="*/ 139320 h 1040040"/>
              <a:gd name="textAreaBottom" fmla="*/ 900720 h 104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07" hR="21600" stAng="10800000" swAng="-5400000"/>
                <a:lnTo>
                  <a:pt x="11197" y="21600"/>
                </a:lnTo>
                <a:arcTo wR="9607" hR="21600" stAng="5400000" swAng="-3591828"/>
                <a:lnTo>
                  <a:pt x="21295" y="5400"/>
                </a:lnTo>
                <a:lnTo>
                  <a:pt x="20009" y="0"/>
                </a:lnTo>
                <a:lnTo>
                  <a:pt x="18113" y="5400"/>
                </a:lnTo>
                <a:lnTo>
                  <a:pt x="18909" y="5400"/>
                </a:lnTo>
                <a:arcTo wR="9607" hR="21600" stAng="1808172" swAng="3464922"/>
                <a:lnTo>
                  <a:pt x="10402" y="21526"/>
                </a:lnTo>
                <a:arcTo wR="9607" hR="21600" stAng="5526906" swAng="5273094"/>
                <a:close/>
              </a:path>
              <a:path fill="darkenLess" w="21600" h="21600">
                <a:moveTo>
                  <a:pt x="0" y="0"/>
                </a:moveTo>
                <a:arcTo wR="9607" hR="21600" stAng="10800000" swAng="-5400000"/>
                <a:lnTo>
                  <a:pt x="11197" y="21600"/>
                </a:lnTo>
                <a:arcTo wR="9607" hR="21600" stAng="5400000" swAng="126906"/>
                <a:lnTo>
                  <a:pt x="10402" y="21526"/>
                </a:lnTo>
                <a:arcTo wR="9607" hR="21600" stAng="5526906" swAng="5273094"/>
                <a:close/>
              </a:path>
            </a:pathLst>
          </a:custGeom>
          <a:noFill/>
          <a:ln w="25560">
            <a:solidFill>
              <a:srgbClr val="0070c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下弧形箭头 5"/>
          <p:cNvSpPr/>
          <p:nvPr/>
        </p:nvSpPr>
        <p:spPr>
          <a:xfrm rot="10800000">
            <a:off x="2700000" y="2637000"/>
            <a:ext cx="3529080" cy="1039680"/>
          </a:xfrm>
          <a:custGeom>
            <a:avLst/>
            <a:gdLst>
              <a:gd name="textAreaLeft" fmla="*/ 784800 w 3529080"/>
              <a:gd name="textAreaRight" fmla="*/ 2614320 w 3529080"/>
              <a:gd name="textAreaTop" fmla="*/ 139320 h 1039680"/>
              <a:gd name="textAreaBottom" fmla="*/ 900360 h 10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07" hR="21600" stAng="10800000" swAng="-5400000"/>
                <a:lnTo>
                  <a:pt x="11197" y="21600"/>
                </a:lnTo>
                <a:arcTo wR="9607" hR="21600" stAng="5400000" swAng="-3591828"/>
                <a:lnTo>
                  <a:pt x="21295" y="5400"/>
                </a:lnTo>
                <a:lnTo>
                  <a:pt x="20009" y="0"/>
                </a:lnTo>
                <a:lnTo>
                  <a:pt x="18113" y="5400"/>
                </a:lnTo>
                <a:lnTo>
                  <a:pt x="18909" y="5400"/>
                </a:lnTo>
                <a:arcTo wR="9607" hR="21600" stAng="1808172" swAng="3464922"/>
                <a:lnTo>
                  <a:pt x="10402" y="21526"/>
                </a:lnTo>
                <a:arcTo wR="9607" hR="21600" stAng="5526906" swAng="5273094"/>
                <a:close/>
              </a:path>
              <a:path fill="darkenLess" w="21600" h="21600">
                <a:moveTo>
                  <a:pt x="0" y="0"/>
                </a:moveTo>
                <a:arcTo wR="9607" hR="21600" stAng="10800000" swAng="-5400000"/>
                <a:lnTo>
                  <a:pt x="11197" y="21600"/>
                </a:lnTo>
                <a:arcTo wR="9607" hR="21600" stAng="5400000" swAng="126906"/>
                <a:lnTo>
                  <a:pt x="10402" y="21526"/>
                </a:lnTo>
                <a:arcTo wR="9607" hR="21600" stAng="5526906" swAng="5273094"/>
                <a:close/>
              </a:path>
            </a:pathLst>
          </a:custGeom>
          <a:noFill/>
          <a:ln w="25560">
            <a:solidFill>
              <a:srgbClr val="0070c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6"/>
          <p:cNvSpPr/>
          <p:nvPr/>
        </p:nvSpPr>
        <p:spPr>
          <a:xfrm>
            <a:off x="1209600" y="3860640"/>
            <a:ext cx="325440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病严重危害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in">
                                      <p:cBhvr additive="repl">
                                        <p:cTn id="407" dur="3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4971E-006 L 0.18976 -1.84971E-006 E">
                                      <p:cBhvr>
                                        <p:cTn id="410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76 -1.84971E-006 L 0.18976 -0.26196 E">
                                      <p:cBhvr>
                                        <p:cTn id="413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2"/>
          <p:cNvSpPr/>
          <p:nvPr/>
        </p:nvSpPr>
        <p:spPr>
          <a:xfrm>
            <a:off x="25092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为什么要保护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圆角矩形 4"/>
          <p:cNvSpPr/>
          <p:nvPr/>
        </p:nvSpPr>
        <p:spPr>
          <a:xfrm>
            <a:off x="2930400" y="2060640"/>
            <a:ext cx="325440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病严重危害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14"/>
          <p:cNvGrpSpPr/>
          <p:nvPr/>
        </p:nvGrpSpPr>
        <p:grpSpPr>
          <a:xfrm>
            <a:off x="1692360" y="2852640"/>
            <a:ext cx="2374920" cy="3024360"/>
            <a:chOff x="1692360" y="2852640"/>
            <a:chExt cx="2374920" cy="3024360"/>
          </a:xfrm>
        </p:grpSpPr>
        <p:sp>
          <p:nvSpPr>
            <p:cNvPr id="346" name="圆角矩形 7"/>
            <p:cNvSpPr/>
            <p:nvPr/>
          </p:nvSpPr>
          <p:spPr>
            <a:xfrm>
              <a:off x="1692360" y="2852640"/>
              <a:ext cx="2374920" cy="3024360"/>
            </a:xfrm>
            <a:custGeom>
              <a:avLst/>
              <a:gdLst>
                <a:gd name="textAreaLeft" fmla="*/ 22320 w 2374920"/>
                <a:gd name="textAreaRight" fmla="*/ 2352600 w 2374920"/>
                <a:gd name="textAreaTop" fmla="*/ 22320 h 3024360"/>
                <a:gd name="textAreaBottom" fmla="*/ 3002040 h 3024360"/>
              </a:gdLst>
              <a:ahLst/>
              <a:rect l="textAreaLeft" t="textAreaTop" r="textAreaRight" b="textAreaBottom"/>
              <a:pathLst>
                <a:path w="21600" h="27506">
                  <a:moveTo>
                    <a:pt x="697" y="0"/>
                  </a:moveTo>
                  <a:arcTo wR="697" hR="697" stAng="16200000" swAng="-5400000"/>
                  <a:lnTo>
                    <a:pt x="0" y="26809"/>
                  </a:lnTo>
                  <a:arcTo wR="697" hR="697" stAng="10800000" swAng="-5400000"/>
                  <a:lnTo>
                    <a:pt x="20903" y="27506"/>
                  </a:lnTo>
                  <a:arcTo wR="697" hR="697" stAng="5400000" swAng="-5400000"/>
                  <a:lnTo>
                    <a:pt x="21600" y="697"/>
                  </a:lnTo>
                  <a:arcTo wR="697" hR="697" stAng="0" swAng="-5400000"/>
                  <a:close/>
                </a:path>
              </a:pathLst>
            </a:custGeom>
            <a:noFill/>
            <a:ln w="25560">
              <a:solidFill>
                <a:srgbClr val="d8d8d8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水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中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血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高血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蛋白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下箭头 11"/>
            <p:cNvSpPr/>
            <p:nvPr/>
          </p:nvSpPr>
          <p:spPr>
            <a:xfrm>
              <a:off x="1750680" y="3629160"/>
              <a:ext cx="2271240" cy="2088360"/>
            </a:xfrm>
            <a:prstGeom prst="down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0070c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圆角矩形 13"/>
          <p:cNvSpPr/>
          <p:nvPr/>
        </p:nvSpPr>
        <p:spPr>
          <a:xfrm>
            <a:off x="1692360" y="2852640"/>
            <a:ext cx="2374920" cy="5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炎，肾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16"/>
          <p:cNvGrpSpPr/>
          <p:nvPr/>
        </p:nvGrpSpPr>
        <p:grpSpPr>
          <a:xfrm>
            <a:off x="5076720" y="2852640"/>
            <a:ext cx="2374920" cy="3024360"/>
            <a:chOff x="5076720" y="2852640"/>
            <a:chExt cx="2374920" cy="3024360"/>
          </a:xfrm>
        </p:grpSpPr>
        <p:sp>
          <p:nvSpPr>
            <p:cNvPr id="350" name="圆角矩形 17"/>
            <p:cNvSpPr/>
            <p:nvPr/>
          </p:nvSpPr>
          <p:spPr>
            <a:xfrm>
              <a:off x="5076720" y="2852640"/>
              <a:ext cx="2374920" cy="3024360"/>
            </a:xfrm>
            <a:custGeom>
              <a:avLst/>
              <a:gdLst>
                <a:gd name="textAreaLeft" fmla="*/ 22320 w 2374920"/>
                <a:gd name="textAreaRight" fmla="*/ 2352600 w 2374920"/>
                <a:gd name="textAreaTop" fmla="*/ 22320 h 3024360"/>
                <a:gd name="textAreaBottom" fmla="*/ 3002040 h 3024360"/>
              </a:gdLst>
              <a:ahLst/>
              <a:rect l="textAreaLeft" t="textAreaTop" r="textAreaRight" b="textAreaBottom"/>
              <a:pathLst>
                <a:path w="21600" h="27506">
                  <a:moveTo>
                    <a:pt x="697" y="0"/>
                  </a:moveTo>
                  <a:arcTo wR="697" hR="697" stAng="16200000" swAng="-5400000"/>
                  <a:lnTo>
                    <a:pt x="0" y="26809"/>
                  </a:lnTo>
                  <a:arcTo wR="697" hR="697" stAng="10800000" swAng="-5400000"/>
                  <a:lnTo>
                    <a:pt x="20903" y="27506"/>
                  </a:lnTo>
                  <a:arcTo wR="697" hR="697" stAng="5400000" swAng="-5400000"/>
                  <a:lnTo>
                    <a:pt x="21600" y="697"/>
                  </a:lnTo>
                  <a:arcTo wR="697" hR="697" stAng="0" swAng="-5400000"/>
                  <a:close/>
                </a:path>
              </a:pathLst>
            </a:custGeom>
            <a:noFill/>
            <a:ln w="25560">
              <a:solidFill>
                <a:srgbClr val="d8d8d8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危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生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下箭头 18"/>
            <p:cNvSpPr/>
            <p:nvPr/>
          </p:nvSpPr>
          <p:spPr>
            <a:xfrm>
              <a:off x="5135040" y="3629160"/>
              <a:ext cx="2271240" cy="2088360"/>
            </a:xfrm>
            <a:prstGeom prst="down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c0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圆角矩形 19"/>
          <p:cNvSpPr/>
          <p:nvPr/>
        </p:nvSpPr>
        <p:spPr>
          <a:xfrm>
            <a:off x="5076720" y="2852640"/>
            <a:ext cx="2374920" cy="5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尿毒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22"/>
          <p:cNvGrpSpPr/>
          <p:nvPr/>
        </p:nvGrpSpPr>
        <p:grpSpPr>
          <a:xfrm>
            <a:off x="603360" y="2828880"/>
            <a:ext cx="512640" cy="528840"/>
            <a:chOff x="603360" y="2828880"/>
            <a:chExt cx="512640" cy="528840"/>
          </a:xfrm>
        </p:grpSpPr>
        <p:sp>
          <p:nvSpPr>
            <p:cNvPr id="354" name="右箭头 23"/>
            <p:cNvSpPr/>
            <p:nvPr/>
          </p:nvSpPr>
          <p:spPr>
            <a:xfrm>
              <a:off x="603360" y="282888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723960" y="295632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文本框 19471"/>
          <p:cNvSpPr/>
          <p:nvPr/>
        </p:nvSpPr>
        <p:spPr>
          <a:xfrm>
            <a:off x="755640" y="189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2"/>
          <p:cNvSpPr/>
          <p:nvPr/>
        </p:nvSpPr>
        <p:spPr>
          <a:xfrm>
            <a:off x="25092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为什么要保护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圆角矩形 3"/>
          <p:cNvSpPr/>
          <p:nvPr/>
        </p:nvSpPr>
        <p:spPr>
          <a:xfrm>
            <a:off x="2930400" y="2060640"/>
            <a:ext cx="325440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病严重危害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4"/>
          <p:cNvGrpSpPr/>
          <p:nvPr/>
        </p:nvGrpSpPr>
        <p:grpSpPr>
          <a:xfrm>
            <a:off x="1692360" y="2852640"/>
            <a:ext cx="2374920" cy="3024360"/>
            <a:chOff x="1692360" y="2852640"/>
            <a:chExt cx="2374920" cy="3024360"/>
          </a:xfrm>
        </p:grpSpPr>
        <p:sp>
          <p:nvSpPr>
            <p:cNvPr id="361" name="圆角矩形 5"/>
            <p:cNvSpPr/>
            <p:nvPr/>
          </p:nvSpPr>
          <p:spPr>
            <a:xfrm>
              <a:off x="1692360" y="2852640"/>
              <a:ext cx="2374920" cy="3024360"/>
            </a:xfrm>
            <a:custGeom>
              <a:avLst/>
              <a:gdLst>
                <a:gd name="textAreaLeft" fmla="*/ 22320 w 2374920"/>
                <a:gd name="textAreaRight" fmla="*/ 2352600 w 2374920"/>
                <a:gd name="textAreaTop" fmla="*/ 22320 h 3024360"/>
                <a:gd name="textAreaBottom" fmla="*/ 3002040 h 3024360"/>
              </a:gdLst>
              <a:ahLst/>
              <a:rect l="textAreaLeft" t="textAreaTop" r="textAreaRight" b="textAreaBottom"/>
              <a:pathLst>
                <a:path w="21600" h="27506">
                  <a:moveTo>
                    <a:pt x="697" y="0"/>
                  </a:moveTo>
                  <a:arcTo wR="697" hR="697" stAng="16200000" swAng="-5400000"/>
                  <a:lnTo>
                    <a:pt x="0" y="26809"/>
                  </a:lnTo>
                  <a:arcTo wR="697" hR="697" stAng="10800000" swAng="-5400000"/>
                  <a:lnTo>
                    <a:pt x="20903" y="27506"/>
                  </a:lnTo>
                  <a:arcTo wR="697" hR="697" stAng="5400000" swAng="-5400000"/>
                  <a:lnTo>
                    <a:pt x="21600" y="697"/>
                  </a:lnTo>
                  <a:arcTo wR="697" hR="697" stAng="0" swAng="-5400000"/>
                  <a:close/>
                </a:path>
              </a:pathLst>
            </a:custGeom>
            <a:noFill/>
            <a:ln w="25560">
              <a:solidFill>
                <a:srgbClr val="d8d8d8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水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中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血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高血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蛋白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下箭头 6"/>
            <p:cNvSpPr/>
            <p:nvPr/>
          </p:nvSpPr>
          <p:spPr>
            <a:xfrm>
              <a:off x="1750680" y="3629160"/>
              <a:ext cx="2271240" cy="2088360"/>
            </a:xfrm>
            <a:prstGeom prst="down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0070c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圆角矩形 7"/>
          <p:cNvSpPr/>
          <p:nvPr/>
        </p:nvSpPr>
        <p:spPr>
          <a:xfrm>
            <a:off x="1692360" y="2852640"/>
            <a:ext cx="2374920" cy="5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炎，肾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8"/>
          <p:cNvGrpSpPr/>
          <p:nvPr/>
        </p:nvGrpSpPr>
        <p:grpSpPr>
          <a:xfrm>
            <a:off x="5076720" y="2852640"/>
            <a:ext cx="2374920" cy="3024360"/>
            <a:chOff x="5076720" y="2852640"/>
            <a:chExt cx="2374920" cy="3024360"/>
          </a:xfrm>
        </p:grpSpPr>
        <p:sp>
          <p:nvSpPr>
            <p:cNvPr id="365" name="圆角矩形 9"/>
            <p:cNvSpPr/>
            <p:nvPr/>
          </p:nvSpPr>
          <p:spPr>
            <a:xfrm>
              <a:off x="5076720" y="2852640"/>
              <a:ext cx="2374920" cy="3024360"/>
            </a:xfrm>
            <a:custGeom>
              <a:avLst/>
              <a:gdLst>
                <a:gd name="textAreaLeft" fmla="*/ 22320 w 2374920"/>
                <a:gd name="textAreaRight" fmla="*/ 2352600 w 2374920"/>
                <a:gd name="textAreaTop" fmla="*/ 22320 h 3024360"/>
                <a:gd name="textAreaBottom" fmla="*/ 3002040 h 3024360"/>
              </a:gdLst>
              <a:ahLst/>
              <a:rect l="textAreaLeft" t="textAreaTop" r="textAreaRight" b="textAreaBottom"/>
              <a:pathLst>
                <a:path w="21600" h="27506">
                  <a:moveTo>
                    <a:pt x="697" y="0"/>
                  </a:moveTo>
                  <a:arcTo wR="697" hR="697" stAng="16200000" swAng="-5400000"/>
                  <a:lnTo>
                    <a:pt x="0" y="26809"/>
                  </a:lnTo>
                  <a:arcTo wR="697" hR="697" stAng="10800000" swAng="-5400000"/>
                  <a:lnTo>
                    <a:pt x="20903" y="27506"/>
                  </a:lnTo>
                  <a:arcTo wR="697" hR="697" stAng="5400000" swAng="-5400000"/>
                  <a:lnTo>
                    <a:pt x="21600" y="697"/>
                  </a:lnTo>
                  <a:arcTo wR="697" hR="697" stAng="0" swAng="-5400000"/>
                  <a:close/>
                </a:path>
              </a:pathLst>
            </a:custGeom>
            <a:noFill/>
            <a:ln w="25560">
              <a:solidFill>
                <a:srgbClr val="d8d8d8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危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生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下箭头 10"/>
            <p:cNvSpPr/>
            <p:nvPr/>
          </p:nvSpPr>
          <p:spPr>
            <a:xfrm>
              <a:off x="5135040" y="3629160"/>
              <a:ext cx="2271240" cy="2088360"/>
            </a:xfrm>
            <a:prstGeom prst="down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c00000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圆角矩形 11"/>
          <p:cNvSpPr/>
          <p:nvPr/>
        </p:nvSpPr>
        <p:spPr>
          <a:xfrm>
            <a:off x="5076720" y="2852640"/>
            <a:ext cx="2374920" cy="5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尿毒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2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2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2"/>
          <p:cNvSpPr/>
          <p:nvPr/>
        </p:nvSpPr>
        <p:spPr>
          <a:xfrm>
            <a:off x="25092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为什么要保护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圆角矩形 3"/>
          <p:cNvSpPr/>
          <p:nvPr/>
        </p:nvSpPr>
        <p:spPr>
          <a:xfrm>
            <a:off x="2930400" y="2060640"/>
            <a:ext cx="325440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病严重危害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 12"/>
          <p:cNvSpPr/>
          <p:nvPr/>
        </p:nvSpPr>
        <p:spPr>
          <a:xfrm>
            <a:off x="2944800" y="2060640"/>
            <a:ext cx="325440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3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"/>
                            </p:stCondLst>
                            <p:childTnLst>
                              <p:par>
                                <p:cTn id="479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89017E-007 L -5.55556E-007 -0.1163 E">
                                      <p:cBhvr>
                                        <p:cTn id="488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dur="indefinite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68208E-006 L 0 -0.17804 E">
                                      <p:cBhvr>
                                        <p:cTn id="500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7804 L -0.29132 -0.17804 E">
                                      <p:cBhvr>
                                        <p:cTn id="503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-2484360" y="105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1042920" y="3068640"/>
            <a:ext cx="194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9468000" y="522936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头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9972720" y="18144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耳鸣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1"/>
          <p:cNvSpPr/>
          <p:nvPr/>
        </p:nvSpPr>
        <p:spPr>
          <a:xfrm>
            <a:off x="10260000" y="357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2"/>
          <p:cNvSpPr/>
          <p:nvPr/>
        </p:nvSpPr>
        <p:spPr>
          <a:xfrm>
            <a:off x="-2556000" y="33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夜尿增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3"/>
          <p:cNvSpPr/>
          <p:nvPr/>
        </p:nvSpPr>
        <p:spPr>
          <a:xfrm>
            <a:off x="-2548080" y="24289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腰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4"/>
          <p:cNvSpPr/>
          <p:nvPr/>
        </p:nvSpPr>
        <p:spPr>
          <a:xfrm>
            <a:off x="-2771640" y="45813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头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9"/>
          <p:cNvGrpSpPr/>
          <p:nvPr/>
        </p:nvGrpSpPr>
        <p:grpSpPr>
          <a:xfrm>
            <a:off x="8594640" y="6211800"/>
            <a:ext cx="514440" cy="528840"/>
            <a:chOff x="8594640" y="6211800"/>
            <a:chExt cx="514440" cy="528840"/>
          </a:xfrm>
        </p:grpSpPr>
        <p:sp>
          <p:nvSpPr>
            <p:cNvPr id="97" name="右箭头 30"/>
            <p:cNvSpPr/>
            <p:nvPr/>
          </p:nvSpPr>
          <p:spPr>
            <a:xfrm>
              <a:off x="8594640" y="6211800"/>
              <a:ext cx="5144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8715600" y="6339240"/>
              <a:ext cx="272520" cy="27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25"/>
          <p:cNvSpPr/>
          <p:nvPr/>
        </p:nvSpPr>
        <p:spPr>
          <a:xfrm rot="1061400">
            <a:off x="2356920" y="2708280"/>
            <a:ext cx="47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是肾的问题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2 2.96296E-006 L 0.5316 2.96296E-006 E"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5316 2.96296E-006 L 0.59462 2.96296E-006 E">
                                      <p:cBhvr>
                                        <p:cTn id="8" dur="4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579 1.85185E-006 L -0.4882 1.85185E-006 E">
                                      <p:cBhvr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882 1.85185E-006 L -0.58646 1.85185E-006 E">
                                      <p:cBhvr>
                                        <p:cTn id="12" dur="4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9063 -1.48148E-006 L 0.5316 -1.48148E-006 E">
                                      <p:cBhvr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5316 -1.48148E-006 L 0.58577 -1.48148E-006 E">
                                      <p:cBhvr>
                                        <p:cTn id="16" dur="4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158 3.7037E-007 L -0.48038 3.7037E-007 E">
                                      <p:cBhvr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8038 3.7037E-007 L -0.58663 3.7037E-007 E">
                                      <p:cBhvr>
                                        <p:cTn id="20" dur="4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9063 -3.7037E-007 L 0.5316 -3.7037E-007 E">
                                      <p:cBhvr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5316 -3.7037E-007 L 0.59462 -3.7037E-007 E">
                                      <p:cBhvr>
                                        <p:cTn id="24" dur="4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158 -4.81481E-006 L -0.48039 -4.81481E-006 E">
                                      <p:cBhvr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4842 -4.81481E-006 L -0.61025 -4.81481E-006 E">
                                      <p:cBhvr>
                                        <p:cTn id="28" dur="4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9062 1.85185E-006 L 0.53159 1.85185E-006 E">
                                      <p:cBhvr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53159 1.85185E-006 L 0.59444 1.85185E-006 E">
                                      <p:cBhvr>
                                        <p:cTn id="32" dur="4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2" presetSubtype="2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2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2" presetSubtype="2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2" presetSubtype="2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2" presetSubtype="8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2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2" presetSubtype="8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2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2" presetSubtype="2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2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2" presetSubtype="8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32">
                                  <p:stCondLst>
                                    <p:cond delay="4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D:\PPT\图片\精选39\精选39（www.rapidbbs.cn） (8).jpg"/>
          <p:cNvPicPr/>
          <p:nvPr/>
        </p:nvPicPr>
        <p:blipFill>
          <a:blip r:embed="rId1"/>
          <a:stretch/>
        </p:blipFill>
        <p:spPr>
          <a:xfrm>
            <a:off x="1547640" y="1501920"/>
            <a:ext cx="3024360" cy="4519440"/>
          </a:xfrm>
          <a:prstGeom prst="rect">
            <a:avLst/>
          </a:prstGeom>
          <a:ln w="0">
            <a:noFill/>
          </a:ln>
        </p:spPr>
      </p:pic>
      <p:sp>
        <p:nvSpPr>
          <p:cNvPr id="374" name="矩形 4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4572000" y="342900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压力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得</a:t>
            </a:r>
            <a:r>
              <a:rPr b="0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2"/>
          <p:cNvGrpSpPr/>
          <p:nvPr/>
        </p:nvGrpSpPr>
        <p:grpSpPr>
          <a:xfrm>
            <a:off x="250920" y="5492880"/>
            <a:ext cx="512640" cy="528480"/>
            <a:chOff x="250920" y="5492880"/>
            <a:chExt cx="512640" cy="528480"/>
          </a:xfrm>
        </p:grpSpPr>
        <p:sp>
          <p:nvSpPr>
            <p:cNvPr id="377" name="右箭头 7"/>
            <p:cNvSpPr/>
            <p:nvPr/>
          </p:nvSpPr>
          <p:spPr>
            <a:xfrm>
              <a:off x="250920" y="5492880"/>
              <a:ext cx="5126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371520" y="5620320"/>
              <a:ext cx="271440" cy="27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380" name="直接连接符 13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5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D:\PPT\图片\精选39\精选39（www.rapidbbs.cn） (8).jpg"/>
          <p:cNvPicPr/>
          <p:nvPr/>
        </p:nvPicPr>
        <p:blipFill>
          <a:blip r:embed="rId1"/>
          <a:stretch/>
        </p:blipFill>
        <p:spPr>
          <a:xfrm>
            <a:off x="1547640" y="1501920"/>
            <a:ext cx="3024360" cy="4519440"/>
          </a:xfrm>
          <a:prstGeom prst="rect">
            <a:avLst/>
          </a:prstGeom>
          <a:ln w="0">
            <a:noFill/>
          </a:ln>
        </p:spPr>
      </p:pic>
      <p:sp>
        <p:nvSpPr>
          <p:cNvPr id="385" name="矩形 3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4572000" y="342900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压力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得</a:t>
            </a:r>
            <a:r>
              <a:rPr b="0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9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389" name="直接连接符 10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3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4572000" y="342900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熬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抽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喝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22"/>
          <p:cNvGrpSpPr/>
          <p:nvPr/>
        </p:nvGrpSpPr>
        <p:grpSpPr>
          <a:xfrm>
            <a:off x="250920" y="5492880"/>
            <a:ext cx="512640" cy="528480"/>
            <a:chOff x="250920" y="5492880"/>
            <a:chExt cx="512640" cy="528480"/>
          </a:xfrm>
        </p:grpSpPr>
        <p:sp>
          <p:nvSpPr>
            <p:cNvPr id="395" name="右箭头 6"/>
            <p:cNvSpPr/>
            <p:nvPr/>
          </p:nvSpPr>
          <p:spPr>
            <a:xfrm>
              <a:off x="250920" y="5492880"/>
              <a:ext cx="5126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371520" y="5620320"/>
              <a:ext cx="271440" cy="27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TextBox 10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3" descr="D:\PPT\图片\高清\本本收集整理 (40).jpg"/>
          <p:cNvPicPr/>
          <p:nvPr/>
        </p:nvPicPr>
        <p:blipFill>
          <a:blip r:embed="rId2"/>
          <a:stretch/>
        </p:blipFill>
        <p:spPr>
          <a:xfrm>
            <a:off x="1547640" y="1484280"/>
            <a:ext cx="3024360" cy="443088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400" name="直接连接符 11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3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4"/>
          <p:cNvSpPr/>
          <p:nvPr/>
        </p:nvSpPr>
        <p:spPr>
          <a:xfrm>
            <a:off x="4572000" y="342900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熬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抽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喝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D:\PPT\图片\高清\本本收集整理 (40).jpg"/>
          <p:cNvPicPr/>
          <p:nvPr/>
        </p:nvPicPr>
        <p:blipFill>
          <a:blip r:embed="rId1"/>
          <a:stretch/>
        </p:blipFill>
        <p:spPr>
          <a:xfrm>
            <a:off x="1547640" y="1484280"/>
            <a:ext cx="3024360" cy="4430880"/>
          </a:xfrm>
          <a:prstGeom prst="rect">
            <a:avLst/>
          </a:prstGeom>
          <a:ln w="0">
            <a:noFill/>
          </a:ln>
        </p:spPr>
      </p:pic>
      <p:grpSp>
        <p:nvGrpSpPr>
          <p:cNvPr id="407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408" name="直接连接符 11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4572000" y="3429000"/>
            <a:ext cx="3095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寒冷潮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下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组合 22"/>
          <p:cNvGrpSpPr/>
          <p:nvPr/>
        </p:nvGrpSpPr>
        <p:grpSpPr>
          <a:xfrm>
            <a:off x="250920" y="5492880"/>
            <a:ext cx="512640" cy="528480"/>
            <a:chOff x="250920" y="5492880"/>
            <a:chExt cx="512640" cy="528480"/>
          </a:xfrm>
        </p:grpSpPr>
        <p:sp>
          <p:nvSpPr>
            <p:cNvPr id="413" name="右箭头 6"/>
            <p:cNvSpPr/>
            <p:nvPr/>
          </p:nvSpPr>
          <p:spPr>
            <a:xfrm>
              <a:off x="250920" y="5492880"/>
              <a:ext cx="5126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371520" y="5620320"/>
              <a:ext cx="271440" cy="27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9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3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C:\Documents and Settings\lin\桌面\196240_1204392020.jpg"/>
          <p:cNvPicPr/>
          <p:nvPr/>
        </p:nvPicPr>
        <p:blipFill>
          <a:blip r:embed="rId2"/>
          <a:srcRect l="30782" t="8691" r="0" b="0"/>
          <a:stretch/>
        </p:blipFill>
        <p:spPr>
          <a:xfrm>
            <a:off x="831960" y="2421000"/>
            <a:ext cx="3740040" cy="328464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419" name="直接连接符 10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4572000" y="3429000"/>
            <a:ext cx="3095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寒冷潮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下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9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3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426" name="直接连接符 10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8" name="Picture 6" descr="C:\Documents and Settings\lin\桌面\196240_1204392020.jpg"/>
          <p:cNvPicPr/>
          <p:nvPr/>
        </p:nvPicPr>
        <p:blipFill>
          <a:blip r:embed="rId1"/>
          <a:srcRect l="30782" t="8691" r="0" b="0"/>
          <a:stretch/>
        </p:blipFill>
        <p:spPr>
          <a:xfrm>
            <a:off x="831960" y="2421000"/>
            <a:ext cx="374004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4572000" y="3429000"/>
            <a:ext cx="3095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频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组合 22"/>
          <p:cNvGrpSpPr/>
          <p:nvPr/>
        </p:nvGrpSpPr>
        <p:grpSpPr>
          <a:xfrm>
            <a:off x="250920" y="5492880"/>
            <a:ext cx="512640" cy="528480"/>
            <a:chOff x="250920" y="5492880"/>
            <a:chExt cx="512640" cy="528480"/>
          </a:xfrm>
        </p:grpSpPr>
        <p:sp>
          <p:nvSpPr>
            <p:cNvPr id="432" name="右箭头 6"/>
            <p:cNvSpPr/>
            <p:nvPr/>
          </p:nvSpPr>
          <p:spPr>
            <a:xfrm>
              <a:off x="250920" y="5492880"/>
              <a:ext cx="5126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371520" y="5620320"/>
              <a:ext cx="271440" cy="27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TextBox 9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C:\Documents and Settings\lin\桌面\01300000165488122302295679475.jpg"/>
          <p:cNvPicPr/>
          <p:nvPr/>
        </p:nvPicPr>
        <p:blipFill>
          <a:blip r:embed="rId2"/>
          <a:srcRect l="0" t="0" r="0" b="17093"/>
          <a:stretch/>
        </p:blipFill>
        <p:spPr>
          <a:xfrm>
            <a:off x="933480" y="1700280"/>
            <a:ext cx="3567240" cy="432108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438" name="直接连接符 11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4572000" y="3429000"/>
            <a:ext cx="3095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频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22"/>
          <p:cNvGrpSpPr/>
          <p:nvPr/>
        </p:nvGrpSpPr>
        <p:grpSpPr>
          <a:xfrm>
            <a:off x="250920" y="5492880"/>
            <a:ext cx="512640" cy="528480"/>
            <a:chOff x="250920" y="5492880"/>
            <a:chExt cx="512640" cy="528480"/>
          </a:xfrm>
        </p:grpSpPr>
        <p:sp>
          <p:nvSpPr>
            <p:cNvPr id="443" name="右箭头 6"/>
            <p:cNvSpPr/>
            <p:nvPr/>
          </p:nvSpPr>
          <p:spPr>
            <a:xfrm>
              <a:off x="250920" y="5492880"/>
              <a:ext cx="5126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371520" y="5620320"/>
              <a:ext cx="271440" cy="27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TextBox 9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C:\Documents and Settings\lin\桌面\01300000165488122302295679475.jpg"/>
          <p:cNvPicPr/>
          <p:nvPr/>
        </p:nvPicPr>
        <p:blipFill>
          <a:blip r:embed="rId2"/>
          <a:srcRect l="0" t="0" r="0" b="17093"/>
          <a:stretch/>
        </p:blipFill>
        <p:spPr>
          <a:xfrm>
            <a:off x="933480" y="1700280"/>
            <a:ext cx="3567240" cy="432108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449" name="直接连接符 11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453" name="直接连接符 8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9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1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27"/>
          <p:cNvGrpSpPr/>
          <p:nvPr/>
        </p:nvGrpSpPr>
        <p:grpSpPr>
          <a:xfrm>
            <a:off x="4572000" y="2851920"/>
            <a:ext cx="2808360" cy="2507400"/>
            <a:chOff x="4572000" y="2851920"/>
            <a:chExt cx="2808360" cy="2507400"/>
          </a:xfrm>
        </p:grpSpPr>
        <p:sp>
          <p:nvSpPr>
            <p:cNvPr id="459" name="TextBox 19"/>
            <p:cNvSpPr/>
            <p:nvPr/>
          </p:nvSpPr>
          <p:spPr>
            <a:xfrm>
              <a:off x="4572000" y="292284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环境污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4572000" y="3384720"/>
              <a:ext cx="2448360" cy="360"/>
              <a:chOff x="4572000" y="3384720"/>
              <a:chExt cx="2448360" cy="360"/>
            </a:xfrm>
          </p:grpSpPr>
          <p:sp>
            <p:nvSpPr>
              <p:cNvPr id="461" name="直接连接符 18"/>
              <p:cNvSpPr/>
              <p:nvPr/>
            </p:nvSpPr>
            <p:spPr>
              <a:xfrm>
                <a:off x="4572000" y="3384720"/>
                <a:ext cx="2448360" cy="0"/>
              </a:xfrm>
              <a:prstGeom prst="line">
                <a:avLst/>
              </a:prstGeom>
              <a:ln w="1908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 txBox="1"/>
              <p:nvPr/>
            </p:nvSpPr>
            <p:spPr>
              <a:xfrm>
                <a:off x="4572000" y="3384720"/>
                <a:ext cx="244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4572000" y="2851920"/>
              <a:ext cx="360" cy="2507400"/>
              <a:chOff x="4572000" y="2851920"/>
              <a:chExt cx="360" cy="2507400"/>
            </a:xfrm>
          </p:grpSpPr>
          <p:sp>
            <p:nvSpPr>
              <p:cNvPr id="464" name="直接连接符 21"/>
              <p:cNvSpPr/>
              <p:nvPr/>
            </p:nvSpPr>
            <p:spPr>
              <a:xfrm>
                <a:off x="4572000" y="2851920"/>
                <a:ext cx="0" cy="250668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4572000" y="2852640"/>
                <a:ext cx="360" cy="250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TextBox 23"/>
            <p:cNvSpPr/>
            <p:nvPr/>
          </p:nvSpPr>
          <p:spPr>
            <a:xfrm>
              <a:off x="4572000" y="3529440"/>
              <a:ext cx="2808360" cy="13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大气，水含有毒物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各种辐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7" name="Picture 2" descr="D:\PPT\图片\WWF海报\WWF海报\eb44f08d8ffc722eb21bba6b.jpg"/>
          <p:cNvPicPr/>
          <p:nvPr/>
        </p:nvPicPr>
        <p:blipFill>
          <a:blip r:embed="rId1"/>
          <a:stretch/>
        </p:blipFill>
        <p:spPr>
          <a:xfrm>
            <a:off x="909720" y="2708280"/>
            <a:ext cx="3503520" cy="2627280"/>
          </a:xfrm>
          <a:prstGeom prst="rect">
            <a:avLst/>
          </a:prstGeom>
          <a:ln w="0">
            <a:noFill/>
          </a:ln>
        </p:spPr>
      </p:pic>
      <p:grpSp>
        <p:nvGrpSpPr>
          <p:cNvPr id="468" name="组合 22"/>
          <p:cNvGrpSpPr/>
          <p:nvPr/>
        </p:nvGrpSpPr>
        <p:grpSpPr>
          <a:xfrm>
            <a:off x="250920" y="5492880"/>
            <a:ext cx="512640" cy="528480"/>
            <a:chOff x="250920" y="5492880"/>
            <a:chExt cx="512640" cy="528480"/>
          </a:xfrm>
        </p:grpSpPr>
        <p:sp>
          <p:nvSpPr>
            <p:cNvPr id="469" name="右箭头 29"/>
            <p:cNvSpPr/>
            <p:nvPr/>
          </p:nvSpPr>
          <p:spPr>
            <a:xfrm>
              <a:off x="250920" y="5492880"/>
              <a:ext cx="5126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0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371520" y="5620320"/>
              <a:ext cx="271440" cy="27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473" name="直接连接符 8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1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27"/>
          <p:cNvGrpSpPr/>
          <p:nvPr/>
        </p:nvGrpSpPr>
        <p:grpSpPr>
          <a:xfrm>
            <a:off x="4572000" y="2851920"/>
            <a:ext cx="2808360" cy="2507400"/>
            <a:chOff x="4572000" y="2851920"/>
            <a:chExt cx="2808360" cy="2507400"/>
          </a:xfrm>
        </p:grpSpPr>
        <p:sp>
          <p:nvSpPr>
            <p:cNvPr id="478" name="TextBox 19"/>
            <p:cNvSpPr/>
            <p:nvPr/>
          </p:nvSpPr>
          <p:spPr>
            <a:xfrm>
              <a:off x="4572000" y="292284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环境污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4572000" y="3384720"/>
              <a:ext cx="2448360" cy="360"/>
              <a:chOff x="4572000" y="3384720"/>
              <a:chExt cx="2448360" cy="360"/>
            </a:xfrm>
          </p:grpSpPr>
          <p:sp>
            <p:nvSpPr>
              <p:cNvPr id="480" name="直接连接符 18"/>
              <p:cNvSpPr/>
              <p:nvPr/>
            </p:nvSpPr>
            <p:spPr>
              <a:xfrm>
                <a:off x="4572000" y="3384720"/>
                <a:ext cx="2448360" cy="0"/>
              </a:xfrm>
              <a:prstGeom prst="line">
                <a:avLst/>
              </a:prstGeom>
              <a:ln w="1908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4572000" y="3384720"/>
                <a:ext cx="244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572000" y="2851920"/>
              <a:ext cx="360" cy="2507400"/>
              <a:chOff x="4572000" y="2851920"/>
              <a:chExt cx="360" cy="2507400"/>
            </a:xfrm>
          </p:grpSpPr>
          <p:sp>
            <p:nvSpPr>
              <p:cNvPr id="483" name="直接连接符 21"/>
              <p:cNvSpPr/>
              <p:nvPr/>
            </p:nvSpPr>
            <p:spPr>
              <a:xfrm>
                <a:off x="4572000" y="2851920"/>
                <a:ext cx="0" cy="250668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>
                <a:off x="4572000" y="2852640"/>
                <a:ext cx="360" cy="250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TextBox 23"/>
            <p:cNvSpPr/>
            <p:nvPr/>
          </p:nvSpPr>
          <p:spPr>
            <a:xfrm>
              <a:off x="4572000" y="3529440"/>
              <a:ext cx="2808360" cy="13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大气，水含有毒物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各种辐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2" descr="D:\PPT\图片\WWF海报\WWF海报\eb44f08d8ffc722eb21bba6b.jpg"/>
          <p:cNvPicPr/>
          <p:nvPr/>
        </p:nvPicPr>
        <p:blipFill>
          <a:blip r:embed="rId1"/>
          <a:stretch/>
        </p:blipFill>
        <p:spPr>
          <a:xfrm>
            <a:off x="909720" y="2708280"/>
            <a:ext cx="3503520" cy="26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826920" y="331920"/>
            <a:ext cx="2665440" cy="1512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右箭头 29"/>
          <p:cNvSpPr/>
          <p:nvPr/>
        </p:nvSpPr>
        <p:spPr>
          <a:xfrm>
            <a:off x="0" y="2276640"/>
            <a:ext cx="9144000" cy="464004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30"/>
          <p:cNvSpPr/>
          <p:nvPr/>
        </p:nvSpPr>
        <p:spPr>
          <a:xfrm>
            <a:off x="236520" y="365904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31"/>
          <p:cNvSpPr/>
          <p:nvPr/>
        </p:nvSpPr>
        <p:spPr>
          <a:xfrm>
            <a:off x="3340080" y="365904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为什么要保护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32"/>
          <p:cNvSpPr/>
          <p:nvPr/>
        </p:nvSpPr>
        <p:spPr>
          <a:xfrm>
            <a:off x="6372360" y="365904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16"/>
          <p:cNvGrpSpPr/>
          <p:nvPr/>
        </p:nvGrpSpPr>
        <p:grpSpPr>
          <a:xfrm>
            <a:off x="0" y="2349360"/>
            <a:ext cx="512640" cy="528840"/>
            <a:chOff x="0" y="2349360"/>
            <a:chExt cx="512640" cy="528840"/>
          </a:xfrm>
        </p:grpSpPr>
        <p:sp>
          <p:nvSpPr>
            <p:cNvPr id="107" name="右箭头 17"/>
            <p:cNvSpPr/>
            <p:nvPr/>
          </p:nvSpPr>
          <p:spPr>
            <a:xfrm>
              <a:off x="0" y="2349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120600" y="2476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0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"/>
                            </p:stCondLst>
                            <p:childTnLst>
                              <p:par>
                                <p:cTn id="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300"/>
                            </p:stCondLst>
                            <p:childTnLst>
                              <p:par>
                                <p:cTn id="10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9191E-006 L 0.93715 0.53479 E">
                                      <p:cBhvr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489" name="直接连接符 8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1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12"/>
          <p:cNvGrpSpPr/>
          <p:nvPr/>
        </p:nvGrpSpPr>
        <p:grpSpPr>
          <a:xfrm>
            <a:off x="4572000" y="2851920"/>
            <a:ext cx="2808360" cy="2507400"/>
            <a:chOff x="4572000" y="2851920"/>
            <a:chExt cx="2808360" cy="2507400"/>
          </a:xfrm>
        </p:grpSpPr>
        <p:sp>
          <p:nvSpPr>
            <p:cNvPr id="494" name="TextBox 19"/>
            <p:cNvSpPr/>
            <p:nvPr/>
          </p:nvSpPr>
          <p:spPr>
            <a:xfrm>
              <a:off x="4572000" y="2922840"/>
              <a:ext cx="19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饮食不安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4572000" y="3384720"/>
              <a:ext cx="2448360" cy="360"/>
              <a:chOff x="4572000" y="3384720"/>
              <a:chExt cx="2448360" cy="360"/>
            </a:xfrm>
          </p:grpSpPr>
          <p:sp>
            <p:nvSpPr>
              <p:cNvPr id="496" name="直接连接符 18"/>
              <p:cNvSpPr/>
              <p:nvPr/>
            </p:nvSpPr>
            <p:spPr>
              <a:xfrm>
                <a:off x="4572000" y="3384720"/>
                <a:ext cx="2448360" cy="0"/>
              </a:xfrm>
              <a:prstGeom prst="line">
                <a:avLst/>
              </a:prstGeom>
              <a:ln w="1908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 txBox="1"/>
              <p:nvPr/>
            </p:nvSpPr>
            <p:spPr>
              <a:xfrm>
                <a:off x="4572000" y="3384720"/>
                <a:ext cx="244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4572000" y="2851920"/>
              <a:ext cx="360" cy="2507400"/>
              <a:chOff x="4572000" y="2851920"/>
              <a:chExt cx="360" cy="2507400"/>
            </a:xfrm>
          </p:grpSpPr>
          <p:sp>
            <p:nvSpPr>
              <p:cNvPr id="499" name="直接连接符 21"/>
              <p:cNvSpPr/>
              <p:nvPr/>
            </p:nvSpPr>
            <p:spPr>
              <a:xfrm>
                <a:off x="4572000" y="2851920"/>
                <a:ext cx="0" cy="250668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>
                <a:off x="4572000" y="2852640"/>
                <a:ext cx="360" cy="250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TextBox 23"/>
            <p:cNvSpPr/>
            <p:nvPr/>
          </p:nvSpPr>
          <p:spPr>
            <a:xfrm>
              <a:off x="4572000" y="3529440"/>
              <a:ext cx="280836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残留农药的果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激素催长的肉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浸泡福尔马林的海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2" name="Picture 3" descr="D:\PPT\图片\动物\动物\乌夜啼收藏动物图片 (10).jpg"/>
          <p:cNvPicPr/>
          <p:nvPr/>
        </p:nvPicPr>
        <p:blipFill>
          <a:blip r:embed="rId1"/>
          <a:srcRect l="0" t="0" r="-1405" b="0"/>
          <a:stretch/>
        </p:blipFill>
        <p:spPr>
          <a:xfrm>
            <a:off x="826920" y="1628640"/>
            <a:ext cx="3745080" cy="4392720"/>
          </a:xfrm>
          <a:prstGeom prst="rect">
            <a:avLst/>
          </a:prstGeom>
          <a:ln w="0">
            <a:noFill/>
          </a:ln>
        </p:spPr>
      </p:pic>
      <p:grpSp>
        <p:nvGrpSpPr>
          <p:cNvPr id="503" name="组合 22"/>
          <p:cNvGrpSpPr/>
          <p:nvPr/>
        </p:nvGrpSpPr>
        <p:grpSpPr>
          <a:xfrm>
            <a:off x="250920" y="5492880"/>
            <a:ext cx="512640" cy="528480"/>
            <a:chOff x="250920" y="5492880"/>
            <a:chExt cx="512640" cy="528480"/>
          </a:xfrm>
        </p:grpSpPr>
        <p:sp>
          <p:nvSpPr>
            <p:cNvPr id="504" name="右箭头 14"/>
            <p:cNvSpPr/>
            <p:nvPr/>
          </p:nvSpPr>
          <p:spPr>
            <a:xfrm>
              <a:off x="250920" y="5492880"/>
              <a:ext cx="5126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371520" y="5620320"/>
              <a:ext cx="271440" cy="27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508" name="直接连接符 8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1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组合 12"/>
          <p:cNvGrpSpPr/>
          <p:nvPr/>
        </p:nvGrpSpPr>
        <p:grpSpPr>
          <a:xfrm>
            <a:off x="4572000" y="2851920"/>
            <a:ext cx="2808360" cy="2507400"/>
            <a:chOff x="4572000" y="2851920"/>
            <a:chExt cx="2808360" cy="2507400"/>
          </a:xfrm>
        </p:grpSpPr>
        <p:sp>
          <p:nvSpPr>
            <p:cNvPr id="513" name="TextBox 19"/>
            <p:cNvSpPr/>
            <p:nvPr/>
          </p:nvSpPr>
          <p:spPr>
            <a:xfrm>
              <a:off x="4572000" y="2922840"/>
              <a:ext cx="19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饮食不安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572000" y="3384720"/>
              <a:ext cx="2448360" cy="360"/>
              <a:chOff x="4572000" y="3384720"/>
              <a:chExt cx="2448360" cy="360"/>
            </a:xfrm>
          </p:grpSpPr>
          <p:sp>
            <p:nvSpPr>
              <p:cNvPr id="515" name="直接连接符 18"/>
              <p:cNvSpPr/>
              <p:nvPr/>
            </p:nvSpPr>
            <p:spPr>
              <a:xfrm>
                <a:off x="4572000" y="3384720"/>
                <a:ext cx="2448360" cy="0"/>
              </a:xfrm>
              <a:prstGeom prst="line">
                <a:avLst/>
              </a:prstGeom>
              <a:ln w="1908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4572000" y="3384720"/>
                <a:ext cx="244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4572000" y="2851920"/>
              <a:ext cx="360" cy="2507400"/>
              <a:chOff x="4572000" y="2851920"/>
              <a:chExt cx="360" cy="2507400"/>
            </a:xfrm>
          </p:grpSpPr>
          <p:sp>
            <p:nvSpPr>
              <p:cNvPr id="518" name="直接连接符 21"/>
              <p:cNvSpPr/>
              <p:nvPr/>
            </p:nvSpPr>
            <p:spPr>
              <a:xfrm>
                <a:off x="4572000" y="2851920"/>
                <a:ext cx="0" cy="250668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4572000" y="2852640"/>
                <a:ext cx="360" cy="250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Box 23"/>
            <p:cNvSpPr/>
            <p:nvPr/>
          </p:nvSpPr>
          <p:spPr>
            <a:xfrm>
              <a:off x="4572000" y="3529440"/>
              <a:ext cx="280836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残留农药的果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激素催长的肉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浸泡福尔马林的海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3" descr="D:\PPT\图片\动物\动物\乌夜啼收藏动物图片 (10).jpg"/>
          <p:cNvPicPr/>
          <p:nvPr/>
        </p:nvPicPr>
        <p:blipFill>
          <a:blip r:embed="rId1"/>
          <a:srcRect l="0" t="0" r="-1405" b="0"/>
          <a:stretch/>
        </p:blipFill>
        <p:spPr>
          <a:xfrm>
            <a:off x="826920" y="1628640"/>
            <a:ext cx="3745080" cy="4392720"/>
          </a:xfrm>
          <a:prstGeom prst="rect">
            <a:avLst/>
          </a:prstGeom>
          <a:ln w="0">
            <a:noFill/>
          </a:ln>
        </p:spPr>
      </p:pic>
      <p:sp>
        <p:nvSpPr>
          <p:cNvPr id="522" name="文本框 33803"/>
          <p:cNvSpPr/>
          <p:nvPr/>
        </p:nvSpPr>
        <p:spPr>
          <a:xfrm>
            <a:off x="828720" y="2602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6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525" name="直接连接符 8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1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12"/>
          <p:cNvGrpSpPr/>
          <p:nvPr/>
        </p:nvGrpSpPr>
        <p:grpSpPr>
          <a:xfrm>
            <a:off x="4572000" y="2851920"/>
            <a:ext cx="2808360" cy="3405960"/>
            <a:chOff x="4572000" y="2851920"/>
            <a:chExt cx="2808360" cy="3405960"/>
          </a:xfrm>
        </p:grpSpPr>
        <p:sp>
          <p:nvSpPr>
            <p:cNvPr id="530" name="TextBox 19"/>
            <p:cNvSpPr/>
            <p:nvPr/>
          </p:nvSpPr>
          <p:spPr>
            <a:xfrm>
              <a:off x="4572000" y="29228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过量使用药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4572000" y="3384720"/>
              <a:ext cx="2448360" cy="360"/>
              <a:chOff x="4572000" y="3384720"/>
              <a:chExt cx="2448360" cy="360"/>
            </a:xfrm>
          </p:grpSpPr>
          <p:sp>
            <p:nvSpPr>
              <p:cNvPr id="532" name="直接连接符 18"/>
              <p:cNvSpPr/>
              <p:nvPr/>
            </p:nvSpPr>
            <p:spPr>
              <a:xfrm>
                <a:off x="4572000" y="3384720"/>
                <a:ext cx="2448360" cy="0"/>
              </a:xfrm>
              <a:prstGeom prst="line">
                <a:avLst/>
              </a:prstGeom>
              <a:ln w="1908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 txBox="1"/>
              <p:nvPr/>
            </p:nvSpPr>
            <p:spPr>
              <a:xfrm>
                <a:off x="4572000" y="3384720"/>
                <a:ext cx="244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4572000" y="2851920"/>
              <a:ext cx="360" cy="2506680"/>
              <a:chOff x="4572000" y="2851920"/>
              <a:chExt cx="360" cy="2506680"/>
            </a:xfrm>
          </p:grpSpPr>
          <p:sp>
            <p:nvSpPr>
              <p:cNvPr id="535" name="直接连接符 21"/>
              <p:cNvSpPr/>
              <p:nvPr/>
            </p:nvSpPr>
            <p:spPr>
              <a:xfrm>
                <a:off x="4572000" y="2851920"/>
                <a:ext cx="0" cy="250596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>
                <a:off x="4572000" y="2852640"/>
                <a:ext cx="360" cy="250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Box 23"/>
            <p:cNvSpPr/>
            <p:nvPr/>
          </p:nvSpPr>
          <p:spPr>
            <a:xfrm>
              <a:off x="4572000" y="3420720"/>
              <a:ext cx="2808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心脑血管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消炎镇痛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补肾壮阳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避孕药、抗生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减肥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Picture 3" descr="C:\Documents and Settings\lin\桌面\图片1.jpg"/>
          <p:cNvPicPr/>
          <p:nvPr/>
        </p:nvPicPr>
        <p:blipFill>
          <a:blip r:embed="rId1"/>
          <a:srcRect l="13594" t="0" r="16329" b="0"/>
          <a:stretch/>
        </p:blipFill>
        <p:spPr>
          <a:xfrm>
            <a:off x="826920" y="2046240"/>
            <a:ext cx="3708720" cy="3975120"/>
          </a:xfrm>
          <a:prstGeom prst="rect">
            <a:avLst/>
          </a:prstGeom>
          <a:ln w="0">
            <a:noFill/>
          </a:ln>
        </p:spPr>
      </p:pic>
      <p:grpSp>
        <p:nvGrpSpPr>
          <p:cNvPr id="539" name="组合 22"/>
          <p:cNvGrpSpPr/>
          <p:nvPr/>
        </p:nvGrpSpPr>
        <p:grpSpPr>
          <a:xfrm>
            <a:off x="250920" y="5492880"/>
            <a:ext cx="512640" cy="528480"/>
            <a:chOff x="250920" y="5492880"/>
            <a:chExt cx="512640" cy="528480"/>
          </a:xfrm>
        </p:grpSpPr>
        <p:sp>
          <p:nvSpPr>
            <p:cNvPr id="540" name="右箭头 14"/>
            <p:cNvSpPr/>
            <p:nvPr/>
          </p:nvSpPr>
          <p:spPr>
            <a:xfrm>
              <a:off x="250920" y="5492880"/>
              <a:ext cx="5126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1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371520" y="5620320"/>
              <a:ext cx="271440" cy="27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圆角矩形 1"/>
          <p:cNvSpPr/>
          <p:nvPr/>
        </p:nvSpPr>
        <p:spPr>
          <a:xfrm>
            <a:off x="250920" y="808200"/>
            <a:ext cx="3255840" cy="57600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现代人更易得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448080" y="1384200"/>
            <a:ext cx="1700280" cy="360"/>
            <a:chOff x="3448080" y="1384200"/>
            <a:chExt cx="1700280" cy="360"/>
          </a:xfrm>
        </p:grpSpPr>
        <p:sp>
          <p:nvSpPr>
            <p:cNvPr id="544" name="直接连接符 8"/>
            <p:cNvSpPr/>
            <p:nvPr/>
          </p:nvSpPr>
          <p:spPr>
            <a:xfrm>
              <a:off x="3448080" y="1384200"/>
              <a:ext cx="1700280" cy="0"/>
            </a:xfrm>
            <a:prstGeom prst="line">
              <a:avLst/>
            </a:prstGeom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3448080" y="1384200"/>
              <a:ext cx="170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矩形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1"/>
          <p:cNvSpPr/>
          <p:nvPr/>
        </p:nvSpPr>
        <p:spPr>
          <a:xfrm>
            <a:off x="3492360" y="83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部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12"/>
          <p:cNvGrpSpPr/>
          <p:nvPr/>
        </p:nvGrpSpPr>
        <p:grpSpPr>
          <a:xfrm>
            <a:off x="4572000" y="2851920"/>
            <a:ext cx="2808360" cy="3405960"/>
            <a:chOff x="4572000" y="2851920"/>
            <a:chExt cx="2808360" cy="3405960"/>
          </a:xfrm>
        </p:grpSpPr>
        <p:sp>
          <p:nvSpPr>
            <p:cNvPr id="549" name="TextBox 19"/>
            <p:cNvSpPr/>
            <p:nvPr/>
          </p:nvSpPr>
          <p:spPr>
            <a:xfrm>
              <a:off x="4572000" y="292284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过量使用药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572000" y="3384720"/>
              <a:ext cx="2448360" cy="360"/>
              <a:chOff x="4572000" y="3384720"/>
              <a:chExt cx="2448360" cy="360"/>
            </a:xfrm>
          </p:grpSpPr>
          <p:sp>
            <p:nvSpPr>
              <p:cNvPr id="551" name="直接连接符 18"/>
              <p:cNvSpPr/>
              <p:nvPr/>
            </p:nvSpPr>
            <p:spPr>
              <a:xfrm>
                <a:off x="4572000" y="3384720"/>
                <a:ext cx="2448360" cy="0"/>
              </a:xfrm>
              <a:prstGeom prst="line">
                <a:avLst/>
              </a:prstGeom>
              <a:ln w="1908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 txBox="1"/>
              <p:nvPr/>
            </p:nvSpPr>
            <p:spPr>
              <a:xfrm>
                <a:off x="4572000" y="3384720"/>
                <a:ext cx="244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4572000" y="2851920"/>
              <a:ext cx="360" cy="2506680"/>
              <a:chOff x="4572000" y="2851920"/>
              <a:chExt cx="360" cy="2506680"/>
            </a:xfrm>
          </p:grpSpPr>
          <p:sp>
            <p:nvSpPr>
              <p:cNvPr id="554" name="直接连接符 21"/>
              <p:cNvSpPr/>
              <p:nvPr/>
            </p:nvSpPr>
            <p:spPr>
              <a:xfrm>
                <a:off x="4572000" y="2851920"/>
                <a:ext cx="0" cy="2505960"/>
              </a:xfrm>
              <a:prstGeom prst="line">
                <a:avLst/>
              </a:prstGeom>
              <a:ln w="19080">
                <a:solidFill>
                  <a:srgbClr val="0070c0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 txBox="1"/>
              <p:nvPr/>
            </p:nvSpPr>
            <p:spPr>
              <a:xfrm>
                <a:off x="4572000" y="2852640"/>
                <a:ext cx="360" cy="250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TextBox 23"/>
            <p:cNvSpPr/>
            <p:nvPr/>
          </p:nvSpPr>
          <p:spPr>
            <a:xfrm>
              <a:off x="4572000" y="3420720"/>
              <a:ext cx="2808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心脑血管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消炎镇痛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补肾壮阳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避孕药、抗生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减肥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7" name="Picture 3" descr="C:\Documents and Settings\lin\桌面\图片1.jpg"/>
          <p:cNvPicPr/>
          <p:nvPr/>
        </p:nvPicPr>
        <p:blipFill>
          <a:blip r:embed="rId1"/>
          <a:srcRect l="13594" t="0" r="16329" b="0"/>
          <a:stretch/>
        </p:blipFill>
        <p:spPr>
          <a:xfrm>
            <a:off x="826920" y="2046240"/>
            <a:ext cx="3708720" cy="39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dur="indefinite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dur="indefinite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in">
                                      <p:cBhvr additive="repl">
                                        <p:cTn id="7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组合 13"/>
          <p:cNvGrpSpPr/>
          <p:nvPr/>
        </p:nvGrpSpPr>
        <p:grpSpPr>
          <a:xfrm>
            <a:off x="-3254400" y="836640"/>
            <a:ext cx="6761160" cy="576360"/>
            <a:chOff x="-3254400" y="836640"/>
            <a:chExt cx="6761160" cy="576360"/>
          </a:xfrm>
        </p:grpSpPr>
        <p:sp>
          <p:nvSpPr>
            <p:cNvPr id="559" name="圆角矩形 1"/>
            <p:cNvSpPr/>
            <p:nvPr/>
          </p:nvSpPr>
          <p:spPr>
            <a:xfrm>
              <a:off x="252000" y="836640"/>
              <a:ext cx="3254760" cy="5763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255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现代人更易得肾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圆角矩形 12"/>
            <p:cNvSpPr/>
            <p:nvPr/>
          </p:nvSpPr>
          <p:spPr>
            <a:xfrm>
              <a:off x="-3254400" y="836640"/>
              <a:ext cx="3254760" cy="5763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肾病严重危害健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矩形 15"/>
          <p:cNvSpPr/>
          <p:nvPr/>
        </p:nvSpPr>
        <p:spPr>
          <a:xfrm>
            <a:off x="0" y="-961920"/>
            <a:ext cx="9144000" cy="17715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50289E-006 L 0.48628 1.50289E-006 E">
                                      <p:cBhvr>
                                        <p:cTn id="771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dur="indefinite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in">
                                      <p:cBhvr additive="repl">
                                        <p:cTn id="77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82659E-007 L 0 0.11214 E">
                                      <p:cBhvr>
                                        <p:cTn id="778" dur="5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5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组合 16"/>
          <p:cNvGrpSpPr/>
          <p:nvPr/>
        </p:nvGrpSpPr>
        <p:grpSpPr>
          <a:xfrm>
            <a:off x="0" y="2276640"/>
            <a:ext cx="9144000" cy="4640040"/>
            <a:chOff x="0" y="2276640"/>
            <a:chExt cx="9144000" cy="4640040"/>
          </a:xfrm>
        </p:grpSpPr>
        <p:sp>
          <p:nvSpPr>
            <p:cNvPr id="564" name="右箭头 7"/>
            <p:cNvSpPr/>
            <p:nvPr/>
          </p:nvSpPr>
          <p:spPr>
            <a:xfrm>
              <a:off x="0" y="2276640"/>
              <a:ext cx="9144000" cy="464004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00416f"/>
                </a:gs>
                <a:gs pos="100000">
                  <a:srgbClr val="007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9"/>
            <p:cNvSpPr/>
            <p:nvPr/>
          </p:nvSpPr>
          <p:spPr>
            <a:xfrm>
              <a:off x="637236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如何保护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10"/>
            <p:cNvSpPr/>
            <p:nvPr/>
          </p:nvSpPr>
          <p:spPr>
            <a:xfrm>
              <a:off x="23652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什么是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右箭头 18"/>
          <p:cNvSpPr/>
          <p:nvPr/>
        </p:nvSpPr>
        <p:spPr>
          <a:xfrm>
            <a:off x="0" y="2276640"/>
            <a:ext cx="9144000" cy="464004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19"/>
          <p:cNvSpPr/>
          <p:nvPr/>
        </p:nvSpPr>
        <p:spPr>
          <a:xfrm>
            <a:off x="6372360" y="365904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20"/>
          <p:cNvSpPr/>
          <p:nvPr/>
        </p:nvSpPr>
        <p:spPr>
          <a:xfrm>
            <a:off x="236520" y="365904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任意多边形 4"/>
          <p:cNvSpPr/>
          <p:nvPr/>
        </p:nvSpPr>
        <p:spPr>
          <a:xfrm>
            <a:off x="337644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为什么要保护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组合 26"/>
          <p:cNvGrpSpPr/>
          <p:nvPr/>
        </p:nvGrpSpPr>
        <p:grpSpPr>
          <a:xfrm>
            <a:off x="-7920" y="2262240"/>
            <a:ext cx="9144000" cy="4640040"/>
            <a:chOff x="-7920" y="2262240"/>
            <a:chExt cx="9144000" cy="4640040"/>
          </a:xfrm>
        </p:grpSpPr>
        <p:sp>
          <p:nvSpPr>
            <p:cNvPr id="572" name="右箭头 27"/>
            <p:cNvSpPr/>
            <p:nvPr/>
          </p:nvSpPr>
          <p:spPr>
            <a:xfrm>
              <a:off x="-7920" y="2262240"/>
              <a:ext cx="9144000" cy="464004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00416f"/>
                </a:gs>
                <a:gs pos="100000">
                  <a:srgbClr val="007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28"/>
            <p:cNvSpPr/>
            <p:nvPr/>
          </p:nvSpPr>
          <p:spPr>
            <a:xfrm>
              <a:off x="22860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什么是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29"/>
            <p:cNvSpPr/>
            <p:nvPr/>
          </p:nvSpPr>
          <p:spPr>
            <a:xfrm>
              <a:off x="336852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为什么要保护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800"/>
                            </p:stCondLst>
                            <p:childTnLst>
                              <p:par>
                                <p:cTn id="7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801"/>
                            </p:stCondLst>
                            <p:childTnLst>
                              <p:par>
                                <p:cTn id="80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802"/>
                            </p:stCondLst>
                            <p:childTnLst>
                              <p:par>
                                <p:cTn id="80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89017E-007 L -8.33333E-007 0.42913 E">
                                      <p:cBhvr>
                                        <p:cTn id="805" dur="5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12139E-006 L 5E-006 -0.43075 E">
                                      <p:cBhvr>
                                        <p:cTn id="807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302"/>
                            </p:stCondLst>
                            <p:childTnLst>
                              <p:par>
                                <p:cTn id="80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303"/>
                            </p:stCondLst>
                            <p:childTnLst>
                              <p:par>
                                <p:cTn id="8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304"/>
                            </p:stCondLst>
                            <p:childTnLst>
                              <p:par>
                                <p:cTn id="819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8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任意多边形 10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1"/>
          <p:cNvSpPr/>
          <p:nvPr/>
        </p:nvSpPr>
        <p:spPr>
          <a:xfrm>
            <a:off x="2987640" y="342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做到以下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双括号 15"/>
          <p:cNvSpPr/>
          <p:nvPr/>
        </p:nvSpPr>
        <p:spPr>
          <a:xfrm>
            <a:off x="2987640" y="3429000"/>
            <a:ext cx="3168720" cy="576360"/>
          </a:xfrm>
          <a:prstGeom prst="bracketPair">
            <a:avLst>
              <a:gd name="adj" fmla="val 16666"/>
            </a:avLst>
          </a:prstGeom>
          <a:noFill/>
          <a:ln w="572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22"/>
          <p:cNvGrpSpPr/>
          <p:nvPr/>
        </p:nvGrpSpPr>
        <p:grpSpPr>
          <a:xfrm>
            <a:off x="8523360" y="4005360"/>
            <a:ext cx="512640" cy="528480"/>
            <a:chOff x="8523360" y="4005360"/>
            <a:chExt cx="512640" cy="528480"/>
          </a:xfrm>
        </p:grpSpPr>
        <p:sp>
          <p:nvSpPr>
            <p:cNvPr id="580" name="右箭头 19"/>
            <p:cNvSpPr/>
            <p:nvPr/>
          </p:nvSpPr>
          <p:spPr>
            <a:xfrm>
              <a:off x="8523360" y="4005360"/>
              <a:ext cx="5126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8643960" y="4132800"/>
              <a:ext cx="271440" cy="27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5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700"/>
                            </p:stCondLst>
                            <p:childTnLst>
                              <p:par>
                                <p:cTn id="8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C:\Documents and Settings\lin\桌面\无标题2.bmp"/>
          <p:cNvPicPr/>
          <p:nvPr/>
        </p:nvPicPr>
        <p:blipFill>
          <a:blip r:embed="rId1"/>
          <a:stretch/>
        </p:blipFill>
        <p:spPr>
          <a:xfrm>
            <a:off x="1246320" y="1700280"/>
            <a:ext cx="3325680" cy="4321080"/>
          </a:xfrm>
          <a:prstGeom prst="rect">
            <a:avLst/>
          </a:prstGeom>
          <a:ln w="0">
            <a:noFill/>
          </a:ln>
        </p:spPr>
      </p:pic>
      <p:sp>
        <p:nvSpPr>
          <p:cNvPr id="584" name="任意多边形 5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组合 8"/>
          <p:cNvGrpSpPr/>
          <p:nvPr/>
        </p:nvGrpSpPr>
        <p:grpSpPr>
          <a:xfrm>
            <a:off x="4500720" y="2394000"/>
            <a:ext cx="2376360" cy="1312920"/>
            <a:chOff x="4500720" y="2394000"/>
            <a:chExt cx="2376360" cy="1312920"/>
          </a:xfrm>
        </p:grpSpPr>
        <p:sp>
          <p:nvSpPr>
            <p:cNvPr id="586" name="TextBox 6"/>
            <p:cNvSpPr/>
            <p:nvPr/>
          </p:nvSpPr>
          <p:spPr>
            <a:xfrm>
              <a:off x="4500720" y="2394000"/>
              <a:ext cx="237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rs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Box 7"/>
            <p:cNvSpPr/>
            <p:nvPr/>
          </p:nvSpPr>
          <p:spPr>
            <a:xfrm flipH="1">
              <a:off x="4932720" y="2637000"/>
              <a:ext cx="15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多饮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TextBox 9"/>
          <p:cNvSpPr/>
          <p:nvPr/>
        </p:nvSpPr>
        <p:spPr>
          <a:xfrm>
            <a:off x="457200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降低毒物浓度，促进废物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590" name="右箭头 11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500"/>
                            </p:stCondLst>
                            <p:childTnLst>
                              <p:par>
                                <p:cTn id="86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任意多边形 5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6"/>
          <p:cNvGrpSpPr/>
          <p:nvPr/>
        </p:nvGrpSpPr>
        <p:grpSpPr>
          <a:xfrm>
            <a:off x="4500720" y="2394000"/>
            <a:ext cx="3671640" cy="1312920"/>
            <a:chOff x="4500720" y="2394000"/>
            <a:chExt cx="3671640" cy="1312920"/>
          </a:xfrm>
        </p:grpSpPr>
        <p:sp>
          <p:nvSpPr>
            <p:cNvPr id="595" name="TextBox 7"/>
            <p:cNvSpPr/>
            <p:nvPr/>
          </p:nvSpPr>
          <p:spPr>
            <a:xfrm>
              <a:off x="4500720" y="2394000"/>
              <a:ext cx="237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co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8"/>
            <p:cNvSpPr/>
            <p:nvPr/>
          </p:nvSpPr>
          <p:spPr>
            <a:xfrm flipH="1">
              <a:off x="4932360" y="26370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别用饮料代替开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Box 9"/>
          <p:cNvSpPr/>
          <p:nvPr/>
        </p:nvSpPr>
        <p:spPr>
          <a:xfrm>
            <a:off x="457200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导致血压上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C:\Documents and Settings\lin\桌面\无标题6.bmp"/>
          <p:cNvPicPr/>
          <p:nvPr/>
        </p:nvPicPr>
        <p:blipFill>
          <a:blip r:embed="rId1"/>
          <a:stretch/>
        </p:blipFill>
        <p:spPr>
          <a:xfrm>
            <a:off x="826920" y="2124000"/>
            <a:ext cx="3745080" cy="3897360"/>
          </a:xfrm>
          <a:prstGeom prst="rect">
            <a:avLst/>
          </a:prstGeom>
          <a:ln w="0">
            <a:noFill/>
          </a:ln>
        </p:spPr>
      </p:pic>
      <p:grpSp>
        <p:nvGrpSpPr>
          <p:cNvPr id="599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600" name="右箭头 12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任意多边形 4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605" name="右箭头 6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组合 8"/>
          <p:cNvGrpSpPr/>
          <p:nvPr/>
        </p:nvGrpSpPr>
        <p:grpSpPr>
          <a:xfrm>
            <a:off x="4500720" y="2394000"/>
            <a:ext cx="3744360" cy="1312920"/>
            <a:chOff x="4500720" y="2394000"/>
            <a:chExt cx="3744360" cy="1312920"/>
          </a:xfrm>
        </p:grpSpPr>
        <p:sp>
          <p:nvSpPr>
            <p:cNvPr id="608" name="TextBox 9"/>
            <p:cNvSpPr/>
            <p:nvPr/>
          </p:nvSpPr>
          <p:spPr>
            <a:xfrm>
              <a:off x="4500720" y="2394000"/>
              <a:ext cx="237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hir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10"/>
            <p:cNvSpPr/>
            <p:nvPr/>
          </p:nvSpPr>
          <p:spPr>
            <a:xfrm flipH="1">
              <a:off x="5004360" y="2637000"/>
              <a:ext cx="32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少饮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Box 11"/>
          <p:cNvSpPr/>
          <p:nvPr/>
        </p:nvSpPr>
        <p:spPr>
          <a:xfrm>
            <a:off x="457200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会使尿酸沉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13"/>
          <p:cNvGrpSpPr/>
          <p:nvPr/>
        </p:nvGrpSpPr>
        <p:grpSpPr>
          <a:xfrm>
            <a:off x="1197000" y="1773360"/>
            <a:ext cx="3265560" cy="4248000"/>
            <a:chOff x="1197000" y="1773360"/>
            <a:chExt cx="3265560" cy="4248000"/>
          </a:xfrm>
        </p:grpSpPr>
        <p:pic>
          <p:nvPicPr>
            <p:cNvPr id="612" name="Picture 4" descr="D:\PPT\图片\国外酒类包装精品（100P)\6.jpg"/>
            <p:cNvPicPr/>
            <p:nvPr/>
          </p:nvPicPr>
          <p:blipFill>
            <a:blip r:embed="rId2"/>
            <a:stretch/>
          </p:blipFill>
          <p:spPr>
            <a:xfrm>
              <a:off x="1197000" y="1773360"/>
              <a:ext cx="326556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十字形 12"/>
            <p:cNvSpPr/>
            <p:nvPr/>
          </p:nvSpPr>
          <p:spPr>
            <a:xfrm rot="18885600">
              <a:off x="1972080" y="3279960"/>
              <a:ext cx="1715040" cy="1715760"/>
            </a:xfrm>
            <a:prstGeom prst="plus">
              <a:avLst>
                <a:gd name="adj" fmla="val 41204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22"/>
          <p:cNvGrpSpPr/>
          <p:nvPr/>
        </p:nvGrpSpPr>
        <p:grpSpPr>
          <a:xfrm>
            <a:off x="0" y="2276640"/>
            <a:ext cx="9144000" cy="4640040"/>
            <a:chOff x="0" y="2276640"/>
            <a:chExt cx="9144000" cy="4640040"/>
          </a:xfrm>
        </p:grpSpPr>
        <p:sp>
          <p:nvSpPr>
            <p:cNvPr id="111" name="右箭头 4"/>
            <p:cNvSpPr/>
            <p:nvPr/>
          </p:nvSpPr>
          <p:spPr>
            <a:xfrm>
              <a:off x="0" y="2276640"/>
              <a:ext cx="9144000" cy="464004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00416f"/>
                </a:gs>
                <a:gs pos="100000">
                  <a:srgbClr val="007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6"/>
            <p:cNvSpPr/>
            <p:nvPr/>
          </p:nvSpPr>
          <p:spPr>
            <a:xfrm>
              <a:off x="334080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为什么要保护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13"/>
            <p:cNvSpPr/>
            <p:nvPr/>
          </p:nvSpPr>
          <p:spPr>
            <a:xfrm>
              <a:off x="637236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如何保护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5"/>
            <p:cNvSpPr/>
            <p:nvPr/>
          </p:nvSpPr>
          <p:spPr>
            <a:xfrm>
              <a:off x="23652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什么是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8"/>
          <p:cNvGrpSpPr/>
          <p:nvPr/>
        </p:nvGrpSpPr>
        <p:grpSpPr>
          <a:xfrm>
            <a:off x="34920" y="2276640"/>
            <a:ext cx="9144000" cy="4640040"/>
            <a:chOff x="34920" y="2276640"/>
            <a:chExt cx="9144000" cy="4640040"/>
          </a:xfrm>
        </p:grpSpPr>
        <p:sp>
          <p:nvSpPr>
            <p:cNvPr id="116" name="右箭头 24"/>
            <p:cNvSpPr/>
            <p:nvPr/>
          </p:nvSpPr>
          <p:spPr>
            <a:xfrm>
              <a:off x="34920" y="2276640"/>
              <a:ext cx="9144000" cy="464004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00416f"/>
                </a:gs>
                <a:gs pos="100000">
                  <a:srgbClr val="007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25"/>
            <p:cNvSpPr/>
            <p:nvPr/>
          </p:nvSpPr>
          <p:spPr>
            <a:xfrm>
              <a:off x="337572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为什么要保护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26"/>
            <p:cNvSpPr/>
            <p:nvPr/>
          </p:nvSpPr>
          <p:spPr>
            <a:xfrm>
              <a:off x="640728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如何保护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任意多边形 27"/>
          <p:cNvSpPr/>
          <p:nvPr/>
        </p:nvSpPr>
        <p:spPr>
          <a:xfrm>
            <a:off x="272880" y="365904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1"/>
                            </p:stCondLst>
                            <p:childTnLst>
                              <p:par>
                                <p:cTn id="119" dur="indefinite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3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601"/>
                            </p:stCondLst>
                            <p:childTnLst>
                              <p:par>
                                <p:cTn id="124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12139E-006 L -1.11111E-006 -0.43075 E">
                                      <p:cBhvr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D:\PPT\图片\精选39\精选39（www.rapidbbs.cn） (1).jpg"/>
          <p:cNvPicPr/>
          <p:nvPr/>
        </p:nvPicPr>
        <p:blipFill>
          <a:blip r:embed="rId1"/>
          <a:stretch/>
        </p:blipFill>
        <p:spPr>
          <a:xfrm>
            <a:off x="1332000" y="170172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616" name="任意多边形 4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618" name="右箭头 6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9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组合 8"/>
          <p:cNvGrpSpPr/>
          <p:nvPr/>
        </p:nvGrpSpPr>
        <p:grpSpPr>
          <a:xfrm>
            <a:off x="4500720" y="2394000"/>
            <a:ext cx="3671640" cy="1312920"/>
            <a:chOff x="4500720" y="2394000"/>
            <a:chExt cx="3671640" cy="1312920"/>
          </a:xfrm>
        </p:grpSpPr>
        <p:sp>
          <p:nvSpPr>
            <p:cNvPr id="621" name="TextBox 9"/>
            <p:cNvSpPr/>
            <p:nvPr/>
          </p:nvSpPr>
          <p:spPr>
            <a:xfrm>
              <a:off x="4500720" y="2394000"/>
              <a:ext cx="237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our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10"/>
            <p:cNvSpPr/>
            <p:nvPr/>
          </p:nvSpPr>
          <p:spPr>
            <a:xfrm flipH="1">
              <a:off x="4932360" y="26370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积极控制血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TextBox 11"/>
          <p:cNvSpPr/>
          <p:nvPr/>
        </p:nvSpPr>
        <p:spPr>
          <a:xfrm>
            <a:off x="457200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密切关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C:\Documents and Settings\lin\桌面\QQ截图未命名.png"/>
          <p:cNvPicPr/>
          <p:nvPr/>
        </p:nvPicPr>
        <p:blipFill>
          <a:blip r:embed="rId1"/>
          <a:stretch/>
        </p:blipFill>
        <p:spPr>
          <a:xfrm>
            <a:off x="826920" y="2600280"/>
            <a:ext cx="3673800" cy="3421080"/>
          </a:xfrm>
          <a:prstGeom prst="rect">
            <a:avLst/>
          </a:prstGeom>
          <a:ln w="0">
            <a:noFill/>
          </a:ln>
        </p:spPr>
      </p:pic>
      <p:sp>
        <p:nvSpPr>
          <p:cNvPr id="626" name="任意多边形 6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628" name="右箭头 8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9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" name="组合 10"/>
          <p:cNvGrpSpPr/>
          <p:nvPr/>
        </p:nvGrpSpPr>
        <p:grpSpPr>
          <a:xfrm>
            <a:off x="4500720" y="2394000"/>
            <a:ext cx="3671640" cy="1312920"/>
            <a:chOff x="4500720" y="2394000"/>
            <a:chExt cx="3671640" cy="1312920"/>
          </a:xfrm>
        </p:grpSpPr>
        <p:sp>
          <p:nvSpPr>
            <p:cNvPr id="631" name="TextBox 11"/>
            <p:cNvSpPr/>
            <p:nvPr/>
          </p:nvSpPr>
          <p:spPr>
            <a:xfrm>
              <a:off x="4500720" y="2394000"/>
              <a:ext cx="237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f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12"/>
            <p:cNvSpPr/>
            <p:nvPr/>
          </p:nvSpPr>
          <p:spPr>
            <a:xfrm flipH="1">
              <a:off x="4932360" y="26370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护肾的食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TextBox 13"/>
          <p:cNvSpPr/>
          <p:nvPr/>
        </p:nvSpPr>
        <p:spPr>
          <a:xfrm>
            <a:off x="457200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韭菜，海参，人参，乌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家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3" descr="C:\Documents and Settings\lin\桌面\锐普数千商务PPT图片-钟表时间\锐普论坛实用商务PPT图片-钟表时间 (13).jpg"/>
          <p:cNvPicPr/>
          <p:nvPr/>
        </p:nvPicPr>
        <p:blipFill>
          <a:blip r:embed="rId1"/>
          <a:stretch/>
        </p:blipFill>
        <p:spPr>
          <a:xfrm>
            <a:off x="826920" y="2276640"/>
            <a:ext cx="3745080" cy="3744720"/>
          </a:xfrm>
          <a:prstGeom prst="rect">
            <a:avLst/>
          </a:prstGeom>
          <a:ln w="0">
            <a:noFill/>
          </a:ln>
        </p:spPr>
      </p:pic>
      <p:sp>
        <p:nvSpPr>
          <p:cNvPr id="636" name="任意多边形 4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638" name="右箭头 6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组合 8"/>
          <p:cNvGrpSpPr/>
          <p:nvPr/>
        </p:nvGrpSpPr>
        <p:grpSpPr>
          <a:xfrm>
            <a:off x="4500720" y="2394000"/>
            <a:ext cx="3671640" cy="1312920"/>
            <a:chOff x="4500720" y="2394000"/>
            <a:chExt cx="3671640" cy="1312920"/>
          </a:xfrm>
        </p:grpSpPr>
        <p:sp>
          <p:nvSpPr>
            <p:cNvPr id="641" name="TextBox 9"/>
            <p:cNvSpPr/>
            <p:nvPr/>
          </p:nvSpPr>
          <p:spPr>
            <a:xfrm>
              <a:off x="4500720" y="2394000"/>
              <a:ext cx="237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x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10"/>
            <p:cNvSpPr/>
            <p:nvPr/>
          </p:nvSpPr>
          <p:spPr>
            <a:xfrm flipH="1">
              <a:off x="4932360" y="26370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充足的睡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TextBox 11"/>
          <p:cNvSpPr/>
          <p:nvPr/>
        </p:nvSpPr>
        <p:spPr>
          <a:xfrm>
            <a:off x="457200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利于肾脏排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C:\Documents and Settings\lin\桌面\94985911.jpg"/>
          <p:cNvPicPr/>
          <p:nvPr/>
        </p:nvPicPr>
        <p:blipFill>
          <a:blip r:embed="rId1"/>
          <a:srcRect l="0" t="0" r="19228" b="0"/>
          <a:stretch/>
        </p:blipFill>
        <p:spPr>
          <a:xfrm>
            <a:off x="826920" y="2600280"/>
            <a:ext cx="3745080" cy="3133800"/>
          </a:xfrm>
          <a:prstGeom prst="rect">
            <a:avLst/>
          </a:prstGeom>
          <a:ln w="0">
            <a:noFill/>
          </a:ln>
        </p:spPr>
      </p:pic>
      <p:sp>
        <p:nvSpPr>
          <p:cNvPr id="646" name="任意多边形 5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648" name="右箭头 7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9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组合 9"/>
          <p:cNvGrpSpPr/>
          <p:nvPr/>
        </p:nvGrpSpPr>
        <p:grpSpPr>
          <a:xfrm>
            <a:off x="4500720" y="2394000"/>
            <a:ext cx="3671640" cy="1312920"/>
            <a:chOff x="4500720" y="2394000"/>
            <a:chExt cx="3671640" cy="1312920"/>
          </a:xfrm>
        </p:grpSpPr>
        <p:sp>
          <p:nvSpPr>
            <p:cNvPr id="651" name="TextBox 10"/>
            <p:cNvSpPr/>
            <p:nvPr/>
          </p:nvSpPr>
          <p:spPr>
            <a:xfrm>
              <a:off x="4500720" y="2394000"/>
              <a:ext cx="237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S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ven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11"/>
            <p:cNvSpPr/>
            <p:nvPr/>
          </p:nvSpPr>
          <p:spPr>
            <a:xfrm flipH="1">
              <a:off x="4932360" y="26370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注意腰部保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TextBox 12"/>
          <p:cNvSpPr/>
          <p:nvPr/>
        </p:nvSpPr>
        <p:spPr>
          <a:xfrm>
            <a:off x="457200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避免风，寒，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C:\Documents and Settings\lin\桌面\健身\MP900431126.JPG"/>
          <p:cNvPicPr/>
          <p:nvPr/>
        </p:nvPicPr>
        <p:blipFill>
          <a:blip r:embed="rId1"/>
          <a:stretch/>
        </p:blipFill>
        <p:spPr>
          <a:xfrm>
            <a:off x="1403280" y="1700280"/>
            <a:ext cx="3168720" cy="4321080"/>
          </a:xfrm>
          <a:prstGeom prst="rect">
            <a:avLst/>
          </a:prstGeom>
          <a:ln w="0">
            <a:noFill/>
          </a:ln>
        </p:spPr>
      </p:pic>
      <p:sp>
        <p:nvSpPr>
          <p:cNvPr id="656" name="任意多边形 5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658" name="右箭头 7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组合 9"/>
          <p:cNvGrpSpPr/>
          <p:nvPr/>
        </p:nvGrpSpPr>
        <p:grpSpPr>
          <a:xfrm>
            <a:off x="4500720" y="2394000"/>
            <a:ext cx="3671640" cy="1312920"/>
            <a:chOff x="4500720" y="2394000"/>
            <a:chExt cx="3671640" cy="1312920"/>
          </a:xfrm>
        </p:grpSpPr>
        <p:sp>
          <p:nvSpPr>
            <p:cNvPr id="661" name="TextBox 10"/>
            <p:cNvSpPr/>
            <p:nvPr/>
          </p:nvSpPr>
          <p:spPr>
            <a:xfrm>
              <a:off x="4500720" y="2394000"/>
              <a:ext cx="237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gh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11"/>
            <p:cNvSpPr/>
            <p:nvPr/>
          </p:nvSpPr>
          <p:spPr>
            <a:xfrm flipH="1">
              <a:off x="4932360" y="26370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常活动腰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TextBox 12"/>
          <p:cNvSpPr/>
          <p:nvPr/>
        </p:nvSpPr>
        <p:spPr>
          <a:xfrm>
            <a:off x="457200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补肾纳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47115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3" descr="C:\Documents and Settings\lin\桌面\无标题.bmp"/>
          <p:cNvPicPr/>
          <p:nvPr/>
        </p:nvPicPr>
        <p:blipFill>
          <a:blip r:embed="rId1"/>
          <a:stretch/>
        </p:blipFill>
        <p:spPr>
          <a:xfrm>
            <a:off x="826920" y="2055960"/>
            <a:ext cx="3745080" cy="3965400"/>
          </a:xfrm>
          <a:prstGeom prst="rect">
            <a:avLst/>
          </a:prstGeom>
          <a:ln w="0">
            <a:noFill/>
          </a:ln>
        </p:spPr>
      </p:pic>
      <p:sp>
        <p:nvSpPr>
          <p:cNvPr id="667" name="任意多边形 6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669" name="右箭头 8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0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1" name="组合 10"/>
          <p:cNvGrpSpPr/>
          <p:nvPr/>
        </p:nvGrpSpPr>
        <p:grpSpPr>
          <a:xfrm>
            <a:off x="4500720" y="2394000"/>
            <a:ext cx="3887280" cy="1312920"/>
            <a:chOff x="4500720" y="2394000"/>
            <a:chExt cx="3887280" cy="1312920"/>
          </a:xfrm>
        </p:grpSpPr>
        <p:sp>
          <p:nvSpPr>
            <p:cNvPr id="672" name="TextBox 11"/>
            <p:cNvSpPr/>
            <p:nvPr/>
          </p:nvSpPr>
          <p:spPr>
            <a:xfrm>
              <a:off x="4500720" y="2394000"/>
              <a:ext cx="2375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N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Box 12"/>
            <p:cNvSpPr/>
            <p:nvPr/>
          </p:nvSpPr>
          <p:spPr>
            <a:xfrm flipH="1">
              <a:off x="5148000" y="2637000"/>
              <a:ext cx="32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正确用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Box 13"/>
          <p:cNvSpPr/>
          <p:nvPr/>
        </p:nvSpPr>
        <p:spPr>
          <a:xfrm>
            <a:off x="457200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磺胺类、卡那霉类、链霉素、庆大霉素药物损害肾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3" descr="C:\Documents and Settings\lin\桌面\表情\MP900442375.JPG"/>
          <p:cNvPicPr/>
          <p:nvPr/>
        </p:nvPicPr>
        <p:blipFill>
          <a:blip r:embed="rId1"/>
          <a:stretch/>
        </p:blipFill>
        <p:spPr>
          <a:xfrm>
            <a:off x="816120" y="1700280"/>
            <a:ext cx="3755880" cy="4321080"/>
          </a:xfrm>
          <a:prstGeom prst="rect">
            <a:avLst/>
          </a:prstGeom>
          <a:ln w="0">
            <a:noFill/>
          </a:ln>
        </p:spPr>
      </p:pic>
      <p:sp>
        <p:nvSpPr>
          <p:cNvPr id="677" name="任意多边形 5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679" name="右箭头 7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0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组合 9"/>
          <p:cNvGrpSpPr/>
          <p:nvPr/>
        </p:nvGrpSpPr>
        <p:grpSpPr>
          <a:xfrm>
            <a:off x="4500720" y="2394000"/>
            <a:ext cx="3744720" cy="1312920"/>
            <a:chOff x="4500720" y="2394000"/>
            <a:chExt cx="3744720" cy="1312920"/>
          </a:xfrm>
        </p:grpSpPr>
        <p:sp>
          <p:nvSpPr>
            <p:cNvPr id="682" name="TextBox 10"/>
            <p:cNvSpPr/>
            <p:nvPr/>
          </p:nvSpPr>
          <p:spPr>
            <a:xfrm>
              <a:off x="4500720" y="2394000"/>
              <a:ext cx="237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T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n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Box 11"/>
            <p:cNvSpPr/>
            <p:nvPr/>
          </p:nvSpPr>
          <p:spPr>
            <a:xfrm flipH="1">
              <a:off x="5004720" y="2637000"/>
              <a:ext cx="32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预防尿路感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Box 12"/>
          <p:cNvSpPr/>
          <p:nvPr/>
        </p:nvSpPr>
        <p:spPr>
          <a:xfrm>
            <a:off x="457200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随着年龄的增长，尿路感染的发病率会逐渐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31"/>
          <p:cNvGrpSpPr/>
          <p:nvPr/>
        </p:nvGrpSpPr>
        <p:grpSpPr>
          <a:xfrm>
            <a:off x="787320" y="3645000"/>
            <a:ext cx="3784680" cy="2376360"/>
            <a:chOff x="787320" y="3645000"/>
            <a:chExt cx="3784680" cy="2376360"/>
          </a:xfrm>
        </p:grpSpPr>
        <p:grpSp>
          <p:nvGrpSpPr>
            <p:cNvPr id="687" name="组合 9"/>
            <p:cNvGrpSpPr/>
            <p:nvPr/>
          </p:nvGrpSpPr>
          <p:grpSpPr>
            <a:xfrm>
              <a:off x="2001240" y="4162680"/>
              <a:ext cx="1369080" cy="1368720"/>
              <a:chOff x="2001240" y="4162680"/>
              <a:chExt cx="1369080" cy="1368720"/>
            </a:xfrm>
          </p:grpSpPr>
          <p:sp>
            <p:nvSpPr>
              <p:cNvPr id="688" name="同心圆 6"/>
              <p:cNvSpPr/>
              <p:nvPr/>
            </p:nvSpPr>
            <p:spPr>
              <a:xfrm>
                <a:off x="2041560" y="4195080"/>
                <a:ext cx="1276200" cy="127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92" y="10800"/>
                    </a:moveTo>
                    <a:cubicBezTo>
                      <a:pt x="2592" y="15333"/>
                      <a:pt x="6267" y="19008"/>
                      <a:pt x="10800" y="19008"/>
                    </a:cubicBezTo>
                    <a:cubicBezTo>
                      <a:pt x="15333" y="19008"/>
                      <a:pt x="19008" y="15333"/>
                      <a:pt x="19008" y="10800"/>
                    </a:cubicBezTo>
                    <a:cubicBezTo>
                      <a:pt x="19008" y="6267"/>
                      <a:pt x="15333" y="2592"/>
                      <a:pt x="10800" y="2592"/>
                    </a:cubicBezTo>
                    <a:cubicBezTo>
                      <a:pt x="6267" y="2592"/>
                      <a:pt x="2592" y="6267"/>
                      <a:pt x="2592" y="1080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十字形 8"/>
              <p:cNvSpPr/>
              <p:nvPr/>
            </p:nvSpPr>
            <p:spPr>
              <a:xfrm rot="18885600">
                <a:off x="2201400" y="4362840"/>
                <a:ext cx="968040" cy="968040"/>
              </a:xfrm>
              <a:prstGeom prst="plus">
                <a:avLst>
                  <a:gd name="adj" fmla="val 41204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组合 12"/>
            <p:cNvGrpSpPr/>
            <p:nvPr/>
          </p:nvGrpSpPr>
          <p:grpSpPr>
            <a:xfrm>
              <a:off x="3295800" y="3799080"/>
              <a:ext cx="1276200" cy="2222280"/>
              <a:chOff x="3295800" y="3799080"/>
              <a:chExt cx="1276200" cy="2222280"/>
            </a:xfrm>
          </p:grpSpPr>
          <p:sp>
            <p:nvSpPr>
              <p:cNvPr id="691" name="同心圆 10"/>
              <p:cNvSpPr/>
              <p:nvPr/>
            </p:nvSpPr>
            <p:spPr>
              <a:xfrm>
                <a:off x="3295800" y="3799080"/>
                <a:ext cx="1276200" cy="127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92" y="10800"/>
                    </a:moveTo>
                    <a:cubicBezTo>
                      <a:pt x="2592" y="15333"/>
                      <a:pt x="6267" y="19008"/>
                      <a:pt x="10800" y="19008"/>
                    </a:cubicBezTo>
                    <a:cubicBezTo>
                      <a:pt x="15333" y="19008"/>
                      <a:pt x="19008" y="15333"/>
                      <a:pt x="19008" y="10800"/>
                    </a:cubicBezTo>
                    <a:cubicBezTo>
                      <a:pt x="19008" y="6267"/>
                      <a:pt x="15333" y="2592"/>
                      <a:pt x="10800" y="2592"/>
                    </a:cubicBezTo>
                    <a:cubicBezTo>
                      <a:pt x="6267" y="2592"/>
                      <a:pt x="2592" y="6267"/>
                      <a:pt x="2592" y="108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2556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十字形 11"/>
              <p:cNvSpPr/>
              <p:nvPr/>
            </p:nvSpPr>
            <p:spPr>
              <a:xfrm>
                <a:off x="3449880" y="5053320"/>
                <a:ext cx="968040" cy="968040"/>
              </a:xfrm>
              <a:prstGeom prst="plus">
                <a:avLst>
                  <a:gd name="adj" fmla="val 41204"/>
                </a:avLst>
              </a:prstGeom>
              <a:solidFill>
                <a:srgbClr val="00b050"/>
              </a:solidFill>
              <a:ln w="2556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组合 30"/>
            <p:cNvGrpSpPr/>
            <p:nvPr/>
          </p:nvGrpSpPr>
          <p:grpSpPr>
            <a:xfrm>
              <a:off x="787320" y="3645000"/>
              <a:ext cx="1276200" cy="2376360"/>
              <a:chOff x="787320" y="3645000"/>
              <a:chExt cx="1276200" cy="2376360"/>
            </a:xfrm>
          </p:grpSpPr>
          <p:grpSp>
            <p:nvGrpSpPr>
              <p:cNvPr id="694" name="组合 29"/>
              <p:cNvGrpSpPr/>
              <p:nvPr/>
            </p:nvGrpSpPr>
            <p:grpSpPr>
              <a:xfrm>
                <a:off x="787320" y="3787560"/>
                <a:ext cx="1276200" cy="2233800"/>
                <a:chOff x="787320" y="3787560"/>
                <a:chExt cx="1276200" cy="2233800"/>
              </a:xfrm>
            </p:grpSpPr>
            <p:sp>
              <p:nvSpPr>
                <p:cNvPr id="695" name="同心圆 15"/>
                <p:cNvSpPr/>
                <p:nvPr/>
              </p:nvSpPr>
              <p:spPr>
                <a:xfrm>
                  <a:off x="787320" y="4745160"/>
                  <a:ext cx="1276200" cy="127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92" y="10800"/>
                      </a:moveTo>
                      <a:cubicBezTo>
                        <a:pt x="2592" y="15333"/>
                        <a:pt x="6267" y="19008"/>
                        <a:pt x="10800" y="19008"/>
                      </a:cubicBezTo>
                      <a:cubicBezTo>
                        <a:pt x="15333" y="19008"/>
                        <a:pt x="19008" y="15333"/>
                        <a:pt x="19008" y="10800"/>
                      </a:cubicBezTo>
                      <a:cubicBezTo>
                        <a:pt x="19008" y="6267"/>
                        <a:pt x="15333" y="2592"/>
                        <a:pt x="10800" y="2592"/>
                      </a:cubicBezTo>
                      <a:cubicBezTo>
                        <a:pt x="6267" y="2592"/>
                        <a:pt x="2592" y="6267"/>
                        <a:pt x="2592" y="10800"/>
                      </a:cubicBezTo>
                      <a:close/>
                    </a:path>
                  </a:pathLst>
                </a:custGeom>
                <a:solidFill>
                  <a:srgbClr val="00b050"/>
                </a:solidFill>
                <a:ln w="25560">
                  <a:solidFill>
                    <a:srgbClr val="00b05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十字形 16"/>
                <p:cNvSpPr/>
                <p:nvPr/>
              </p:nvSpPr>
              <p:spPr>
                <a:xfrm>
                  <a:off x="941400" y="3787560"/>
                  <a:ext cx="968040" cy="968040"/>
                </a:xfrm>
                <a:prstGeom prst="plus">
                  <a:avLst>
                    <a:gd name="adj" fmla="val 41204"/>
                  </a:avLst>
                </a:prstGeom>
                <a:solidFill>
                  <a:srgbClr val="00b050"/>
                </a:solidFill>
                <a:ln w="25560">
                  <a:solidFill>
                    <a:srgbClr val="00b05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28"/>
              <p:cNvGrpSpPr/>
              <p:nvPr/>
            </p:nvGrpSpPr>
            <p:grpSpPr>
              <a:xfrm>
                <a:off x="1073160" y="3645000"/>
                <a:ext cx="754560" cy="402480"/>
                <a:chOff x="1073160" y="3645000"/>
                <a:chExt cx="754560" cy="402480"/>
              </a:xfrm>
            </p:grpSpPr>
            <p:grpSp>
              <p:nvGrpSpPr>
                <p:cNvPr id="698" name=""/>
                <p:cNvGrpSpPr/>
                <p:nvPr/>
              </p:nvGrpSpPr>
              <p:grpSpPr>
                <a:xfrm>
                  <a:off x="1073160" y="3645000"/>
                  <a:ext cx="352080" cy="352080"/>
                  <a:chOff x="1073160" y="3645000"/>
                  <a:chExt cx="352080" cy="352080"/>
                </a:xfrm>
              </p:grpSpPr>
              <p:sp>
                <p:nvSpPr>
                  <p:cNvPr id="699" name="直接连接符 22"/>
                  <p:cNvSpPr/>
                  <p:nvPr/>
                </p:nvSpPr>
                <p:spPr>
                  <a:xfrm flipV="1">
                    <a:off x="1073160" y="3645000"/>
                    <a:ext cx="352080" cy="352080"/>
                  </a:xfrm>
                  <a:prstGeom prst="line">
                    <a:avLst/>
                  </a:prstGeom>
                  <a:ln w="76320">
                    <a:solidFill>
                      <a:srgbClr val="00b05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 txBox="1"/>
                  <p:nvPr/>
                </p:nvSpPr>
                <p:spPr>
                  <a:xfrm rot="16200000">
                    <a:off x="1073160" y="3645000"/>
                    <a:ext cx="352080" cy="352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" name=""/>
                <p:cNvGrpSpPr/>
                <p:nvPr/>
              </p:nvGrpSpPr>
              <p:grpSpPr>
                <a:xfrm>
                  <a:off x="1430640" y="3650760"/>
                  <a:ext cx="397080" cy="396720"/>
                  <a:chOff x="1430640" y="3650760"/>
                  <a:chExt cx="397080" cy="396720"/>
                </a:xfrm>
              </p:grpSpPr>
              <p:sp>
                <p:nvSpPr>
                  <p:cNvPr id="702" name="直接连接符 24"/>
                  <p:cNvSpPr/>
                  <p:nvPr/>
                </p:nvSpPr>
                <p:spPr>
                  <a:xfrm>
                    <a:off x="1430640" y="3650760"/>
                    <a:ext cx="396360" cy="396720"/>
                  </a:xfrm>
                  <a:prstGeom prst="line">
                    <a:avLst/>
                  </a:prstGeom>
                  <a:ln w="76320">
                    <a:solidFill>
                      <a:srgbClr val="00b05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 txBox="1"/>
                  <p:nvPr/>
                </p:nvSpPr>
                <p:spPr>
                  <a:xfrm rot="16200000">
                    <a:off x="1431000" y="3650760"/>
                    <a:ext cx="396720" cy="39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4" name="任意多边形 38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706" name="右箭头 40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7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8" name="组合 42"/>
          <p:cNvGrpSpPr/>
          <p:nvPr/>
        </p:nvGrpSpPr>
        <p:grpSpPr>
          <a:xfrm>
            <a:off x="4500720" y="2394000"/>
            <a:ext cx="3671640" cy="1312920"/>
            <a:chOff x="4500720" y="2394000"/>
            <a:chExt cx="3671640" cy="1312920"/>
          </a:xfrm>
        </p:grpSpPr>
        <p:sp>
          <p:nvSpPr>
            <p:cNvPr id="709" name="TextBox 43"/>
            <p:cNvSpPr/>
            <p:nvPr/>
          </p:nvSpPr>
          <p:spPr>
            <a:xfrm>
              <a:off x="4500720" y="2394000"/>
              <a:ext cx="237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even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Box 44"/>
            <p:cNvSpPr/>
            <p:nvPr/>
          </p:nvSpPr>
          <p:spPr>
            <a:xfrm flipH="1">
              <a:off x="4932360" y="26370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适度性生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TextBox 45"/>
          <p:cNvSpPr/>
          <p:nvPr/>
        </p:nvSpPr>
        <p:spPr>
          <a:xfrm>
            <a:off x="457200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不勉强，不放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矩形 1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组合 31"/>
          <p:cNvGrpSpPr/>
          <p:nvPr/>
        </p:nvGrpSpPr>
        <p:grpSpPr>
          <a:xfrm>
            <a:off x="787320" y="3645000"/>
            <a:ext cx="3784680" cy="2376360"/>
            <a:chOff x="787320" y="3645000"/>
            <a:chExt cx="3784680" cy="2376360"/>
          </a:xfrm>
        </p:grpSpPr>
        <p:grpSp>
          <p:nvGrpSpPr>
            <p:cNvPr id="714" name="组合 9"/>
            <p:cNvGrpSpPr/>
            <p:nvPr/>
          </p:nvGrpSpPr>
          <p:grpSpPr>
            <a:xfrm>
              <a:off x="2001240" y="4162680"/>
              <a:ext cx="1369080" cy="1368720"/>
              <a:chOff x="2001240" y="4162680"/>
              <a:chExt cx="1369080" cy="1368720"/>
            </a:xfrm>
          </p:grpSpPr>
          <p:sp>
            <p:nvSpPr>
              <p:cNvPr id="715" name="同心圆 6"/>
              <p:cNvSpPr/>
              <p:nvPr/>
            </p:nvSpPr>
            <p:spPr>
              <a:xfrm>
                <a:off x="2041560" y="4195080"/>
                <a:ext cx="1276200" cy="127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92" y="10800"/>
                    </a:moveTo>
                    <a:cubicBezTo>
                      <a:pt x="2592" y="15333"/>
                      <a:pt x="6267" y="19008"/>
                      <a:pt x="10800" y="19008"/>
                    </a:cubicBezTo>
                    <a:cubicBezTo>
                      <a:pt x="15333" y="19008"/>
                      <a:pt x="19008" y="15333"/>
                      <a:pt x="19008" y="10800"/>
                    </a:cubicBezTo>
                    <a:cubicBezTo>
                      <a:pt x="19008" y="6267"/>
                      <a:pt x="15333" y="2592"/>
                      <a:pt x="10800" y="2592"/>
                    </a:cubicBezTo>
                    <a:cubicBezTo>
                      <a:pt x="6267" y="2592"/>
                      <a:pt x="2592" y="6267"/>
                      <a:pt x="2592" y="1080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十字形 8"/>
              <p:cNvSpPr/>
              <p:nvPr/>
            </p:nvSpPr>
            <p:spPr>
              <a:xfrm rot="18885600">
                <a:off x="2201400" y="4362840"/>
                <a:ext cx="968040" cy="968040"/>
              </a:xfrm>
              <a:prstGeom prst="plus">
                <a:avLst>
                  <a:gd name="adj" fmla="val 41204"/>
                </a:avLst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组合 12"/>
            <p:cNvGrpSpPr/>
            <p:nvPr/>
          </p:nvGrpSpPr>
          <p:grpSpPr>
            <a:xfrm>
              <a:off x="3295800" y="3799080"/>
              <a:ext cx="1276200" cy="2222280"/>
              <a:chOff x="3295800" y="3799080"/>
              <a:chExt cx="1276200" cy="2222280"/>
            </a:xfrm>
          </p:grpSpPr>
          <p:sp>
            <p:nvSpPr>
              <p:cNvPr id="718" name="同心圆 10"/>
              <p:cNvSpPr/>
              <p:nvPr/>
            </p:nvSpPr>
            <p:spPr>
              <a:xfrm>
                <a:off x="3295800" y="3799080"/>
                <a:ext cx="1276200" cy="1276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92" y="10800"/>
                    </a:moveTo>
                    <a:cubicBezTo>
                      <a:pt x="2592" y="15333"/>
                      <a:pt x="6267" y="19008"/>
                      <a:pt x="10800" y="19008"/>
                    </a:cubicBezTo>
                    <a:cubicBezTo>
                      <a:pt x="15333" y="19008"/>
                      <a:pt x="19008" y="15333"/>
                      <a:pt x="19008" y="10800"/>
                    </a:cubicBezTo>
                    <a:cubicBezTo>
                      <a:pt x="19008" y="6267"/>
                      <a:pt x="15333" y="2592"/>
                      <a:pt x="10800" y="2592"/>
                    </a:cubicBezTo>
                    <a:cubicBezTo>
                      <a:pt x="6267" y="2592"/>
                      <a:pt x="2592" y="6267"/>
                      <a:pt x="2592" y="108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2556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十字形 11"/>
              <p:cNvSpPr/>
              <p:nvPr/>
            </p:nvSpPr>
            <p:spPr>
              <a:xfrm>
                <a:off x="3449880" y="5053320"/>
                <a:ext cx="968040" cy="968040"/>
              </a:xfrm>
              <a:prstGeom prst="plus">
                <a:avLst>
                  <a:gd name="adj" fmla="val 41204"/>
                </a:avLst>
              </a:prstGeom>
              <a:solidFill>
                <a:srgbClr val="00b050"/>
              </a:solidFill>
              <a:ln w="2556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组合 30"/>
            <p:cNvGrpSpPr/>
            <p:nvPr/>
          </p:nvGrpSpPr>
          <p:grpSpPr>
            <a:xfrm>
              <a:off x="787320" y="3645000"/>
              <a:ext cx="1276200" cy="2376360"/>
              <a:chOff x="787320" y="3645000"/>
              <a:chExt cx="1276200" cy="2376360"/>
            </a:xfrm>
          </p:grpSpPr>
          <p:grpSp>
            <p:nvGrpSpPr>
              <p:cNvPr id="721" name="组合 29"/>
              <p:cNvGrpSpPr/>
              <p:nvPr/>
            </p:nvGrpSpPr>
            <p:grpSpPr>
              <a:xfrm>
                <a:off x="787320" y="3787560"/>
                <a:ext cx="1276200" cy="2233800"/>
                <a:chOff x="787320" y="3787560"/>
                <a:chExt cx="1276200" cy="2233800"/>
              </a:xfrm>
            </p:grpSpPr>
            <p:sp>
              <p:nvSpPr>
                <p:cNvPr id="722" name="同心圆 15"/>
                <p:cNvSpPr/>
                <p:nvPr/>
              </p:nvSpPr>
              <p:spPr>
                <a:xfrm>
                  <a:off x="787320" y="4745160"/>
                  <a:ext cx="1276200" cy="127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92" y="10800"/>
                      </a:moveTo>
                      <a:cubicBezTo>
                        <a:pt x="2592" y="15333"/>
                        <a:pt x="6267" y="19008"/>
                        <a:pt x="10800" y="19008"/>
                      </a:cubicBezTo>
                      <a:cubicBezTo>
                        <a:pt x="15333" y="19008"/>
                        <a:pt x="19008" y="15333"/>
                        <a:pt x="19008" y="10800"/>
                      </a:cubicBezTo>
                      <a:cubicBezTo>
                        <a:pt x="19008" y="6267"/>
                        <a:pt x="15333" y="2592"/>
                        <a:pt x="10800" y="2592"/>
                      </a:cubicBezTo>
                      <a:cubicBezTo>
                        <a:pt x="6267" y="2592"/>
                        <a:pt x="2592" y="6267"/>
                        <a:pt x="2592" y="10800"/>
                      </a:cubicBezTo>
                      <a:close/>
                    </a:path>
                  </a:pathLst>
                </a:custGeom>
                <a:solidFill>
                  <a:srgbClr val="00b050"/>
                </a:solidFill>
                <a:ln w="25560">
                  <a:solidFill>
                    <a:srgbClr val="00b05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十字形 16"/>
                <p:cNvSpPr/>
                <p:nvPr/>
              </p:nvSpPr>
              <p:spPr>
                <a:xfrm>
                  <a:off x="941400" y="3787560"/>
                  <a:ext cx="968040" cy="968040"/>
                </a:xfrm>
                <a:prstGeom prst="plus">
                  <a:avLst>
                    <a:gd name="adj" fmla="val 41204"/>
                  </a:avLst>
                </a:prstGeom>
                <a:solidFill>
                  <a:srgbClr val="00b050"/>
                </a:solidFill>
                <a:ln w="25560">
                  <a:solidFill>
                    <a:srgbClr val="00b05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28"/>
              <p:cNvGrpSpPr/>
              <p:nvPr/>
            </p:nvGrpSpPr>
            <p:grpSpPr>
              <a:xfrm>
                <a:off x="1073160" y="3645000"/>
                <a:ext cx="754560" cy="402480"/>
                <a:chOff x="1073160" y="3645000"/>
                <a:chExt cx="754560" cy="402480"/>
              </a:xfrm>
            </p:grpSpPr>
            <p:grpSp>
              <p:nvGrpSpPr>
                <p:cNvPr id="725" name=""/>
                <p:cNvGrpSpPr/>
                <p:nvPr/>
              </p:nvGrpSpPr>
              <p:grpSpPr>
                <a:xfrm>
                  <a:off x="1073160" y="3645000"/>
                  <a:ext cx="352080" cy="352080"/>
                  <a:chOff x="1073160" y="3645000"/>
                  <a:chExt cx="352080" cy="352080"/>
                </a:xfrm>
              </p:grpSpPr>
              <p:sp>
                <p:nvSpPr>
                  <p:cNvPr id="726" name="直接连接符 22"/>
                  <p:cNvSpPr/>
                  <p:nvPr/>
                </p:nvSpPr>
                <p:spPr>
                  <a:xfrm flipV="1">
                    <a:off x="1073160" y="3645000"/>
                    <a:ext cx="352080" cy="352080"/>
                  </a:xfrm>
                  <a:prstGeom prst="line">
                    <a:avLst/>
                  </a:prstGeom>
                  <a:ln w="76320">
                    <a:solidFill>
                      <a:srgbClr val="00b05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 txBox="1"/>
                  <p:nvPr/>
                </p:nvSpPr>
                <p:spPr>
                  <a:xfrm rot="16200000">
                    <a:off x="1073160" y="3645000"/>
                    <a:ext cx="352080" cy="352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1430640" y="3650760"/>
                  <a:ext cx="397080" cy="396720"/>
                  <a:chOff x="1430640" y="3650760"/>
                  <a:chExt cx="397080" cy="396720"/>
                </a:xfrm>
              </p:grpSpPr>
              <p:sp>
                <p:nvSpPr>
                  <p:cNvPr id="729" name="直接连接符 24"/>
                  <p:cNvSpPr/>
                  <p:nvPr/>
                </p:nvSpPr>
                <p:spPr>
                  <a:xfrm>
                    <a:off x="1430640" y="3650760"/>
                    <a:ext cx="396360" cy="396720"/>
                  </a:xfrm>
                  <a:prstGeom prst="line">
                    <a:avLst/>
                  </a:prstGeom>
                  <a:ln w="76320">
                    <a:solidFill>
                      <a:srgbClr val="00b05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 txBox="1"/>
                  <p:nvPr/>
                </p:nvSpPr>
                <p:spPr>
                  <a:xfrm rot="16200000">
                    <a:off x="1431000" y="3650760"/>
                    <a:ext cx="396720" cy="39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31" name="任意多边形 38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合 42"/>
          <p:cNvGrpSpPr/>
          <p:nvPr/>
        </p:nvGrpSpPr>
        <p:grpSpPr>
          <a:xfrm>
            <a:off x="4500720" y="2394000"/>
            <a:ext cx="3671640" cy="1312920"/>
            <a:chOff x="4500720" y="2394000"/>
            <a:chExt cx="3671640" cy="1312920"/>
          </a:xfrm>
        </p:grpSpPr>
        <p:sp>
          <p:nvSpPr>
            <p:cNvPr id="733" name="TextBox 43"/>
            <p:cNvSpPr/>
            <p:nvPr/>
          </p:nvSpPr>
          <p:spPr>
            <a:xfrm>
              <a:off x="4500720" y="2394000"/>
              <a:ext cx="237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even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Box 44"/>
            <p:cNvSpPr/>
            <p:nvPr/>
          </p:nvSpPr>
          <p:spPr>
            <a:xfrm flipH="1">
              <a:off x="4932360" y="263700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适度性生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TextBox 45"/>
          <p:cNvSpPr/>
          <p:nvPr/>
        </p:nvSpPr>
        <p:spPr>
          <a:xfrm>
            <a:off x="4572000" y="3933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不勉强，不放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矩形 4"/>
          <p:cNvSpPr/>
          <p:nvPr/>
        </p:nvSpPr>
        <p:spPr>
          <a:xfrm>
            <a:off x="0" y="-150840"/>
            <a:ext cx="9144000" cy="177336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组合 12"/>
          <p:cNvGrpSpPr/>
          <p:nvPr/>
        </p:nvGrpSpPr>
        <p:grpSpPr>
          <a:xfrm>
            <a:off x="0" y="2276640"/>
            <a:ext cx="9144000" cy="4640040"/>
            <a:chOff x="0" y="2276640"/>
            <a:chExt cx="9144000" cy="4640040"/>
          </a:xfrm>
        </p:grpSpPr>
        <p:sp>
          <p:nvSpPr>
            <p:cNvPr id="738" name="右箭头 8"/>
            <p:cNvSpPr/>
            <p:nvPr/>
          </p:nvSpPr>
          <p:spPr>
            <a:xfrm>
              <a:off x="0" y="2276640"/>
              <a:ext cx="9144000" cy="4640040"/>
            </a:xfrm>
            <a:prstGeom prst="rightArrow">
              <a:avLst>
                <a:gd name="adj1" fmla="val 50000"/>
                <a:gd name="adj2" fmla="val 49988"/>
              </a:avLst>
            </a:prstGeom>
            <a:gradFill rotWithShape="0">
              <a:gsLst>
                <a:gs pos="0">
                  <a:srgbClr val="00416f"/>
                </a:gs>
                <a:gs pos="100000">
                  <a:srgbClr val="007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任意多边形 9"/>
            <p:cNvSpPr/>
            <p:nvPr/>
          </p:nvSpPr>
          <p:spPr>
            <a:xfrm>
              <a:off x="23652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什么是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任意多边形 10"/>
            <p:cNvSpPr/>
            <p:nvPr/>
          </p:nvSpPr>
          <p:spPr>
            <a:xfrm>
              <a:off x="3340800" y="3659400"/>
              <a:ext cx="2743200" cy="18558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为什么要保护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任意多边形 5"/>
          <p:cNvSpPr/>
          <p:nvPr/>
        </p:nvSpPr>
        <p:spPr>
          <a:xfrm>
            <a:off x="6372360" y="708120"/>
            <a:ext cx="2743200" cy="185724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c00000"/>
                </a:solidFill>
                <a:latin typeface="微软雅黑"/>
                <a:ea typeface="微软雅黑"/>
              </a:rPr>
              <a:t>如何保护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组合 24"/>
          <p:cNvGrpSpPr/>
          <p:nvPr/>
        </p:nvGrpSpPr>
        <p:grpSpPr>
          <a:xfrm>
            <a:off x="-6480" y="2290680"/>
            <a:ext cx="9144000" cy="4640400"/>
            <a:chOff x="-6480" y="2290680"/>
            <a:chExt cx="9144000" cy="4640400"/>
          </a:xfrm>
        </p:grpSpPr>
        <p:sp>
          <p:nvSpPr>
            <p:cNvPr id="743" name="右箭头 25"/>
            <p:cNvSpPr/>
            <p:nvPr/>
          </p:nvSpPr>
          <p:spPr>
            <a:xfrm>
              <a:off x="-6480" y="2290680"/>
              <a:ext cx="9144000" cy="4640400"/>
            </a:xfrm>
            <a:prstGeom prst="rightArrow">
              <a:avLst>
                <a:gd name="adj1" fmla="val 50000"/>
                <a:gd name="adj2" fmla="val 49983"/>
              </a:avLst>
            </a:prstGeom>
            <a:gradFill rotWithShape="0">
              <a:gsLst>
                <a:gs pos="0">
                  <a:srgbClr val="00416f"/>
                </a:gs>
                <a:gs pos="100000">
                  <a:srgbClr val="007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任意多边形 26"/>
            <p:cNvSpPr/>
            <p:nvPr/>
          </p:nvSpPr>
          <p:spPr>
            <a:xfrm>
              <a:off x="230040" y="3673440"/>
              <a:ext cx="2743200" cy="18561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什么是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任意多边形 27"/>
            <p:cNvSpPr/>
            <p:nvPr/>
          </p:nvSpPr>
          <p:spPr>
            <a:xfrm>
              <a:off x="3334320" y="3673440"/>
              <a:ext cx="2743200" cy="18561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为什么要保护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8"/>
            <p:cNvSpPr/>
            <p:nvPr/>
          </p:nvSpPr>
          <p:spPr>
            <a:xfrm>
              <a:off x="6365880" y="3673440"/>
              <a:ext cx="2743200" cy="18561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255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612720" tIns="148680" bIns="14868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如何保护肾脏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8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8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800"/>
                            </p:stCondLst>
                            <p:childTnLst>
                              <p:par>
                                <p:cTn id="107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50289E-006 L 5E-006 0.4289 E">
                                      <p:cBhvr>
                                        <p:cTn id="1071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300"/>
                            </p:stCondLst>
                            <p:childTnLst>
                              <p:par>
                                <p:cTn id="107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4"/>
          <p:cNvSpPr/>
          <p:nvPr/>
        </p:nvSpPr>
        <p:spPr>
          <a:xfrm>
            <a:off x="25704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1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2"/>
          <p:cNvSpPr/>
          <p:nvPr/>
        </p:nvSpPr>
        <p:spPr>
          <a:xfrm>
            <a:off x="5530680" y="981000"/>
            <a:ext cx="251964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4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15"/>
          <p:cNvSpPr/>
          <p:nvPr/>
        </p:nvSpPr>
        <p:spPr>
          <a:xfrm>
            <a:off x="5530680" y="981000"/>
            <a:ext cx="251964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23"/>
          <p:cNvGrpSpPr/>
          <p:nvPr/>
        </p:nvGrpSpPr>
        <p:grpSpPr>
          <a:xfrm>
            <a:off x="-9144000" y="2290680"/>
            <a:ext cx="18281880" cy="4958640"/>
            <a:chOff x="-9144000" y="2290680"/>
            <a:chExt cx="18281880" cy="4958640"/>
          </a:xfrm>
        </p:grpSpPr>
        <p:grpSp>
          <p:nvGrpSpPr>
            <p:cNvPr id="748" name="组合 24"/>
            <p:cNvGrpSpPr/>
            <p:nvPr/>
          </p:nvGrpSpPr>
          <p:grpSpPr>
            <a:xfrm>
              <a:off x="-6480" y="2290680"/>
              <a:ext cx="9144360" cy="4640400"/>
              <a:chOff x="-6480" y="2290680"/>
              <a:chExt cx="9144360" cy="4640400"/>
            </a:xfrm>
          </p:grpSpPr>
          <p:sp>
            <p:nvSpPr>
              <p:cNvPr id="749" name="右箭头 25"/>
              <p:cNvSpPr/>
              <p:nvPr/>
            </p:nvSpPr>
            <p:spPr>
              <a:xfrm>
                <a:off x="-6480" y="2290680"/>
                <a:ext cx="9144360" cy="4640400"/>
              </a:xfrm>
              <a:prstGeom prst="rightArrow">
                <a:avLst>
                  <a:gd name="adj1" fmla="val 50000"/>
                  <a:gd name="adj2" fmla="val 49985"/>
                </a:avLst>
              </a:prstGeom>
              <a:gradFill rotWithShape="0">
                <a:gsLst>
                  <a:gs pos="0">
                    <a:srgbClr val="00416f"/>
                  </a:gs>
                  <a:gs pos="100000">
                    <a:srgbClr val="0070c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任意多边形 26"/>
              <p:cNvSpPr/>
              <p:nvPr/>
            </p:nvSpPr>
            <p:spPr>
              <a:xfrm>
                <a:off x="230040" y="3673440"/>
                <a:ext cx="2743200" cy="18561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8680" rIns="612720" tIns="148680" bIns="148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9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什么是</a:t>
                </a:r>
                <a:endParaRPr b="0" lang="en-US" sz="3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9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肾脏</a:t>
                </a:r>
                <a:endParaRPr b="0" lang="en-US" sz="3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任意多边形 27"/>
              <p:cNvSpPr/>
              <p:nvPr/>
            </p:nvSpPr>
            <p:spPr>
              <a:xfrm>
                <a:off x="3334680" y="3673440"/>
                <a:ext cx="2743200" cy="18561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8680" rIns="612720" tIns="148680" bIns="148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9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为什么要保护</a:t>
                </a:r>
                <a:endParaRPr b="0" lang="en-US" sz="3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任意多边形 28"/>
              <p:cNvSpPr/>
              <p:nvPr/>
            </p:nvSpPr>
            <p:spPr>
              <a:xfrm>
                <a:off x="6365880" y="3673440"/>
                <a:ext cx="2743200" cy="18561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8680" rIns="612720" tIns="148680" bIns="148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9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如何保护肾脏</a:t>
                </a:r>
                <a:endParaRPr b="0" lang="en-US" sz="3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组合 17"/>
            <p:cNvGrpSpPr/>
            <p:nvPr/>
          </p:nvGrpSpPr>
          <p:grpSpPr>
            <a:xfrm>
              <a:off x="-9144000" y="3429000"/>
              <a:ext cx="9144360" cy="3820320"/>
              <a:chOff x="-9144000" y="3429000"/>
              <a:chExt cx="9144360" cy="3820320"/>
            </a:xfrm>
          </p:grpSpPr>
          <p:sp>
            <p:nvSpPr>
              <p:cNvPr id="754" name="矩形 18"/>
              <p:cNvSpPr/>
              <p:nvPr/>
            </p:nvSpPr>
            <p:spPr>
              <a:xfrm>
                <a:off x="-9144000" y="3429000"/>
                <a:ext cx="9144360" cy="23050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组合 11"/>
              <p:cNvGrpSpPr/>
              <p:nvPr/>
            </p:nvGrpSpPr>
            <p:grpSpPr>
              <a:xfrm>
                <a:off x="-7464960" y="3650400"/>
                <a:ext cx="5787000" cy="3598920"/>
                <a:chOff x="-7464960" y="3650400"/>
                <a:chExt cx="5787000" cy="3598920"/>
              </a:xfrm>
            </p:grpSpPr>
            <p:sp>
              <p:nvSpPr>
                <p:cNvPr id="756" name="TextBox 20"/>
                <p:cNvSpPr/>
                <p:nvPr/>
              </p:nvSpPr>
              <p:spPr>
                <a:xfrm>
                  <a:off x="-5332680" y="3650400"/>
                  <a:ext cx="1224000" cy="359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500" spc="-1" strike="noStrike">
                      <a:solidFill>
                        <a:srgbClr val="ffc000"/>
                      </a:solidFill>
                      <a:latin typeface="alphabold"/>
                      <a:ea typeface="宋体"/>
                    </a:rPr>
                    <a:t>de</a:t>
                  </a:r>
                  <a:endParaRPr b="0" lang="en-US" sz="1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TextBox 21"/>
                <p:cNvSpPr/>
                <p:nvPr/>
              </p:nvSpPr>
              <p:spPr>
                <a:xfrm>
                  <a:off x="-7464960" y="4455720"/>
                  <a:ext cx="24483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日常生活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TextBox 22"/>
                <p:cNvSpPr/>
                <p:nvPr/>
              </p:nvSpPr>
              <p:spPr>
                <a:xfrm>
                  <a:off x="-4270320" y="4455720"/>
                  <a:ext cx="25923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护肾关键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9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760" name="右箭头 31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1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91329E-006 L 1.00035 4.91329E-006 E">
                                      <p:cBhvr>
                                        <p:cTn id="1088" dur="8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800"/>
                            </p:stCondLst>
                            <p:childTnLst>
                              <p:par>
                                <p:cTn id="10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5"/>
          <p:cNvGrpSpPr/>
          <p:nvPr/>
        </p:nvGrpSpPr>
        <p:grpSpPr>
          <a:xfrm>
            <a:off x="2627280" y="2565360"/>
            <a:ext cx="1728720" cy="1727280"/>
            <a:chOff x="2627280" y="2565360"/>
            <a:chExt cx="1728720" cy="1727280"/>
          </a:xfrm>
        </p:grpSpPr>
        <p:sp>
          <p:nvSpPr>
            <p:cNvPr id="764" name="圆角矩形 2"/>
            <p:cNvSpPr/>
            <p:nvPr/>
          </p:nvSpPr>
          <p:spPr>
            <a:xfrm>
              <a:off x="2627280" y="2565360"/>
              <a:ext cx="1728720" cy="17272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等腰三角形 3"/>
            <p:cNvSpPr/>
            <p:nvPr/>
          </p:nvSpPr>
          <p:spPr>
            <a:xfrm rot="5400000">
              <a:off x="3150000" y="3068640"/>
              <a:ext cx="834840" cy="720360"/>
            </a:xfrm>
            <a:prstGeom prst="triangle">
              <a:avLst>
                <a:gd name="adj" fmla="val 50000"/>
              </a:avLst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组合 14"/>
          <p:cNvGrpSpPr/>
          <p:nvPr/>
        </p:nvGrpSpPr>
        <p:grpSpPr>
          <a:xfrm>
            <a:off x="4788000" y="2565360"/>
            <a:ext cx="1728720" cy="1727280"/>
            <a:chOff x="4788000" y="2565360"/>
            <a:chExt cx="1728720" cy="1727280"/>
          </a:xfrm>
        </p:grpSpPr>
        <p:sp>
          <p:nvSpPr>
            <p:cNvPr id="767" name="圆角矩形 4"/>
            <p:cNvSpPr/>
            <p:nvPr/>
          </p:nvSpPr>
          <p:spPr>
            <a:xfrm>
              <a:off x="4788000" y="2565360"/>
              <a:ext cx="1728720" cy="17272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组合 9"/>
            <p:cNvGrpSpPr/>
            <p:nvPr/>
          </p:nvGrpSpPr>
          <p:grpSpPr>
            <a:xfrm>
              <a:off x="5342400" y="3069000"/>
              <a:ext cx="619560" cy="719640"/>
              <a:chOff x="5342400" y="3069000"/>
              <a:chExt cx="619560" cy="719640"/>
            </a:xfrm>
          </p:grpSpPr>
          <p:sp>
            <p:nvSpPr>
              <p:cNvPr id="769" name="矩形 5"/>
              <p:cNvSpPr/>
              <p:nvPr/>
            </p:nvSpPr>
            <p:spPr>
              <a:xfrm>
                <a:off x="5342400" y="3069000"/>
                <a:ext cx="201600" cy="719640"/>
              </a:xfrm>
              <a:prstGeom prst="rect">
                <a:avLst/>
              </a:prstGeom>
              <a:solidFill>
                <a:srgbClr val="7692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矩形 6"/>
              <p:cNvSpPr/>
              <p:nvPr/>
            </p:nvSpPr>
            <p:spPr>
              <a:xfrm>
                <a:off x="5760360" y="3069000"/>
                <a:ext cx="201600" cy="719640"/>
              </a:xfrm>
              <a:prstGeom prst="rect">
                <a:avLst/>
              </a:prstGeom>
              <a:solidFill>
                <a:srgbClr val="7692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1" name="TextBox 19"/>
          <p:cNvSpPr/>
          <p:nvPr/>
        </p:nvSpPr>
        <p:spPr>
          <a:xfrm>
            <a:off x="2670120" y="378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重新播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21"/>
          <p:cNvSpPr/>
          <p:nvPr/>
        </p:nvSpPr>
        <p:spPr>
          <a:xfrm>
            <a:off x="4861080" y="378936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2" descr="C:\Documents and Settings\lin\桌面\15\15\png2.png"/>
          <p:cNvPicPr/>
          <p:nvPr/>
        </p:nvPicPr>
        <p:blipFill>
          <a:blip r:embed="rId3"/>
          <a:stretch/>
        </p:blipFill>
        <p:spPr>
          <a:xfrm>
            <a:off x="4435560" y="3292560"/>
            <a:ext cx="272880" cy="272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062A-017B-4C03-8A7E-EA4BB91FFD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7"/>
          <p:cNvSpPr/>
          <p:nvPr/>
        </p:nvSpPr>
        <p:spPr>
          <a:xfrm>
            <a:off x="3456000" y="162864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2"/>
          <p:cNvSpPr/>
          <p:nvPr/>
        </p:nvSpPr>
        <p:spPr>
          <a:xfrm>
            <a:off x="25704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3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4"/>
          <p:cNvSpPr/>
          <p:nvPr/>
        </p:nvSpPr>
        <p:spPr>
          <a:xfrm>
            <a:off x="5530680" y="981000"/>
            <a:ext cx="251964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7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8"/>
          <p:cNvSpPr/>
          <p:nvPr/>
        </p:nvSpPr>
        <p:spPr>
          <a:xfrm>
            <a:off x="5522760" y="981000"/>
            <a:ext cx="251964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0"/>
          <p:cNvSpPr/>
          <p:nvPr/>
        </p:nvSpPr>
        <p:spPr>
          <a:xfrm>
            <a:off x="466560" y="2924280"/>
            <a:ext cx="3816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脏之一，位于腰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脊柱两旁，左右各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维持生命的重要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1640" y="2924280"/>
            <a:ext cx="360" cy="2305080"/>
            <a:chOff x="4571640" y="2924280"/>
            <a:chExt cx="360" cy="2305080"/>
          </a:xfrm>
        </p:grpSpPr>
        <p:sp>
          <p:nvSpPr>
            <p:cNvPr id="134" name="直接连接符 12"/>
            <p:cNvSpPr/>
            <p:nvPr/>
          </p:nvSpPr>
          <p:spPr>
            <a:xfrm>
              <a:off x="4572000" y="2924280"/>
              <a:ext cx="0" cy="2305080"/>
            </a:xfrm>
            <a:prstGeom prst="line">
              <a:avLst/>
            </a:prstGeom>
            <a:ln w="284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 rot="5400000">
              <a:off x="3419280" y="407664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2" descr="C:\Documents and Settings\lin\桌面\6f59f313045ab5946538dbe6.jpg"/>
          <p:cNvPicPr/>
          <p:nvPr/>
        </p:nvPicPr>
        <p:blipFill>
          <a:blip r:embed="rId1"/>
          <a:stretch/>
        </p:blipFill>
        <p:spPr>
          <a:xfrm>
            <a:off x="4788000" y="2997360"/>
            <a:ext cx="3181320" cy="2850840"/>
          </a:xfrm>
          <a:prstGeom prst="rect">
            <a:avLst/>
          </a:prstGeom>
          <a:ln w="0">
            <a:noFill/>
          </a:ln>
        </p:spPr>
      </p:pic>
      <p:grpSp>
        <p:nvGrpSpPr>
          <p:cNvPr id="137" name="组合 22"/>
          <p:cNvGrpSpPr/>
          <p:nvPr/>
        </p:nvGrpSpPr>
        <p:grpSpPr>
          <a:xfrm>
            <a:off x="8631360" y="6021360"/>
            <a:ext cx="512640" cy="528840"/>
            <a:chOff x="8631360" y="6021360"/>
            <a:chExt cx="512640" cy="528840"/>
          </a:xfrm>
        </p:grpSpPr>
        <p:sp>
          <p:nvSpPr>
            <p:cNvPr id="138" name="右箭头 16"/>
            <p:cNvSpPr/>
            <p:nvPr/>
          </p:nvSpPr>
          <p:spPr>
            <a:xfrm>
              <a:off x="8631360" y="602136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8751960" y="614880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5607E-007 L -3.33333E-006 0.17827 E">
                                      <p:cBhvr>
                                        <p:cTn id="151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7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8"/>
          <p:cNvSpPr/>
          <p:nvPr/>
        </p:nvSpPr>
        <p:spPr>
          <a:xfrm>
            <a:off x="25704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9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 10"/>
          <p:cNvSpPr/>
          <p:nvPr/>
        </p:nvSpPr>
        <p:spPr>
          <a:xfrm>
            <a:off x="5530680" y="981000"/>
            <a:ext cx="251964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1"/>
          <p:cNvSpPr/>
          <p:nvPr/>
        </p:nvSpPr>
        <p:spPr>
          <a:xfrm>
            <a:off x="2987640" y="2205000"/>
            <a:ext cx="252108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12"/>
          <p:cNvSpPr/>
          <p:nvPr/>
        </p:nvSpPr>
        <p:spPr>
          <a:xfrm>
            <a:off x="5522760" y="981000"/>
            <a:ext cx="251964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466560" y="2924280"/>
            <a:ext cx="3816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脏之一，位于腰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脊柱两旁，左右各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维持生命的重要器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1640" y="2924280"/>
            <a:ext cx="360" cy="2305080"/>
            <a:chOff x="4571640" y="2924280"/>
            <a:chExt cx="360" cy="2305080"/>
          </a:xfrm>
        </p:grpSpPr>
        <p:sp>
          <p:nvSpPr>
            <p:cNvPr id="148" name="直接连接符 14"/>
            <p:cNvSpPr/>
            <p:nvPr/>
          </p:nvSpPr>
          <p:spPr>
            <a:xfrm>
              <a:off x="4572000" y="2924280"/>
              <a:ext cx="0" cy="2305080"/>
            </a:xfrm>
            <a:prstGeom prst="line">
              <a:avLst/>
            </a:prstGeom>
            <a:ln w="2844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 rot="5400000">
              <a:off x="3419280" y="407664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2" descr="C:\Documents and Settings\lin\桌面\6f59f313045ab5946538dbe6.jpg"/>
          <p:cNvPicPr/>
          <p:nvPr/>
        </p:nvPicPr>
        <p:blipFill>
          <a:blip r:embed="rId1"/>
          <a:stretch/>
        </p:blipFill>
        <p:spPr>
          <a:xfrm>
            <a:off x="4788000" y="2997360"/>
            <a:ext cx="3181320" cy="285084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2"/>
          <p:cNvGrpSpPr/>
          <p:nvPr/>
        </p:nvGrpSpPr>
        <p:grpSpPr>
          <a:xfrm>
            <a:off x="9683640" y="5950080"/>
            <a:ext cx="514440" cy="528480"/>
            <a:chOff x="9683640" y="5950080"/>
            <a:chExt cx="514440" cy="528480"/>
          </a:xfrm>
        </p:grpSpPr>
        <p:sp>
          <p:nvSpPr>
            <p:cNvPr id="152" name="右箭头 17"/>
            <p:cNvSpPr/>
            <p:nvPr/>
          </p:nvSpPr>
          <p:spPr>
            <a:xfrm>
              <a:off x="9683640" y="5950080"/>
              <a:ext cx="5144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9804600" y="6077520"/>
              <a:ext cx="272520" cy="271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21965E-006 L -3.33333E-006 -0.17827 E">
                                      <p:cBhvr>
                                        <p:cTn id="183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5607E-007 L 3.33333E-006 0.17827 E">
                                      <p:cBhvr>
                                        <p:cTn id="185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2"/>
          <p:cNvSpPr/>
          <p:nvPr/>
        </p:nvSpPr>
        <p:spPr>
          <a:xfrm>
            <a:off x="25704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4"/>
          <p:cNvSpPr/>
          <p:nvPr/>
        </p:nvSpPr>
        <p:spPr>
          <a:xfrm>
            <a:off x="5530680" y="981000"/>
            <a:ext cx="251964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6"/>
          <p:cNvSpPr/>
          <p:nvPr/>
        </p:nvSpPr>
        <p:spPr>
          <a:xfrm>
            <a:off x="5522760" y="2205000"/>
            <a:ext cx="251964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250920" y="2882880"/>
            <a:ext cx="4176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保持血压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排除废物和多余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刺激骨髓造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维持骨骼的强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维持体内电解质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32000" y="3429000"/>
            <a:ext cx="3095640" cy="360"/>
            <a:chOff x="1332000" y="3429000"/>
            <a:chExt cx="3095640" cy="360"/>
          </a:xfrm>
        </p:grpSpPr>
        <p:sp>
          <p:nvSpPr>
            <p:cNvPr id="162" name="直接连接符 14"/>
            <p:cNvSpPr/>
            <p:nvPr/>
          </p:nvSpPr>
          <p:spPr>
            <a:xfrm>
              <a:off x="1332000" y="3429000"/>
              <a:ext cx="3095640" cy="0"/>
            </a:xfrm>
            <a:prstGeom prst="line">
              <a:avLst/>
            </a:prstGeom>
            <a:ln w="93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1332000" y="342900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32000" y="4005360"/>
            <a:ext cx="3095640" cy="360"/>
            <a:chOff x="1332000" y="4005360"/>
            <a:chExt cx="3095640" cy="360"/>
          </a:xfrm>
        </p:grpSpPr>
        <p:sp>
          <p:nvSpPr>
            <p:cNvPr id="165" name="直接连接符 17"/>
            <p:cNvSpPr/>
            <p:nvPr/>
          </p:nvSpPr>
          <p:spPr>
            <a:xfrm>
              <a:off x="1332000" y="40053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332000" y="40053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332000" y="4581360"/>
            <a:ext cx="3095640" cy="360"/>
            <a:chOff x="1332000" y="4581360"/>
            <a:chExt cx="3095640" cy="360"/>
          </a:xfrm>
        </p:grpSpPr>
        <p:sp>
          <p:nvSpPr>
            <p:cNvPr id="168" name="直接连接符 18"/>
            <p:cNvSpPr/>
            <p:nvPr/>
          </p:nvSpPr>
          <p:spPr>
            <a:xfrm>
              <a:off x="1332000" y="45813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1332000" y="45813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332000" y="5084640"/>
            <a:ext cx="3095640" cy="1800"/>
            <a:chOff x="1332000" y="5084640"/>
            <a:chExt cx="3095640" cy="1800"/>
          </a:xfrm>
        </p:grpSpPr>
        <p:sp>
          <p:nvSpPr>
            <p:cNvPr id="171" name="直接连接符 19"/>
            <p:cNvSpPr/>
            <p:nvPr/>
          </p:nvSpPr>
          <p:spPr>
            <a:xfrm>
              <a:off x="1332000" y="5084640"/>
              <a:ext cx="3095640" cy="180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332000" y="5084640"/>
              <a:ext cx="3095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332000" y="5632560"/>
            <a:ext cx="3095640" cy="360"/>
            <a:chOff x="1332000" y="5632560"/>
            <a:chExt cx="3095640" cy="360"/>
          </a:xfrm>
        </p:grpSpPr>
        <p:sp>
          <p:nvSpPr>
            <p:cNvPr id="174" name="直接连接符 20"/>
            <p:cNvSpPr/>
            <p:nvPr/>
          </p:nvSpPr>
          <p:spPr>
            <a:xfrm>
              <a:off x="1332000" y="56325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1332000" y="56325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22"/>
          <p:cNvGrpSpPr/>
          <p:nvPr/>
        </p:nvGrpSpPr>
        <p:grpSpPr>
          <a:xfrm>
            <a:off x="9899640" y="4869000"/>
            <a:ext cx="514440" cy="528480"/>
            <a:chOff x="9899640" y="4869000"/>
            <a:chExt cx="514440" cy="528480"/>
          </a:xfrm>
        </p:grpSpPr>
        <p:sp>
          <p:nvSpPr>
            <p:cNvPr id="177" name="右箭头 24"/>
            <p:cNvSpPr/>
            <p:nvPr/>
          </p:nvSpPr>
          <p:spPr>
            <a:xfrm>
              <a:off x="9899640" y="4869000"/>
              <a:ext cx="5144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10020600" y="4996440"/>
              <a:ext cx="272520" cy="27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-324000" y="2852640"/>
            <a:ext cx="9468000" cy="1800"/>
            <a:chOff x="-324000" y="2852640"/>
            <a:chExt cx="9468000" cy="1800"/>
          </a:xfrm>
        </p:grpSpPr>
        <p:sp>
          <p:nvSpPr>
            <p:cNvPr id="180" name="直接连接符 26"/>
            <p:cNvSpPr/>
            <p:nvPr/>
          </p:nvSpPr>
          <p:spPr>
            <a:xfrm>
              <a:off x="-324000" y="2852640"/>
              <a:ext cx="9468000" cy="1800"/>
            </a:xfrm>
            <a:prstGeom prst="line">
              <a:avLst/>
            </a:prstGeom>
            <a:ln w="284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-324000" y="2852640"/>
              <a:ext cx="946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22"/>
          <p:cNvGrpSpPr/>
          <p:nvPr/>
        </p:nvGrpSpPr>
        <p:grpSpPr>
          <a:xfrm>
            <a:off x="568440" y="2925720"/>
            <a:ext cx="512640" cy="528840"/>
            <a:chOff x="568440" y="2925720"/>
            <a:chExt cx="512640" cy="528840"/>
          </a:xfrm>
        </p:grpSpPr>
        <p:sp>
          <p:nvSpPr>
            <p:cNvPr id="183" name="右箭头 31"/>
            <p:cNvSpPr/>
            <p:nvPr/>
          </p:nvSpPr>
          <p:spPr>
            <a:xfrm>
              <a:off x="568440" y="2925720"/>
              <a:ext cx="512640" cy="52884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2" descr="C:\Documents and Settings\lin\桌面\15\15\png2.png"/>
            <p:cNvPicPr/>
            <p:nvPr/>
          </p:nvPicPr>
          <p:blipFill>
            <a:blip r:embed="rId2"/>
            <a:stretch/>
          </p:blipFill>
          <p:spPr>
            <a:xfrm>
              <a:off x="689040" y="3053160"/>
              <a:ext cx="271440" cy="27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1"/>
                            </p:stCondLst>
                            <p:childTnLst>
                              <p:par>
                                <p:cTn id="20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1"/>
                            </p:stCondLst>
                            <p:childTnLst>
                              <p:par>
                                <p:cTn id="2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416f"/>
              </a:gs>
              <a:gs pos="100000">
                <a:srgbClr val="0070c0"/>
              </a:gs>
            </a:gsLst>
            <a:lin ang="13500000"/>
          </a:gradFill>
          <a:ln w="25560">
            <a:solidFill>
              <a:srgbClr val="395e8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"/>
          <p:cNvSpPr/>
          <p:nvPr/>
        </p:nvSpPr>
        <p:spPr>
          <a:xfrm>
            <a:off x="257040" y="708120"/>
            <a:ext cx="2743200" cy="1855800"/>
          </a:xfrm>
          <a:prstGeom prst="pie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48680" rIns="612720" tIns="148680" bIns="148680" anchor="ctr">
            <a:noAutofit/>
          </a:bodyPr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肾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3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4"/>
          <p:cNvSpPr/>
          <p:nvPr/>
        </p:nvSpPr>
        <p:spPr>
          <a:xfrm>
            <a:off x="5530680" y="981000"/>
            <a:ext cx="251964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5"/>
          <p:cNvSpPr/>
          <p:nvPr/>
        </p:nvSpPr>
        <p:spPr>
          <a:xfrm>
            <a:off x="2987640" y="981000"/>
            <a:ext cx="2521080" cy="574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6"/>
          <p:cNvSpPr/>
          <p:nvPr/>
        </p:nvSpPr>
        <p:spPr>
          <a:xfrm>
            <a:off x="5522760" y="2205000"/>
            <a:ext cx="2519640" cy="5763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肾脏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250920" y="2882880"/>
            <a:ext cx="4176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保持血压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排除废物和多余的水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刺激骨髓造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维持骨骼的强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维持体内电解质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332000" y="3429000"/>
            <a:ext cx="3095640" cy="360"/>
            <a:chOff x="1332000" y="3429000"/>
            <a:chExt cx="3095640" cy="360"/>
          </a:xfrm>
        </p:grpSpPr>
        <p:sp>
          <p:nvSpPr>
            <p:cNvPr id="193" name="直接连接符 8"/>
            <p:cNvSpPr/>
            <p:nvPr/>
          </p:nvSpPr>
          <p:spPr>
            <a:xfrm>
              <a:off x="1332000" y="3429000"/>
              <a:ext cx="3095640" cy="0"/>
            </a:xfrm>
            <a:prstGeom prst="line">
              <a:avLst/>
            </a:prstGeom>
            <a:ln w="93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332000" y="342900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332000" y="4005360"/>
            <a:ext cx="3095640" cy="360"/>
            <a:chOff x="1332000" y="4005360"/>
            <a:chExt cx="3095640" cy="360"/>
          </a:xfrm>
        </p:grpSpPr>
        <p:sp>
          <p:nvSpPr>
            <p:cNvPr id="196" name="直接连接符 9"/>
            <p:cNvSpPr/>
            <p:nvPr/>
          </p:nvSpPr>
          <p:spPr>
            <a:xfrm>
              <a:off x="1332000" y="40053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332000" y="40053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332000" y="4581360"/>
            <a:ext cx="3095640" cy="360"/>
            <a:chOff x="1332000" y="4581360"/>
            <a:chExt cx="3095640" cy="360"/>
          </a:xfrm>
        </p:grpSpPr>
        <p:sp>
          <p:nvSpPr>
            <p:cNvPr id="199" name="直接连接符 10"/>
            <p:cNvSpPr/>
            <p:nvPr/>
          </p:nvSpPr>
          <p:spPr>
            <a:xfrm>
              <a:off x="1332000" y="45813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1332000" y="45813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332000" y="5084640"/>
            <a:ext cx="3095640" cy="1800"/>
            <a:chOff x="1332000" y="5084640"/>
            <a:chExt cx="3095640" cy="1800"/>
          </a:xfrm>
        </p:grpSpPr>
        <p:sp>
          <p:nvSpPr>
            <p:cNvPr id="202" name="直接连接符 11"/>
            <p:cNvSpPr/>
            <p:nvPr/>
          </p:nvSpPr>
          <p:spPr>
            <a:xfrm>
              <a:off x="1332000" y="5084640"/>
              <a:ext cx="3095640" cy="180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332000" y="5084640"/>
              <a:ext cx="3095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332000" y="5632560"/>
            <a:ext cx="3095640" cy="360"/>
            <a:chOff x="1332000" y="5632560"/>
            <a:chExt cx="3095640" cy="360"/>
          </a:xfrm>
        </p:grpSpPr>
        <p:sp>
          <p:nvSpPr>
            <p:cNvPr id="205" name="直接连接符 12"/>
            <p:cNvSpPr/>
            <p:nvPr/>
          </p:nvSpPr>
          <p:spPr>
            <a:xfrm>
              <a:off x="1332000" y="5632560"/>
              <a:ext cx="3095640" cy="0"/>
            </a:xfrm>
            <a:prstGeom prst="line">
              <a:avLst/>
            </a:prstGeom>
            <a:ln w="9360">
              <a:solidFill>
                <a:srgbClr val="4f81b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1332000" y="5632560"/>
              <a:ext cx="30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圆角矩形标注 13"/>
          <p:cNvSpPr/>
          <p:nvPr/>
        </p:nvSpPr>
        <p:spPr>
          <a:xfrm>
            <a:off x="5508720" y="3139920"/>
            <a:ext cx="2374920" cy="1081080"/>
          </a:xfrm>
          <a:prstGeom prst="wedgeRoundRectCallout">
            <a:avLst>
              <a:gd name="adj1" fmla="val -83175"/>
              <a:gd name="adj2" fmla="val -39388"/>
              <a:gd name="adj3" fmla="val 16667"/>
            </a:avLst>
          </a:prstGeom>
          <a:noFill/>
          <a:ln w="25560">
            <a:solidFill>
              <a:srgbClr val="0070c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水盐调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水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血压调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-162000" y="2852640"/>
            <a:ext cx="9468000" cy="1800"/>
            <a:chOff x="-162000" y="2852640"/>
            <a:chExt cx="9468000" cy="1800"/>
          </a:xfrm>
        </p:grpSpPr>
        <p:sp>
          <p:nvSpPr>
            <p:cNvPr id="209" name="直接连接符 14"/>
            <p:cNvSpPr/>
            <p:nvPr/>
          </p:nvSpPr>
          <p:spPr>
            <a:xfrm>
              <a:off x="-162000" y="2852640"/>
              <a:ext cx="9468000" cy="1800"/>
            </a:xfrm>
            <a:prstGeom prst="line">
              <a:avLst/>
            </a:prstGeom>
            <a:ln w="284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-162000" y="2852640"/>
              <a:ext cx="946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2"/>
          <p:cNvGrpSpPr/>
          <p:nvPr/>
        </p:nvGrpSpPr>
        <p:grpSpPr>
          <a:xfrm>
            <a:off x="568440" y="3429000"/>
            <a:ext cx="512640" cy="528480"/>
            <a:chOff x="568440" y="3429000"/>
            <a:chExt cx="512640" cy="528480"/>
          </a:xfrm>
        </p:grpSpPr>
        <p:sp>
          <p:nvSpPr>
            <p:cNvPr id="212" name="右箭头 16"/>
            <p:cNvSpPr/>
            <p:nvPr/>
          </p:nvSpPr>
          <p:spPr>
            <a:xfrm>
              <a:off x="568440" y="3429000"/>
              <a:ext cx="512640" cy="52848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" descr="C:\Documents and Settings\lin\桌面\15\15\png2.png"/>
            <p:cNvPicPr/>
            <p:nvPr/>
          </p:nvPicPr>
          <p:blipFill>
            <a:blip r:embed="rId1"/>
            <a:stretch/>
          </p:blipFill>
          <p:spPr>
            <a:xfrm>
              <a:off x="689040" y="3556440"/>
              <a:ext cx="271440" cy="27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2" descr="C:\Documents and Settings\lin\桌面\肾\201005102305421508.jpg"/>
          <p:cNvPicPr/>
          <p:nvPr/>
        </p:nvPicPr>
        <p:blipFill>
          <a:blip r:embed="rId2"/>
          <a:stretch/>
        </p:blipFill>
        <p:spPr>
          <a:xfrm>
            <a:off x="5753160" y="4280040"/>
            <a:ext cx="18860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5:0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24Z</dcterms:modified>
  <cp:revision>1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