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480F-DD00-43EE-8DD5-46B94B98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52FA-CD1D-419C-B842-42FD6515B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0B99-F26E-4E77-B0E9-10A7EE04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5163-B86D-4288-9986-ADEA6F41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8F5-5548-4ABA-8B9F-5C2712AF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31DE-AEF9-4902-986F-9CF00F970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9C71-E8A1-45A8-9AE4-CEACEE42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7274-1D4E-4BBE-998E-F69EF7D9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FE4-8ACE-4C75-AFA3-5A61B034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4513-C721-4679-8CEC-81BBE5D1C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6485-20D3-4C92-BCC2-5B87E3169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4738-5BC6-4E17-BA44-84DB68EB2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9" descr="new masterset-028-3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64" descr="new masterset-028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EC6B-6FA5-481F-BCBF-FFB129BFD85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F7B87-F000-43E0-87D8-7B244DFE516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3.png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3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7" name="文本框 409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8" name="文本框 4100"/>
          <p:cNvSpPr/>
          <p:nvPr/>
        </p:nvSpPr>
        <p:spPr>
          <a:xfrm>
            <a:off x="2078280" y="404640"/>
            <a:ext cx="440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Gulim"/>
                <a:ea typeface="Gulim"/>
              </a:rPr>
              <a:t>医疗卫生</a:t>
            </a:r>
            <a:r>
              <a:rPr b="1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Gulim"/>
                <a:ea typeface="Gulim"/>
              </a:rPr>
              <a:t>模板</a:t>
            </a:r>
            <a:r>
              <a:rPr b="1" lang="zh-CN" sz="4000" spc="-1" strike="noStrike">
                <a:solidFill>
                  <a:srgbClr val="000000"/>
                </a:solidFill>
                <a:latin typeface="Gulim"/>
                <a:ea typeface="宋体"/>
              </a:rPr>
              <a:t>在线</a:t>
            </a:r>
            <a:r>
              <a:rPr b="1" lang="zh-CN" sz="4000" spc="-1" strike="noStrike">
                <a:solidFill>
                  <a:srgbClr val="000000"/>
                </a:solidFill>
                <a:latin typeface="Gulim"/>
                <a:ea typeface="Gulim"/>
              </a:rPr>
              <a:t>下载</a:t>
            </a:r>
            <a:endParaRPr b="1" lang="en-US" sz="4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71" descr="new masterset-028-1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81" descr="object63"/>
          <p:cNvPicPr/>
          <p:nvPr/>
        </p:nvPicPr>
        <p:blipFill>
          <a:blip r:embed="rId2"/>
          <a:srcRect l="0" t="18171" r="0" b="68259"/>
          <a:stretch/>
        </p:blipFill>
        <p:spPr>
          <a:xfrm>
            <a:off x="5219640" y="1370160"/>
            <a:ext cx="2541600" cy="66960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472"/>
          <p:cNvSpPr/>
          <p:nvPr/>
        </p:nvSpPr>
        <p:spPr>
          <a:xfrm>
            <a:off x="4940280" y="2238480"/>
            <a:ext cx="3792600" cy="47448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2" name="AutoShape 473"/>
          <p:cNvSpPr/>
          <p:nvPr/>
        </p:nvSpPr>
        <p:spPr>
          <a:xfrm>
            <a:off x="4940280" y="5448240"/>
            <a:ext cx="3792600" cy="47484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3" name="AutoShape 474"/>
          <p:cNvSpPr/>
          <p:nvPr/>
        </p:nvSpPr>
        <p:spPr>
          <a:xfrm>
            <a:off x="4940280" y="4805280"/>
            <a:ext cx="3792600" cy="47484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4" name="AutoShape 475"/>
          <p:cNvSpPr/>
          <p:nvPr/>
        </p:nvSpPr>
        <p:spPr>
          <a:xfrm>
            <a:off x="4940280" y="4164120"/>
            <a:ext cx="3792600" cy="47448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5" name="AutoShape 476"/>
          <p:cNvSpPr/>
          <p:nvPr/>
        </p:nvSpPr>
        <p:spPr>
          <a:xfrm>
            <a:off x="4940280" y="3521160"/>
            <a:ext cx="3792600" cy="47448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6" name="AutoShape 477"/>
          <p:cNvSpPr/>
          <p:nvPr/>
        </p:nvSpPr>
        <p:spPr>
          <a:xfrm>
            <a:off x="4940280" y="2879640"/>
            <a:ext cx="3792600" cy="47484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27" name="组合 5129"/>
          <p:cNvGrpSpPr/>
          <p:nvPr/>
        </p:nvGrpSpPr>
        <p:grpSpPr>
          <a:xfrm>
            <a:off x="4427640" y="2238480"/>
            <a:ext cx="476280" cy="474480"/>
            <a:chOff x="4427640" y="2238480"/>
            <a:chExt cx="476280" cy="474480"/>
          </a:xfrm>
        </p:grpSpPr>
        <p:grpSp>
          <p:nvGrpSpPr>
            <p:cNvPr id="128" name="组合 5130"/>
            <p:cNvGrpSpPr/>
            <p:nvPr/>
          </p:nvGrpSpPr>
          <p:grpSpPr>
            <a:xfrm>
              <a:off x="4427640" y="2238480"/>
              <a:ext cx="476280" cy="474480"/>
              <a:chOff x="4427640" y="2238480"/>
              <a:chExt cx="476280" cy="474480"/>
            </a:xfrm>
          </p:grpSpPr>
          <p:sp>
            <p:nvSpPr>
              <p:cNvPr id="129" name="AutoShape 480"/>
              <p:cNvSpPr/>
              <p:nvPr/>
            </p:nvSpPr>
            <p:spPr>
              <a:xfrm>
                <a:off x="4427640" y="2238480"/>
                <a:ext cx="476280" cy="47448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0" name="AutoShape 481"/>
              <p:cNvSpPr/>
              <p:nvPr/>
            </p:nvSpPr>
            <p:spPr>
              <a:xfrm>
                <a:off x="4451400" y="2263680"/>
                <a:ext cx="426960" cy="42660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131" name="Picture 482" descr="바코드"/>
              <p:cNvPicPr/>
              <p:nvPr/>
            </p:nvPicPr>
            <p:blipFill>
              <a:blip r:embed="rId3"/>
              <a:srcRect l="16802" t="9783" r="20325" b="5978"/>
              <a:stretch/>
            </p:blipFill>
            <p:spPr>
              <a:xfrm>
                <a:off x="4767480" y="228564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2" name="AutoShape 483"/>
              <p:cNvSpPr/>
              <p:nvPr/>
            </p:nvSpPr>
            <p:spPr>
              <a:xfrm>
                <a:off x="4464000" y="2276280"/>
                <a:ext cx="401760" cy="759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33" name="Text Box 484"/>
            <p:cNvSpPr/>
            <p:nvPr/>
          </p:nvSpPr>
          <p:spPr>
            <a:xfrm>
              <a:off x="4564080" y="238248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34" name="组合 5136"/>
          <p:cNvGrpSpPr/>
          <p:nvPr/>
        </p:nvGrpSpPr>
        <p:grpSpPr>
          <a:xfrm>
            <a:off x="4427640" y="5448240"/>
            <a:ext cx="476280" cy="474840"/>
            <a:chOff x="4427640" y="5448240"/>
            <a:chExt cx="476280" cy="474840"/>
          </a:xfrm>
        </p:grpSpPr>
        <p:grpSp>
          <p:nvGrpSpPr>
            <p:cNvPr id="135" name="组合 5137"/>
            <p:cNvGrpSpPr/>
            <p:nvPr/>
          </p:nvGrpSpPr>
          <p:grpSpPr>
            <a:xfrm>
              <a:off x="4427640" y="5448240"/>
              <a:ext cx="476280" cy="474840"/>
              <a:chOff x="4427640" y="5448240"/>
              <a:chExt cx="476280" cy="474840"/>
            </a:xfrm>
          </p:grpSpPr>
          <p:sp>
            <p:nvSpPr>
              <p:cNvPr id="136" name="AutoShape 487"/>
              <p:cNvSpPr/>
              <p:nvPr/>
            </p:nvSpPr>
            <p:spPr>
              <a:xfrm>
                <a:off x="4427640" y="5448240"/>
                <a:ext cx="476280" cy="47484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37" name="AutoShape 488"/>
              <p:cNvSpPr/>
              <p:nvPr/>
            </p:nvSpPr>
            <p:spPr>
              <a:xfrm>
                <a:off x="4451400" y="5473800"/>
                <a:ext cx="426960" cy="42696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138" name="Picture 489" descr="바코드"/>
              <p:cNvPicPr/>
              <p:nvPr/>
            </p:nvPicPr>
            <p:blipFill>
              <a:blip r:embed="rId4"/>
              <a:srcRect l="16802" t="9783" r="20325" b="5978"/>
              <a:stretch/>
            </p:blipFill>
            <p:spPr>
              <a:xfrm>
                <a:off x="4767480" y="5495760"/>
                <a:ext cx="82440" cy="5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9" name="AutoShape 490"/>
              <p:cNvSpPr/>
              <p:nvPr/>
            </p:nvSpPr>
            <p:spPr>
              <a:xfrm>
                <a:off x="4464000" y="5486400"/>
                <a:ext cx="401760" cy="7632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40" name="Text Box 491"/>
            <p:cNvSpPr/>
            <p:nvPr/>
          </p:nvSpPr>
          <p:spPr>
            <a:xfrm>
              <a:off x="4564080" y="559260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6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1" name="组合 5143"/>
          <p:cNvGrpSpPr/>
          <p:nvPr/>
        </p:nvGrpSpPr>
        <p:grpSpPr>
          <a:xfrm>
            <a:off x="4427640" y="4805280"/>
            <a:ext cx="476280" cy="474840"/>
            <a:chOff x="4427640" y="4805280"/>
            <a:chExt cx="476280" cy="474840"/>
          </a:xfrm>
        </p:grpSpPr>
        <p:grpSp>
          <p:nvGrpSpPr>
            <p:cNvPr id="142" name="组合 5144"/>
            <p:cNvGrpSpPr/>
            <p:nvPr/>
          </p:nvGrpSpPr>
          <p:grpSpPr>
            <a:xfrm>
              <a:off x="4427640" y="4805280"/>
              <a:ext cx="476280" cy="474840"/>
              <a:chOff x="4427640" y="4805280"/>
              <a:chExt cx="476280" cy="474840"/>
            </a:xfrm>
          </p:grpSpPr>
          <p:sp>
            <p:nvSpPr>
              <p:cNvPr id="143" name="AutoShape 494"/>
              <p:cNvSpPr/>
              <p:nvPr/>
            </p:nvSpPr>
            <p:spPr>
              <a:xfrm>
                <a:off x="4427640" y="4805280"/>
                <a:ext cx="476280" cy="47484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44" name="AutoShape 495"/>
              <p:cNvSpPr/>
              <p:nvPr/>
            </p:nvSpPr>
            <p:spPr>
              <a:xfrm>
                <a:off x="4451400" y="4830840"/>
                <a:ext cx="426960" cy="42696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145" name="Picture 496" descr="바코드"/>
              <p:cNvPicPr/>
              <p:nvPr/>
            </p:nvPicPr>
            <p:blipFill>
              <a:blip r:embed="rId5"/>
              <a:srcRect l="16802" t="9783" r="20325" b="5978"/>
              <a:stretch/>
            </p:blipFill>
            <p:spPr>
              <a:xfrm>
                <a:off x="4767480" y="4852800"/>
                <a:ext cx="82440" cy="5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AutoShape 497"/>
              <p:cNvSpPr/>
              <p:nvPr/>
            </p:nvSpPr>
            <p:spPr>
              <a:xfrm>
                <a:off x="4464000" y="4843440"/>
                <a:ext cx="401760" cy="7632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47" name="Text Box 498"/>
            <p:cNvSpPr/>
            <p:nvPr/>
          </p:nvSpPr>
          <p:spPr>
            <a:xfrm>
              <a:off x="4564080" y="494964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48" name="组合 5150"/>
          <p:cNvGrpSpPr/>
          <p:nvPr/>
        </p:nvGrpSpPr>
        <p:grpSpPr>
          <a:xfrm>
            <a:off x="4427640" y="4164120"/>
            <a:ext cx="476280" cy="474480"/>
            <a:chOff x="4427640" y="4164120"/>
            <a:chExt cx="476280" cy="474480"/>
          </a:xfrm>
        </p:grpSpPr>
        <p:grpSp>
          <p:nvGrpSpPr>
            <p:cNvPr id="149" name="组合 5151"/>
            <p:cNvGrpSpPr/>
            <p:nvPr/>
          </p:nvGrpSpPr>
          <p:grpSpPr>
            <a:xfrm>
              <a:off x="4427640" y="4164120"/>
              <a:ext cx="476280" cy="474480"/>
              <a:chOff x="4427640" y="4164120"/>
              <a:chExt cx="476280" cy="474480"/>
            </a:xfrm>
          </p:grpSpPr>
          <p:sp>
            <p:nvSpPr>
              <p:cNvPr id="150" name="AutoShape 501"/>
              <p:cNvSpPr/>
              <p:nvPr/>
            </p:nvSpPr>
            <p:spPr>
              <a:xfrm>
                <a:off x="4427640" y="4164120"/>
                <a:ext cx="476280" cy="47448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1" name="AutoShape 502"/>
              <p:cNvSpPr/>
              <p:nvPr/>
            </p:nvSpPr>
            <p:spPr>
              <a:xfrm>
                <a:off x="4451400" y="4189320"/>
                <a:ext cx="426960" cy="42660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152" name="Picture 503" descr="바코드"/>
              <p:cNvPicPr/>
              <p:nvPr/>
            </p:nvPicPr>
            <p:blipFill>
              <a:blip r:embed="rId6"/>
              <a:srcRect l="16802" t="9783" r="20325" b="5978"/>
              <a:stretch/>
            </p:blipFill>
            <p:spPr>
              <a:xfrm>
                <a:off x="4767480" y="4216320"/>
                <a:ext cx="82440" cy="5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AutoShape 504"/>
              <p:cNvSpPr/>
              <p:nvPr/>
            </p:nvSpPr>
            <p:spPr>
              <a:xfrm>
                <a:off x="4464000" y="4201920"/>
                <a:ext cx="401760" cy="759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54" name="Text Box 505"/>
            <p:cNvSpPr/>
            <p:nvPr/>
          </p:nvSpPr>
          <p:spPr>
            <a:xfrm>
              <a:off x="4564080" y="430812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55" name="组合 5157"/>
          <p:cNvGrpSpPr/>
          <p:nvPr/>
        </p:nvGrpSpPr>
        <p:grpSpPr>
          <a:xfrm>
            <a:off x="4427640" y="3521160"/>
            <a:ext cx="476280" cy="474480"/>
            <a:chOff x="4427640" y="3521160"/>
            <a:chExt cx="476280" cy="474480"/>
          </a:xfrm>
        </p:grpSpPr>
        <p:grpSp>
          <p:nvGrpSpPr>
            <p:cNvPr id="156" name="组合 5158"/>
            <p:cNvGrpSpPr/>
            <p:nvPr/>
          </p:nvGrpSpPr>
          <p:grpSpPr>
            <a:xfrm>
              <a:off x="4427640" y="3521160"/>
              <a:ext cx="476280" cy="474480"/>
              <a:chOff x="4427640" y="3521160"/>
              <a:chExt cx="476280" cy="474480"/>
            </a:xfrm>
          </p:grpSpPr>
          <p:sp>
            <p:nvSpPr>
              <p:cNvPr id="157" name="AutoShape 508"/>
              <p:cNvSpPr/>
              <p:nvPr/>
            </p:nvSpPr>
            <p:spPr>
              <a:xfrm>
                <a:off x="4427640" y="3521160"/>
                <a:ext cx="476280" cy="47448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58" name="AutoShape 509"/>
              <p:cNvSpPr/>
              <p:nvPr/>
            </p:nvSpPr>
            <p:spPr>
              <a:xfrm>
                <a:off x="4451400" y="3546360"/>
                <a:ext cx="426960" cy="42660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159" name="Picture 510" descr="바코드"/>
              <p:cNvPicPr/>
              <p:nvPr/>
            </p:nvPicPr>
            <p:blipFill>
              <a:blip r:embed="rId7"/>
              <a:srcRect l="16802" t="9783" r="20325" b="5978"/>
              <a:stretch/>
            </p:blipFill>
            <p:spPr>
              <a:xfrm>
                <a:off x="4767480" y="3573360"/>
                <a:ext cx="82440" cy="55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AutoShape 511"/>
              <p:cNvSpPr/>
              <p:nvPr/>
            </p:nvSpPr>
            <p:spPr>
              <a:xfrm>
                <a:off x="4464000" y="3558960"/>
                <a:ext cx="401760" cy="7596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520" bIns="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61" name="Text Box 512"/>
            <p:cNvSpPr/>
            <p:nvPr/>
          </p:nvSpPr>
          <p:spPr>
            <a:xfrm>
              <a:off x="4564080" y="366516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grpSp>
        <p:nvGrpSpPr>
          <p:cNvPr id="162" name="组合 5164"/>
          <p:cNvGrpSpPr/>
          <p:nvPr/>
        </p:nvGrpSpPr>
        <p:grpSpPr>
          <a:xfrm>
            <a:off x="4427640" y="2879640"/>
            <a:ext cx="476280" cy="474840"/>
            <a:chOff x="4427640" y="2879640"/>
            <a:chExt cx="476280" cy="474840"/>
          </a:xfrm>
        </p:grpSpPr>
        <p:grpSp>
          <p:nvGrpSpPr>
            <p:cNvPr id="163" name="组合 5165"/>
            <p:cNvGrpSpPr/>
            <p:nvPr/>
          </p:nvGrpSpPr>
          <p:grpSpPr>
            <a:xfrm>
              <a:off x="4427640" y="2879640"/>
              <a:ext cx="476280" cy="474840"/>
              <a:chOff x="4427640" y="2879640"/>
              <a:chExt cx="476280" cy="474840"/>
            </a:xfrm>
          </p:grpSpPr>
          <p:sp>
            <p:nvSpPr>
              <p:cNvPr id="164" name="AutoShape 515"/>
              <p:cNvSpPr/>
              <p:nvPr/>
            </p:nvSpPr>
            <p:spPr>
              <a:xfrm>
                <a:off x="4427640" y="2879640"/>
                <a:ext cx="476280" cy="47484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sp>
            <p:nvSpPr>
              <p:cNvPr id="165" name="AutoShape 516"/>
              <p:cNvSpPr/>
              <p:nvPr/>
            </p:nvSpPr>
            <p:spPr>
              <a:xfrm>
                <a:off x="4451400" y="2905200"/>
                <a:ext cx="426960" cy="426960"/>
              </a:xfrm>
              <a:prstGeom prst="roundRect">
                <a:avLst>
                  <a:gd name="adj" fmla="val 6690"/>
                </a:avLst>
              </a:prstGeom>
              <a:gradFill rotWithShape="0">
                <a:gsLst>
                  <a:gs pos="0">
                    <a:srgbClr val="615529"/>
                  </a:gs>
                  <a:gs pos="100000">
                    <a:srgbClr val="38311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  <p:pic>
            <p:nvPicPr>
              <p:cNvPr id="166" name="Picture 517" descr="바코드"/>
              <p:cNvPicPr/>
              <p:nvPr/>
            </p:nvPicPr>
            <p:blipFill>
              <a:blip r:embed="rId8"/>
              <a:srcRect l="16802" t="9783" r="20325" b="5978"/>
              <a:stretch/>
            </p:blipFill>
            <p:spPr>
              <a:xfrm>
                <a:off x="4767480" y="2928960"/>
                <a:ext cx="82440" cy="5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AutoShape 518"/>
              <p:cNvSpPr/>
              <p:nvPr/>
            </p:nvSpPr>
            <p:spPr>
              <a:xfrm>
                <a:off x="4464000" y="2917800"/>
                <a:ext cx="401760" cy="76320"/>
              </a:xfrm>
              <a:prstGeom prst="roundRect">
                <a:avLst>
                  <a:gd name="adj" fmla="val 20227"/>
                </a:avLst>
              </a:prstGeom>
              <a:gradFill rotWithShape="0">
                <a:gsLst>
                  <a:gs pos="0">
                    <a:srgbClr val="bfad69"/>
                  </a:gs>
                  <a:gs pos="100000">
                    <a:srgbClr val="7c6d3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Gulim"/>
                </a:endParaRPr>
              </a:p>
            </p:txBody>
          </p:sp>
        </p:grpSp>
        <p:sp>
          <p:nvSpPr>
            <p:cNvPr id="168" name="Text Box 519"/>
            <p:cNvSpPr/>
            <p:nvPr/>
          </p:nvSpPr>
          <p:spPr>
            <a:xfrm>
              <a:off x="4564080" y="3024000"/>
              <a:ext cx="204840" cy="24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HY견고딕"/>
                  <a:ea typeface="HY견고딕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pic>
        <p:nvPicPr>
          <p:cNvPr id="169" name="TextBox 2" descr=""/>
          <p:cNvPicPr/>
          <p:nvPr/>
        </p:nvPicPr>
        <p:blipFill>
          <a:blip r:embed="rId9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70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35" descr="new masterset-028-2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136"/>
          <p:cNvSpPr/>
          <p:nvPr/>
        </p:nvSpPr>
        <p:spPr>
          <a:xfrm>
            <a:off x="2386080" y="2746440"/>
            <a:ext cx="5435640" cy="788760"/>
          </a:xfrm>
          <a:prstGeom prst="roundRect">
            <a:avLst>
              <a:gd name="adj" fmla="val 6690"/>
            </a:avLst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5400000"/>
          </a:gradFill>
          <a:ln w="648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대제목을 입력하세요</a:t>
            </a:r>
            <a:endParaRPr b="1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173" name="组合 6147"/>
          <p:cNvGrpSpPr/>
          <p:nvPr/>
        </p:nvGrpSpPr>
        <p:grpSpPr>
          <a:xfrm>
            <a:off x="1531800" y="2746440"/>
            <a:ext cx="790560" cy="788760"/>
            <a:chOff x="1531800" y="2746440"/>
            <a:chExt cx="790560" cy="788760"/>
          </a:xfrm>
        </p:grpSpPr>
        <p:sp>
          <p:nvSpPr>
            <p:cNvPr id="174" name="AutoShape 138"/>
            <p:cNvSpPr/>
            <p:nvPr/>
          </p:nvSpPr>
          <p:spPr>
            <a:xfrm>
              <a:off x="1531800" y="2746440"/>
              <a:ext cx="790560" cy="78876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175" name="AutoShape 139"/>
            <p:cNvSpPr/>
            <p:nvPr/>
          </p:nvSpPr>
          <p:spPr>
            <a:xfrm>
              <a:off x="1571400" y="2788920"/>
              <a:ext cx="709560" cy="709200"/>
            </a:xfrm>
            <a:prstGeom prst="roundRect">
              <a:avLst>
                <a:gd name="adj" fmla="val 6690"/>
              </a:avLst>
            </a:prstGeom>
            <a:gradFill rotWithShape="0">
              <a:gsLst>
                <a:gs pos="0">
                  <a:srgbClr val="615529"/>
                </a:gs>
                <a:gs pos="100000">
                  <a:srgbClr val="38311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pic>
          <p:nvPicPr>
            <p:cNvPr id="176" name="Picture 140" descr="바코드"/>
            <p:cNvPicPr/>
            <p:nvPr/>
          </p:nvPicPr>
          <p:blipFill>
            <a:blip r:embed="rId2"/>
            <a:srcRect l="16802" t="9783" r="20325" b="5978"/>
            <a:stretch/>
          </p:blipFill>
          <p:spPr>
            <a:xfrm>
              <a:off x="2116080" y="2844360"/>
              <a:ext cx="82440" cy="5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AutoShape 141"/>
            <p:cNvSpPr/>
            <p:nvPr/>
          </p:nvSpPr>
          <p:spPr>
            <a:xfrm>
              <a:off x="1592280" y="2809440"/>
              <a:ext cx="668160" cy="126720"/>
            </a:xfrm>
            <a:prstGeom prst="roundRect">
              <a:avLst>
                <a:gd name="adj" fmla="val 20227"/>
              </a:avLst>
            </a:prstGeom>
            <a:gradFill rotWithShape="0">
              <a:gsLst>
                <a:gs pos="0">
                  <a:srgbClr val="bfad69"/>
                </a:gs>
                <a:gs pos="100000">
                  <a:srgbClr val="7c6d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178" name="Text Box 142"/>
          <p:cNvSpPr/>
          <p:nvPr/>
        </p:nvSpPr>
        <p:spPr>
          <a:xfrm>
            <a:off x="1751040" y="2928960"/>
            <a:ext cx="339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Y견고딕"/>
                <a:ea typeface="HY견고딕"/>
              </a:rPr>
              <a:t>1</a:t>
            </a:r>
            <a:endParaRPr b="1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79" name="TextBox 2" descr=""/>
          <p:cNvPicPr/>
          <p:nvPr/>
        </p:nvPicPr>
        <p:blipFill>
          <a:blip r:embed="rId3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80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1" name="文本框 6155"/>
          <p:cNvSpPr/>
          <p:nvPr/>
        </p:nvSpPr>
        <p:spPr>
          <a:xfrm>
            <a:off x="2771640" y="580536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Gulim"/>
                <a:hlinkClick r:id="rId4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Gulim"/>
                <a:hlinkClick r:id="rId5"/>
              </a:rPr>
              <a:t>模板网站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</a:rPr>
              <a:t>http://www.eeppt.com/</a:t>
            </a:r>
            <a:endParaRPr b="1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21"/>
          <p:cNvSpPr/>
          <p:nvPr/>
        </p:nvSpPr>
        <p:spPr>
          <a:xfrm>
            <a:off x="879480" y="250920"/>
            <a:ext cx="6443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내용을 입력하세요</a:t>
            </a:r>
            <a:endParaRPr b="1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3" name="Text Box 122"/>
          <p:cNvSpPr/>
          <p:nvPr/>
        </p:nvSpPr>
        <p:spPr>
          <a:xfrm>
            <a:off x="268200" y="250920"/>
            <a:ext cx="40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HY견고딕"/>
                <a:ea typeface="HY견고딕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84" name="TextBox 2" descr=""/>
          <p:cNvPicPr/>
          <p:nvPr/>
        </p:nvPicPr>
        <p:blipFill>
          <a:blip r:embed="rId1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85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72C3-0013-4DC0-AF56-CFAC7A2F90C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5" descr="new masterset-028-4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6"/>
          <p:cNvSpPr/>
          <p:nvPr/>
        </p:nvSpPr>
        <p:spPr>
          <a:xfrm>
            <a:off x="3060000" y="2544840"/>
            <a:ext cx="272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Arial"/>
                <a:ea typeface="HY견고딕"/>
              </a:rPr>
              <a:t>감 사 합 니 다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HY견고딕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192" name="TextBox 2" descr=""/>
          <p:cNvPicPr/>
          <p:nvPr/>
        </p:nvPicPr>
        <p:blipFill>
          <a:blip r:embed="rId2"/>
          <a:stretch/>
        </p:blipFill>
        <p:spPr>
          <a:xfrm>
            <a:off x="609480" y="3876840"/>
            <a:ext cx="7925040" cy="645840"/>
          </a:xfrm>
          <a:prstGeom prst="rect">
            <a:avLst/>
          </a:prstGeom>
          <a:ln w="0">
            <a:noFill/>
          </a:ln>
        </p:spPr>
      </p:pic>
      <p:sp>
        <p:nvSpPr>
          <p:cNvPr id="193" name="TextBox 2"/>
          <p:cNvSpPr/>
          <p:nvPr/>
        </p:nvSpPr>
        <p:spPr>
          <a:xfrm>
            <a:off x="3632040" y="6593040"/>
            <a:ext cx="550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4" name="文本框 8197"/>
          <p:cNvSpPr/>
          <p:nvPr/>
        </p:nvSpPr>
        <p:spPr>
          <a:xfrm>
            <a:off x="755640" y="98100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Gulim"/>
                <a:hlinkClick r:id="rId3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Gulim"/>
                <a:hlinkClick r:id="rId4"/>
              </a:rPr>
              <a:t>模板网站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</a:rPr>
              <a:t>http://www.eeppt.com/</a:t>
            </a:r>
            <a:endParaRPr b="1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1T09:52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1:06Z</dcterms:modified>
  <cp:revision>5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