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025D2-8399-4E0C-83F1-A9BDFC47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7F97D-03B1-4F2A-BE6F-222D351D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361880" y="274320"/>
            <a:ext cx="769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6248A-B492-4CAE-A921-ADADCE11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28A50-C301-4C68-95D0-44B9793C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DBE8F-523C-4155-8039-4CC5A6FC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BF9E5-5416-4900-BD50-A3E56300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62575-39BB-49DD-993F-BAD7146D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EFBCE-7BA6-4A8B-96BF-8E26C06B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6252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6316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36188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6252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6316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4A724-8629-415F-9552-52AEBAD7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76AA8-5F1C-4BED-A897-C410463E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FC219-351A-4ECD-A9BE-551A60D1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3CD8C-2C63-4967-B1CE-73B7F276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42567-91C4-4317-988B-49B22714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D836C-E407-4ED0-96F7-1EEBA723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361880" y="274320"/>
            <a:ext cx="769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E7EF7-99F9-4770-8885-18787BF5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FE6A9-12B1-4E83-B43B-D966DBFE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C7CB7-60C3-48C0-83B9-43DBA7FD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8F3CB-00C0-4702-B373-880E8D44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B27BC-93AB-4C3D-9C56-0F9554A0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D8377-405D-420B-8E9B-00E430F6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6252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316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6188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6252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316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96252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6316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36188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96252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56316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F9DD1-3102-412C-BC53-6139CDB5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E64D6-2A13-4B5D-9CF6-1CBF1FC4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BC203-CAD5-449B-84B3-B35F5330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DF15D-10DB-4243-AF81-9C37C617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E2B45-BA6A-44B6-AE80-7A28ACF3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DEE9A-854A-430F-BA55-EF15BFBD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1361880" y="274320"/>
            <a:ext cx="769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8B1C6-F220-4241-9B7F-A89DD110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69B09-75EA-4000-9AE6-F0E18B0B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902C1-8007-4364-BCB4-BDE8989C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B89D6-EEC1-40EC-A47B-FDF6258E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39F-0E02-465C-B185-A1A72A6F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15B3B-6FC0-453C-AA4A-8A342783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518AB-E3B8-48E1-BF1C-72E8F0B5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96252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6316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136188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96252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56316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D4AEC-9E84-40A4-850A-A01DE369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78EF0-9471-41D8-A81B-B1947DD8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0F6D5-C945-439B-993C-6D352DB0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DB4C4-7F0C-42FC-974D-3229D6F0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97E3C-0CDA-44E2-BDE4-6974688D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FFCF7-769A-4618-982D-D2280952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361880" y="274320"/>
            <a:ext cx="769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6381E-E212-45F3-B4C0-F9D85F19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C7F90-F324-4928-8671-2DFDBFEE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B060-C8A2-4B72-8519-F5DB114A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40357-379C-4B2B-878B-283BFA50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A22A8-8F8D-41AF-BFA6-19568D14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DD8E8-2509-4553-9C48-B386D44C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66D19-3597-4F1E-8B5E-E5A31A9B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96252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6316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36188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96252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6316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E29B0-3AF1-4ED0-A443-593E3A15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8BF9F-F62B-4CE2-8E2E-FCDD2659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ED606-51C4-4C56-B0CF-459C08F9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148CB-7F7A-4A69-9BF1-6AF67F6D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FE358-E458-470B-A967-D207CEAA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F2A2D-6FF3-49F0-8232-C2293D95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CDAB-D656-4EBF-B710-2341B050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361880" y="274320"/>
            <a:ext cx="769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D6580-AA5E-4D83-B390-E5DF0134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376DD-AF7F-499A-9455-1B9901B3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DFD9C-E802-4F37-8C16-9340BEDC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EE3BF-74E5-4C9F-B199-9E1CA493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F38C3-898B-4A98-92EA-F231897E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36848-1DC0-4454-B76C-2044060F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96252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56316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136188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96252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56316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9EE03-B0EC-4030-9B59-AA13AD3D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59E1B-FE0B-4B88-BE62-3B886540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A1BA8-8401-4F17-BFF8-852DCCBF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1B519-EB02-45DF-937B-8E6254E5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69F-C393-441E-8E59-0CA06E29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1B2FF1-A70F-4454-B91E-A9E5BA47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BB6BA-829B-44B0-8136-99B5259C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361880" y="274320"/>
            <a:ext cx="769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CDD9D-56F7-433D-92AA-34C1453A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4DBB5-695D-42B9-80FB-FB084C5B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24BB1-6C0E-4DF7-9A54-A1B2C2CA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1594A-FBA3-408E-B3C1-67E7F913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A1E9A-910A-4F92-A3F7-2D32FF1B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54A5B-6819-48CC-9C2A-0A9DCC42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96252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56316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36188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96252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56316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72BA9-363B-44B8-BF6A-B1AE0110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5A77-26BA-4AC3-807D-7F716FD7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61880" y="274320"/>
            <a:ext cx="769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7A1-6D62-4EE0-9BE5-A46FF93D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F02-1684-4CFD-B455-CE1FD5E7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00B-337B-4C3E-8AD7-7B07D870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EF1-448B-4630-B799-50810C84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EDB-4240-414A-9773-A9F8B4F0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748C-03E2-4B81-BF66-A96F6841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6252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6316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36188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96252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6316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B98-C678-44BE-8F1D-96A7CFBC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688A-07A0-4DB1-BED6-185D931A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1989-2063-471F-91F2-900EEAD6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EBE8-E33C-4B2D-88F3-AA573484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36DC-677D-4C3E-99D3-09A9A13A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9A09-5265-4C10-AF12-8C4D20CB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61880" y="274320"/>
            <a:ext cx="769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9240-06B2-4FDB-96A4-826A203F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6FAD-3992-4F25-A00D-D531F0E6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B586-0972-4FAA-8BA8-A5988A04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9648-FC46-4856-8DB9-3D257D85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9554-F7D0-4CCA-9F2B-C84C4D12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0FBD-D565-4586-B78E-C081A2B0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252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6316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6188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96252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6316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1126-4B99-4A68-A317-E76F78BC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5667B-3321-45F6-AB80-96A3A870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AF931-2562-4C97-B604-490B8376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C2525-C74C-4883-86DA-7FE4BFC4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CC23F-513F-41BC-A814-D7190C75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05EFF-967B-4C4B-B5A8-464DA9AC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61880" y="274320"/>
            <a:ext cx="769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DF167-F019-4244-8F4A-7765CCB8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4E0D9-ACE5-4E68-808E-61724A9B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E5B76-0CA7-4DBC-886A-25E0E104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BC02D-A4CE-47F3-A539-E22221C3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78E8C-9A4D-4229-B979-A516C5AE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5FB6A-62A6-4663-8ADA-8F64DE76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6252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6316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36188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96252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6316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ABB63-355A-4B1C-9452-B4F55AE6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9EF81-08CF-4D54-A266-70FD2539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3C6EF-FA43-4ECF-BBD6-D53C0BDF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B4F29-C9F3-41F5-B423-AA654499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C224E-F508-4AAF-A0BD-444D9D29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701B2-4DD0-43EB-8D6A-C632A8CB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361880" y="274320"/>
            <a:ext cx="769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CFC60-F7C4-40C4-B564-03423059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92048-3AB1-4D30-A4FD-B0B6EF40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98457-063F-4AF8-A9A1-AA132097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ABE59-1DA4-4DB2-A2AB-7FAF1D5B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6103E-1932-4A6B-A441-1D5D2043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F7952-D471-4B86-8B4C-E64EEF73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61880" y="274320"/>
            <a:ext cx="769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96252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6316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36188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96252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6316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CB7B9-26B7-45C7-BC2D-0C754EF6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19B31-89C5-4243-857E-31FEAC6A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D8281-DA41-46B3-90B0-60B0744A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FDE7B-49C7-45BB-99DE-D1CD8879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4AC64-3ADF-432A-A42B-C5F7A69B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C8EB1-9920-40B0-B085-D910C34E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361880" y="274320"/>
            <a:ext cx="769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19AA9-6C96-43E8-ABA0-A0896D90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F82F7-699D-4A62-898A-C9127990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3F140-EA72-4596-BBDE-FFA5D3FE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48849-AD6B-4695-8F6D-837CF2CA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8DF96-052A-4A81-A632-36CD226C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419FF-75B0-42F9-A1E9-E73A5840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6252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6316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36188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6252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6316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07D89-9DF2-419B-A333-39C8D748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C35E3-489E-4DBD-960D-35C1A450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84AD2-FC3A-44AB-B7D0-0307EE4A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F4318-4C40-4A4E-8F37-8FF00E8D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7058C-693C-40E8-BF0E-66752E57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AC615-909D-4C7F-BBC5-9DD5926C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361880" y="274320"/>
            <a:ext cx="769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3806B-055B-4F4B-84F8-5373952E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B2D2D-CD41-492E-885E-7F7F9428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C24BA-ABB6-4C83-872C-28AF595A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C2544-F5EE-42D1-8BF6-15A07AEA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EE38A-F30D-422C-942D-3C56E9A2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E461C-67F1-4AEE-8B52-57EE4629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6252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6316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36188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6252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6316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9962B-5869-4940-A3A6-E8943943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5CBB4-A61B-49AE-888A-02CFC56D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D2F9E-437F-4474-B854-EF7994AF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FC7F9-8CBD-4E85-BC16-6AA5AC6E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B58CE-AAEE-41C5-83AE-76AE9BBF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9EE83-2EB9-4A1C-A159-BCF50D3B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361880" y="274320"/>
            <a:ext cx="769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591E1-141E-4D65-8A31-12952536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DFB74-207A-4EF2-9F4A-E699B948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93893-DD0B-4E3D-96BE-8878AAB8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630C1-1ACF-488A-8C57-32B9252C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361880" y="3964320"/>
            <a:ext cx="769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4779E-D068-4C3E-8F5C-C22F41B0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03160" y="160020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36188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03160" y="3964320"/>
            <a:ext cx="375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4376A-D073-4953-8345-ABB290B4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96252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63160" y="160020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36188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96252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63160" y="3964320"/>
            <a:ext cx="247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6737A-CC61-4195-B04F-BF7B781A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9BEAB-217B-4052-81A6-FD08DC12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10E4E-54BE-4C4F-B7C8-A15865CD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91083-1DB1-47F9-BFAE-C06AEACA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E02C-E56B-4F79-9CC6-3E0844FEE23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E295-C0E0-4384-95E2-7D487D26227E}" type="slidenum"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FE37-6A60-44B5-8029-4B5B39B3E67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D4A1-7C64-49E4-AFBF-C52FDBC1E420}" type="slidenum"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D11A-7551-416A-BDB1-4BD0950012F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02D0-8B93-4B40-B376-87A9B03241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238F-E89A-49E5-BFC1-956BF5C54314}" type="slidenum"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3E43-A157-4318-8024-BBF8FE88CBA6}" type="slidenum"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81E4-420D-4AA4-BE02-87C3232D4580}" type="slidenum"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E933-62E7-4A1E-9D7F-BF3152EB492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DE76-D6C2-4C06-8030-1F8A0772ACD9}" type="slidenum"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E50F-E9FF-4130-8EFD-C555AEE449B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FDB5-409A-4FB6-9B2B-67E0AA4F221A}" type="slidenum"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8ADC-265B-4C18-9D28-EB436ECFF18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文本框 15361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文本框 15362"/>
          <p:cNvSpPr/>
          <p:nvPr/>
        </p:nvSpPr>
        <p:spPr>
          <a:xfrm>
            <a:off x="1295280" y="8380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医疗液体分析取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5A4F-C454-49B0-8FD3-6FFF5D0B861C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61880" y="27432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361880" y="1600200"/>
            <a:ext cx="769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文本框 16387"/>
          <p:cNvSpPr/>
          <p:nvPr/>
        </p:nvSpPr>
        <p:spPr>
          <a:xfrm>
            <a:off x="1981080" y="2514600"/>
            <a:ext cx="5042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e6db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e6db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32Z</dcterms:modified>
  <cp:revision>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