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BA3-A304-42A9-AE9F-092A408A4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6435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5DF-1A84-4D92-A7EB-1A8D690F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2252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1050-373D-48C3-86A7-851F99FC9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7440" y="12949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58400" y="12949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6435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7440" y="36435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58400" y="36435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F95E-8DF9-4675-9F0D-2422C688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A76D-536A-404E-882B-5AB8C2D3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D7E6-CDFF-429B-8FF8-1E2BC9EC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5C3F-7232-4282-A580-595C5B9F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B8BC-400E-40AE-A1FB-C2EC7A23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AEF8-0D32-4A83-ABD6-0D9E8CA2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6FFA9-3695-4604-97D8-F012E365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D062-E093-4C6F-A95B-98A35F9D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11D-8C1C-49DB-ACAD-CB03F5C6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2252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A96A-D7CF-49A6-9C61-AE9CCB21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6435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F030-7BB3-46B8-95EF-B722DAFE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6435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76B15-94A5-41C0-B44C-6D660AE3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2252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FE8A-B4AE-4B30-9E12-5F2F4DE2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7440" y="12949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58400" y="12949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6435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7440" y="36435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58400" y="36435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0DE4-84A8-462C-8CEA-566225501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4C012-46F5-41EB-B277-B85215F7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ABB8E-9B6C-4B62-BD5D-62581357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8A865-6FC2-456B-BDA1-5C778AD5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3CDFC-FC74-4993-9F00-97A6E6DC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38A7A-B08B-4814-B530-23A0B36A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B9EE-F99C-4BD8-A7BF-0D221ECC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7191B-2C83-4A85-9C2A-DD24F5B7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C601E-D7A7-4CB7-8917-3DE24B3B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32252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F1C8F-456D-4696-AE98-164B9F1A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6435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E329C-13CA-4240-9462-24E5590D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6435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7CDF4-0789-4503-960A-88797151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32252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5980D-0A32-4F09-AF23-65E253F1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007440" y="12949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558400" y="12949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6435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007440" y="36435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558400" y="36435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132FB-4173-41B5-AF2B-032C5AA6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8C12-7593-4D53-B137-6D61C376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1B7A-374D-42C4-BDA9-35DA964A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456840"/>
            <a:ext cx="75438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3858-3590-45DB-95B7-563C730D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63D7-2728-41CB-97FE-2BB7AE7F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22520" y="36435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FBD-9B97-433F-B709-B2F5DD58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22520" y="12949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6435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B088-542F-48E3-8382-EB8D6F9C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ed1fe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4516-C188-4506-8EA7-3959DC1D5D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EE11-0759-4E3D-9FD4-046A1C4027D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BF7C-15A1-443B-B367-B02B4F8C17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ed1fe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BD0F-AB4F-4389-89E9-1335D9953C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743200"/>
            <a:ext cx="2971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ed1fe"/>
                </a:solidFill>
                <a:latin typeface="Times New Roman"/>
              </a:rPr>
              <a:t>98.6</a:t>
            </a: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6320" y="434340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100"/>
          <p:cNvSpPr/>
          <p:nvPr/>
        </p:nvSpPr>
        <p:spPr>
          <a:xfrm>
            <a:off x="2647440" y="83808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医疗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针筒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ed1fe"/>
                </a:solidFill>
                <a:latin typeface="Arial"/>
              </a:rPr>
              <a:t>Your Topic Goes Here</a:t>
            </a: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SUBTOPICS GO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Topic Goes Here</a:t>
            </a: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文本框 6147"/>
          <p:cNvSpPr/>
          <p:nvPr/>
        </p:nvSpPr>
        <p:spPr>
          <a:xfrm>
            <a:off x="762120" y="281952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F2BD-CDA0-46E6-BABB-47F9FD8A3A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23720" y="26665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ed1fe"/>
                </a:solidFill>
                <a:latin typeface="Times New Roman"/>
              </a:rPr>
              <a:t>Transitional Page</a:t>
            </a:r>
            <a:endParaRPr b="0" lang="en-US" sz="4000" spc="-1" strike="noStrike">
              <a:solidFill>
                <a:srgbClr val="8ed1f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4T22:13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35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