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421F-2DEE-4A87-B28D-3100C05C6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AB11-B9BD-47B5-BD61-18E484C5F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AD15-55D9-400A-BF50-2E1BE7108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A87F-66B1-4021-8DE2-08F47B6CB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46CA9-A3FC-4042-B7B7-C77F9866F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E4966-0759-42C3-8751-CC7DFB79C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9393A-0173-427D-9D21-65ECF5A2E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A407F-FFA7-4371-ABC6-FADAB315E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3861E-ECB7-472D-8BC1-E19CE46B7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EA328-535D-4DDB-A267-6137D7572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49BF3-8376-493C-863F-428C2215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79F2-DCA5-4061-89EF-BF50EB161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4E1F4-B6BA-4787-B914-81436F3A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55C9B-AA35-40E4-9183-B240E6BF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89D48-6EE4-4985-A08F-2B8C4F398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4C592-B0C6-4C2E-86C7-C03A7020A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6D98B-86D1-4C12-95B4-188D7FEBE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3A06-7740-4AD7-826E-B7B5C3C23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3882-D66A-4D1C-9AC5-496DDBB06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EABF-5E42-46BD-AF53-6DF93DC24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34C8-1C6F-4B22-992B-2469EF3EC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3D88-137D-4C2A-8103-3471544E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BEB2-F4EF-448C-8F90-4EF0E3BE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C694-A538-419D-8CAF-8048A2A0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4C5FC-3251-4784-8C25-6F8A6CF3B22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10C71-A459-4ACB-AE16-04EF451404B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93690-5C2C-480F-9A5C-AF095211DCF1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DFC97-17B3-49B0-A2F0-48B1509821C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4643280" y="2500200"/>
            <a:ext cx="52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4572000" y="312120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抽象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3075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3076"/>
          <p:cNvSpPr/>
          <p:nvPr/>
        </p:nvSpPr>
        <p:spPr>
          <a:xfrm>
            <a:off x="1998360" y="501336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艺术卡通绘画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文本框 5121"/>
          <p:cNvSpPr/>
          <p:nvPr/>
        </p:nvSpPr>
        <p:spPr>
          <a:xfrm>
            <a:off x="4211640" y="6308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A8A30-A0FD-45D0-9174-A4BC2C1BC8F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8:11Z</dcterms:modified>
  <cp:revision>4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