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0F37-2C80-468E-8D0B-8E9B7FAE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40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640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E2B5-5458-40CE-87F6-DEA53F93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8944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A80-AFB1-44A8-960D-4E09E7DA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3440" y="159984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37760" y="159984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3440" y="390852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37760" y="390852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881-0D6B-4B00-9AF7-B7D3BF276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30DF-7FCF-444E-AC9C-3F903D3A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28F4-14F9-4FE3-8BAF-ABEC85A0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F9E2-4ACB-4906-B98A-8B2CDCEE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A682-4B47-40BB-8053-9196830B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3EE8-6304-427A-B78A-61C9D2AB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47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80681-4126-42EB-A04D-368C532D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34CE-7482-4F81-B61F-6770D78A3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21D-A7E0-4E81-8663-99EFDF2A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8944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8FDF-1846-4BC0-A5FF-B2165673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640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7780-6501-4363-BABC-EAF3D701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40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640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657B-E557-4151-BE19-06584F75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8944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4B6C-26F6-4F84-94A2-37BA4E47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773440" y="159984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7760" y="159984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773440" y="390852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37760" y="390852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86F5-6A76-41A2-B701-CF1445F6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08A52-6608-4F30-89F2-249F590BB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15C30-E91D-4466-816C-79EB27A0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A079-45B1-4BE8-854E-977F761A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F8C49-D3D4-4F51-9BFF-A73BAB5E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0681-9D85-47A0-91D9-B13081DD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6BEA-1AA2-4521-8389-615F25B0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47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37A92-1D27-47CD-BF1B-D6F77AD8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252D-CF7F-40C7-ABFB-9DA61B15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8944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1F35F-E068-40B6-A4F2-3010997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640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A509-6926-4840-8106-5FDF08FD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40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640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97B59-7595-416E-BAD1-3CC63C5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8944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3155-1210-49DA-95F7-D373C5725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773440" y="159984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37760" y="159984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2773440" y="390852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4937760" y="3908520"/>
            <a:ext cx="20606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62C89-D2F3-4474-96ED-0125FD81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40E-68A0-48E6-95EB-6C56EA66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DBB-579D-40F4-BDE0-5EE260FA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47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0A5-4C4A-4BB1-81E5-80C83065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6A2-57B3-4FF9-A8BD-0560B0A7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89440" y="390852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3F64-0BC9-44A5-AB2F-52D1FBBA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89440" y="1599840"/>
            <a:ext cx="3123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6400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BA8-9D4A-4D01-A7E8-9954FAAD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246B-5FB5-43AD-A5AE-32E66E99A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E3FE-0053-44EF-A494-6D0C9DB9E93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4777-4FB3-4D67-B990-A508A7A468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EB8-7C6C-40BF-B379-AC5E3CB82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001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Times New Roman"/>
              </a:rPr>
              <a:t>Medical Master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495680" y="304776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Your Subtitle Goes He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5" name="图片 4099" descr="med_media"/>
          <p:cNvPicPr/>
          <p:nvPr/>
        </p:nvPicPr>
        <p:blipFill>
          <a:blip r:embed="rId1"/>
          <a:stretch/>
        </p:blipFill>
        <p:spPr>
          <a:xfrm>
            <a:off x="533520" y="1104840"/>
            <a:ext cx="3581280" cy="5372280"/>
          </a:xfrm>
          <a:prstGeom prst="rect">
            <a:avLst/>
          </a:prstGeom>
          <a:ln w="0">
            <a:noFill/>
          </a:ln>
        </p:spPr>
      </p:pic>
      <p:sp>
        <p:nvSpPr>
          <p:cNvPr id="126" name="文本框 4100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101"/>
          <p:cNvSpPr/>
          <p:nvPr/>
        </p:nvSpPr>
        <p:spPr>
          <a:xfrm>
            <a:off x="2647440" y="1143000"/>
            <a:ext cx="491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医学硕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Your Topic Goes Here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文本框 6147"/>
          <p:cNvSpPr/>
          <p:nvPr/>
        </p:nvSpPr>
        <p:spPr>
          <a:xfrm>
            <a:off x="1523880" y="29718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266720" y="2742840"/>
            <a:ext cx="4800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imes New Roman"/>
              </a:rPr>
              <a:t>Transitional Pag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4" name="图片 7170" descr="med_media"/>
          <p:cNvPicPr/>
          <p:nvPr/>
        </p:nvPicPr>
        <p:blipFill>
          <a:blip r:embed="rId2"/>
          <a:stretch/>
        </p:blipFill>
        <p:spPr>
          <a:xfrm>
            <a:off x="685800" y="1752480"/>
            <a:ext cx="134604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E14A-93AC-4603-A8D1-CD9243DF19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ero"/>
              </a:rPr>
              <a:t>elements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0" name="图片 8194" descr="medical_master_prt"/>
          <p:cNvPicPr/>
          <p:nvPr/>
        </p:nvPicPr>
        <p:blipFill>
          <a:blip r:embed="rId1"/>
          <a:stretch/>
        </p:blipFill>
        <p:spPr>
          <a:xfrm>
            <a:off x="2971800" y="4419720"/>
            <a:ext cx="266688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1" name="图片 8195" descr="medical_master_qx"/>
          <p:cNvPicPr/>
          <p:nvPr/>
        </p:nvPicPr>
        <p:blipFill>
          <a:blip r:embed="rId2"/>
          <a:stretch/>
        </p:blipFill>
        <p:spPr>
          <a:xfrm>
            <a:off x="2971800" y="1981080"/>
            <a:ext cx="2666880" cy="200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2" name="图片 8196" descr="medical_master_sld"/>
          <p:cNvPicPr/>
          <p:nvPr/>
        </p:nvPicPr>
        <p:blipFill>
          <a:blip r:embed="rId3"/>
          <a:stretch/>
        </p:blipFill>
        <p:spPr>
          <a:xfrm>
            <a:off x="6095880" y="4419720"/>
            <a:ext cx="2667240" cy="2000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3" name="图片 8197" descr="medical_master_trs"/>
          <p:cNvPicPr/>
          <p:nvPr/>
        </p:nvPicPr>
        <p:blipFill>
          <a:blip r:embed="rId4"/>
          <a:stretch/>
        </p:blipFill>
        <p:spPr>
          <a:xfrm>
            <a:off x="6095880" y="1981080"/>
            <a:ext cx="2667240" cy="2000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44" name="图片 8198" descr="med_media"/>
          <p:cNvPicPr/>
          <p:nvPr/>
        </p:nvPicPr>
        <p:blipFill>
          <a:blip r:embed="rId5"/>
          <a:stretch/>
        </p:blipFill>
        <p:spPr>
          <a:xfrm>
            <a:off x="266760" y="380880"/>
            <a:ext cx="23875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17:03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0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