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92EF7-A1EC-4A13-88B0-39BB2633D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EC782-9168-4F45-AFB7-A3A43C93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7E97B-F481-4042-AFD8-A29496C85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5066B-EF36-4EC9-AD4F-DF249BD0F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8A922-2E7C-4CB9-A2ED-8C1736644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5E5DE-D710-47F4-99DB-0971165E8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13A0C-3DCF-4D7F-997E-84A15675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8DB94-6F37-451B-834E-9A0CB8B8E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9AD9C-9F67-4909-825E-37E915A62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9FFD8-E6B4-476E-8C2D-9B5E5BF0F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4630F-0739-4F50-833F-71C222C3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CB502-0D16-4167-A112-683D2A36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CDA7D-60D3-40BE-A4E9-2DD2A3C6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1194-BDCD-4A1A-B4D0-BD3A4D0D8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D220E-05B7-4137-AD44-0CB58F63D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A6535-EE82-4B3F-808E-26BE4C631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86A07-6E7B-4073-950E-AA02ECE40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7F851D-9617-4BFA-91BA-1AD36B6AE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170C1-1EE5-4BB1-B816-F839894CA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E7C3E-DA1B-4FEE-8033-EBA525C84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5737B-4A9A-4725-8BBB-83A110677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777B86-A076-4E51-B9C7-489D2BC7A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B3AD3-1292-4D31-AB87-6182CDA2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DFE2B-AF74-4EB6-B38E-4EDD5A1A3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A45D8-B520-4F27-9E18-7D0643525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55ACC-D0AD-4618-9438-EA5D161A9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DDF0A-9FA9-4778-AA9A-79B6C3FF1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9045E-6C9E-4A5C-87F1-E6C3B1C7C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DA37C1-DD32-4EDC-8751-0EA73DC2CD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0BB57C-C292-433F-82C6-750CCD3FEE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6BDCF-D9BE-4A28-9EFA-A9A2E10E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976F6-2C54-459C-8D78-3B7935E72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0C982-9575-4F37-A6B2-7D8AE98BD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D0CC-1753-4526-A3CC-2A1C27C3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C162-E780-4562-B22A-90867A1C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F358-8B56-4F70-9CFD-7E4BD81C0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599840"/>
            <a:ext cx="8229600" cy="3809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4FC4-4DE1-4366-B967-AFEAE93B052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EB08-B506-4298-83FC-7072B9A882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599840"/>
            <a:ext cx="8229600" cy="3809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ED4A-EBE0-435F-9FD1-AA1D8CB236AC}" type="datetime">
              <a:rPr b="0" lang="en-US" sz="1200" spc="-1" strike="noStrike">
                <a:solidFill>
                  <a:srgbClr val="898989"/>
                </a:solidFill>
                <a:latin typeface="Arial"/>
                <a:ea typeface="宋体"/>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6659-3891-4540-98D2-A692DA810062}"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A2C5-4DDA-4155-8EB9-9DAD9AC90507}"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4597-B986-4912-918E-0555D2EDC49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2000" y="458640"/>
            <a:ext cx="6429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医院</a:t>
            </a:r>
            <a:r>
              <a:rPr b="1" lang="zh-CN" sz="4000" spc="-1" strike="noStrike">
                <a:solidFill>
                  <a:srgbClr val="ffffff"/>
                </a:solidFill>
                <a:latin typeface="Arial"/>
                <a:ea typeface="宋体"/>
              </a:rPr>
              <a:t>B</a:t>
            </a:r>
            <a:r>
              <a:rPr b="1" lang="zh-CN" sz="4000" spc="-1" strike="noStrike">
                <a:solidFill>
                  <a:srgbClr val="ffffff"/>
                </a:solidFill>
                <a:latin typeface="Arial"/>
                <a:ea typeface="宋体"/>
              </a:rPr>
              <a:t>超幻灯片在线下载</a:t>
            </a:r>
            <a:endParaRPr b="0" lang="en-US" sz="4000" spc="-1" strike="noStrike">
              <a:solidFill>
                <a:srgbClr val="ffffff"/>
              </a:solidFill>
              <a:latin typeface="Arial"/>
            </a:endParaRPr>
          </a:p>
        </p:txBody>
      </p:sp>
      <p:sp>
        <p:nvSpPr>
          <p:cNvPr id="124"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457200" y="1599840"/>
            <a:ext cx="8229600" cy="380988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agna aliquam er at volut pat. Ut wisi enim ad mi ni m venia m, quis nostrud exerci tatio n ullamco rper susc ip it lobor tis nisl ut aliquip ex ea commodo cons equ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文本框 5123"/>
          <p:cNvSpPr/>
          <p:nvPr/>
        </p:nvSpPr>
        <p:spPr>
          <a:xfrm>
            <a:off x="1108080" y="5364000"/>
            <a:ext cx="50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1"/>
              </a:rPr>
              <a:t>ppt</a:t>
            </a:r>
            <a:r>
              <a:rPr b="0" lang="zh-CN" sz="1600" spc="-1" strike="noStrike" u="sng">
                <a:solidFill>
                  <a:srgbClr val="0000ff"/>
                </a:solidFill>
                <a:uFillTx/>
                <a:latin typeface="Calibri"/>
                <a:ea typeface="Calibri"/>
                <a:hlinkClick r:id="rId2"/>
              </a:rPr>
              <a:t>模板网站</a:t>
            </a:r>
            <a:r>
              <a:rPr b="0" lang="en-US" sz="1600" spc="-1" strike="noStrike">
                <a:solidFill>
                  <a:srgbClr val="000000"/>
                </a:solidFill>
                <a:latin typeface="Calibri"/>
                <a:ea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1"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BFF2-9D2F-45C5-A6F1-922DDB9B531E}"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1080" y="4568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a typeface="宋体"/>
            </a:endParaRPr>
          </a:p>
        </p:txBody>
      </p:sp>
      <p:sp>
        <p:nvSpPr>
          <p:cNvPr id="133" name=""/>
          <p:cNvSpPr txBox="1"/>
          <p:nvPr/>
        </p:nvSpPr>
        <p:spPr>
          <a:xfrm>
            <a:off x="1981080" y="1935000"/>
            <a:ext cx="6858000" cy="4694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agna aliquam er at volut pat. Ut wisi enim ad mi ni m venia m, quis nostrud exerci tatio n ulla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 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0:46:57Z</dcterms:created>
  <dc:creator>幻灯片之家：www.eeppt.com</dc:creator>
  <dc:description>幻灯片之家：www.eeppt.com</dc:description>
  <cp:keywords>幻灯片之家：www.eeppt.com</cp:keywords>
  <dc:language>en-US</dc:language>
  <cp:lastModifiedBy>pc</cp:lastModifiedBy>
  <dcterms:modified xsi:type="dcterms:W3CDTF">2015-11-13T04:31:42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