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8C0E-5B8A-4A50-8524-FB1364CB6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BC92-921F-4D8F-ADD2-BADF26F6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B084-3A4B-4C48-83F2-A161662A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D5CE-6C4A-4868-8E86-8266CB615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A0974-4F7E-44D4-B090-D60EF615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B0162-1E96-452F-ADA2-C9141869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9A7D0-B905-421A-B545-B456D87A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FFD33-E8BE-4893-9128-A5F6746D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E1E44-C431-4690-9B84-AF46341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3147C-978A-43DB-BE24-3265CC09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12D04-F31A-4C3E-9B44-65E14DDB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9C82-B5AB-4F1E-AD5E-B95FE879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21241-56A5-4014-95FF-241D2018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C2D0E-812D-4B91-9762-15BB0CC2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A19B4-F894-4C23-A28E-F1D6C508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4BAA7-F01E-443F-B7D1-F431F282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828ED-290F-46F2-994F-03E67C09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2FDC4D-754E-4B0D-A9B8-24E9FC497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3A82B-331A-486A-BF90-39551CD8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059B4-DE6E-4E5D-9694-28220A4F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AA5F9-8359-4D28-A2DE-7CA528D4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DDD98-A780-4F28-A0B5-704A483C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DEDF-0614-4C76-9602-7FD0EF30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26652-5E87-4679-BF14-02C9676C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DD1AE-1003-4F4C-A8EA-7942F780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8E775-E472-4F94-8FE5-A15B38E9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260E3-2C30-45C7-BFCD-26A5490A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0DEE2-DC13-45E0-B6BF-01CCFA51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AEA2C2-D08C-4BB7-8E1A-39BE84A3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CDBB8F-E531-46B1-A88A-60AE84C1CC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481D-2231-4375-A70E-ED1F5AA5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167E-EDF3-4E71-B25E-28AC2A1B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F9C7-FC68-41C2-94D1-4D76A41A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72F7-B1E7-4D70-9582-84B13DE4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4912-6609-40B6-95AA-2A78C084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3CBD-60A8-4713-B429-00A848C5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f6d7b9"/>
              </a:gs>
              <a:gs pos="100000">
                <a:srgbClr val="e389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对象 10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3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94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3892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191120" y="655308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436D-7773-4DD8-B36D-576345B35DA0}" type="slidenum">
              <a:rPr b="0" lang="en-US" sz="10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文本框 1031"/>
          <p:cNvSpPr/>
          <p:nvPr/>
        </p:nvSpPr>
        <p:spPr>
          <a:xfrm>
            <a:off x="228600" y="152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c0c0"/>
                </a:solidFill>
                <a:latin typeface="Arial"/>
                <a:ea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1032" descr="p12_s"/>
          <p:cNvPicPr/>
          <p:nvPr/>
        </p:nvPicPr>
        <p:blipFill>
          <a:blip r:embed="rId3"/>
          <a:stretch/>
        </p:blipFill>
        <p:spPr>
          <a:xfrm>
            <a:off x="8153280" y="590400"/>
            <a:ext cx="698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BDBA-EE46-4D48-9594-DE12C08FB69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5F8D-7E29-4B27-9624-EC3E1DA88F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2051"/>
          <p:cNvSpPr/>
          <p:nvPr/>
        </p:nvSpPr>
        <p:spPr>
          <a:xfrm>
            <a:off x="7620120" y="3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c0c0"/>
                </a:solidFill>
                <a:latin typeface="Arial"/>
                <a:ea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94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3892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7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2C50-5C1D-4B41-8CC9-ED68A5B8062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79072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医院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幻灯片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素材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666520" y="33523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4099" descr="p12_s"/>
          <p:cNvPicPr/>
          <p:nvPr/>
        </p:nvPicPr>
        <p:blipFill>
          <a:blip r:embed="rId1"/>
          <a:stretch/>
        </p:blipFill>
        <p:spPr>
          <a:xfrm>
            <a:off x="7620120" y="2889360"/>
            <a:ext cx="1218960" cy="93168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4100"/>
          <p:cNvSpPr/>
          <p:nvPr/>
        </p:nvSpPr>
        <p:spPr>
          <a:xfrm>
            <a:off x="533520" y="64771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组合 13314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318" name="燕尾形 13315"/>
            <p:cNvSpPr/>
            <p:nvPr/>
          </p:nvSpPr>
          <p:spPr>
            <a:xfrm>
              <a:off x="2976840" y="317484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229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燕尾形 13316"/>
            <p:cNvSpPr/>
            <p:nvPr/>
          </p:nvSpPr>
          <p:spPr>
            <a:xfrm>
              <a:off x="5491440" y="317484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13317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13318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13319"/>
            <p:cNvSpPr/>
            <p:nvPr/>
          </p:nvSpPr>
          <p:spPr>
            <a:xfrm>
              <a:off x="61516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13320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13321"/>
            <p:cNvSpPr/>
            <p:nvPr/>
          </p:nvSpPr>
          <p:spPr>
            <a:xfrm>
              <a:off x="6243840" y="266040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1332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5a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 13323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855a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 13324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83176"/>
                </a:gs>
                <a:gs pos="50000">
                  <a:srgbClr val="855ada"/>
                </a:gs>
                <a:gs pos="100000">
                  <a:srgbClr val="4831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13325"/>
            <p:cNvSpPr/>
            <p:nvPr/>
          </p:nvSpPr>
          <p:spPr>
            <a:xfrm>
              <a:off x="1122480" y="257148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54398a"/>
                </a:gs>
                <a:gs pos="100000">
                  <a:srgbClr val="855a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13326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组合 13327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331" name="椭圆 13328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椭圆 13329"/>
              <p:cNvSpPr/>
              <p:nvPr/>
            </p:nvSpPr>
            <p:spPr>
              <a:xfrm>
                <a:off x="12510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椭圆 13330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 13331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椭圆 13332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2945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13333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229450">
                    <a:alpha val="32156"/>
                  </a:srgbClr>
                </a:gs>
                <a:gs pos="100000">
                  <a:srgbClr val="1044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13334"/>
            <p:cNvSpPr/>
            <p:nvPr/>
          </p:nvSpPr>
          <p:spPr>
            <a:xfrm>
              <a:off x="36370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12502b"/>
                </a:gs>
                <a:gs pos="50000">
                  <a:srgbClr val="229450"/>
                </a:gs>
                <a:gs pos="100000">
                  <a:srgbClr val="1250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13335"/>
            <p:cNvSpPr/>
            <p:nvPr/>
          </p:nvSpPr>
          <p:spPr>
            <a:xfrm>
              <a:off x="3638520" y="257796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165e33"/>
                </a:gs>
                <a:gs pos="100000">
                  <a:srgbClr val="22945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13336"/>
            <p:cNvSpPr/>
            <p:nvPr/>
          </p:nvSpPr>
          <p:spPr>
            <a:xfrm>
              <a:off x="3722760" y="266040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组合 13337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341" name="椭圆 13338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椭圆 13339"/>
              <p:cNvSpPr/>
              <p:nvPr/>
            </p:nvSpPr>
            <p:spPr>
              <a:xfrm>
                <a:off x="37674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椭圆 13340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椭圆 13341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组合 13342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346" name="椭圆 13343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13344"/>
              <p:cNvSpPr/>
              <p:nvPr/>
            </p:nvSpPr>
            <p:spPr>
              <a:xfrm>
                <a:off x="6291360" y="268632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13345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椭圆 13346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圆角矩形 13347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圆角矩形 13348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圆角矩形 13349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文本框 13350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13351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13352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文本框 13353"/>
          <p:cNvSpPr/>
          <p:nvPr/>
        </p:nvSpPr>
        <p:spPr>
          <a:xfrm>
            <a:off x="990720" y="152388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cc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组合 14338"/>
          <p:cNvGrpSpPr/>
          <p:nvPr/>
        </p:nvGrpSpPr>
        <p:grpSpPr>
          <a:xfrm>
            <a:off x="1143000" y="1542960"/>
            <a:ext cx="7086600" cy="4476600"/>
            <a:chOff x="1143000" y="1542960"/>
            <a:chExt cx="7086600" cy="4476600"/>
          </a:xfrm>
        </p:grpSpPr>
        <p:sp>
          <p:nvSpPr>
            <p:cNvPr id="359" name="任意多边形 14339"/>
            <p:cNvSpPr/>
            <p:nvPr/>
          </p:nvSpPr>
          <p:spPr>
            <a:xfrm>
              <a:off x="114300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22945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14340"/>
            <p:cNvSpPr/>
            <p:nvPr/>
          </p:nvSpPr>
          <p:spPr>
            <a:xfrm>
              <a:off x="5562720" y="35049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组合 14341"/>
            <p:cNvGrpSpPr/>
            <p:nvPr/>
          </p:nvGrpSpPr>
          <p:grpSpPr>
            <a:xfrm>
              <a:off x="3324240" y="3752640"/>
              <a:ext cx="1704960" cy="2028960"/>
              <a:chOff x="3324240" y="3752640"/>
              <a:chExt cx="1704960" cy="2028960"/>
            </a:xfrm>
          </p:grpSpPr>
          <p:sp>
            <p:nvSpPr>
              <p:cNvPr id="362" name="椭圆 14342"/>
              <p:cNvSpPr/>
              <p:nvPr/>
            </p:nvSpPr>
            <p:spPr>
              <a:xfrm rot="20876400">
                <a:off x="3392640" y="49719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椭圆 14343"/>
              <p:cNvSpPr/>
              <p:nvPr/>
            </p:nvSpPr>
            <p:spPr>
              <a:xfrm>
                <a:off x="3324240" y="37526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14344"/>
              <p:cNvSpPr/>
              <p:nvPr/>
            </p:nvSpPr>
            <p:spPr>
              <a:xfrm>
                <a:off x="3344760" y="37620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椭圆 14345"/>
              <p:cNvSpPr/>
              <p:nvPr/>
            </p:nvSpPr>
            <p:spPr>
              <a:xfrm>
                <a:off x="3362400" y="37782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椭圆 14346"/>
              <p:cNvSpPr/>
              <p:nvPr/>
            </p:nvSpPr>
            <p:spPr>
              <a:xfrm>
                <a:off x="3454560" y="38224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文本框 14347"/>
              <p:cNvSpPr/>
              <p:nvPr/>
            </p:nvSpPr>
            <p:spPr>
              <a:xfrm>
                <a:off x="3741840" y="43797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组合 14348"/>
            <p:cNvGrpSpPr/>
            <p:nvPr/>
          </p:nvGrpSpPr>
          <p:grpSpPr>
            <a:xfrm>
              <a:off x="1473120" y="3371760"/>
              <a:ext cx="1371240" cy="1718640"/>
              <a:chOff x="1473120" y="3371760"/>
              <a:chExt cx="1371240" cy="1718640"/>
            </a:xfrm>
          </p:grpSpPr>
          <p:sp>
            <p:nvSpPr>
              <p:cNvPr id="369" name="椭圆 14349"/>
              <p:cNvSpPr/>
              <p:nvPr/>
            </p:nvSpPr>
            <p:spPr>
              <a:xfrm rot="20826600">
                <a:off x="1549440" y="43621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组合 14350"/>
              <p:cNvGrpSpPr/>
              <p:nvPr/>
            </p:nvGrpSpPr>
            <p:grpSpPr>
              <a:xfrm>
                <a:off x="1473120" y="3371760"/>
                <a:ext cx="1371240" cy="1441080"/>
                <a:chOff x="1473120" y="3371760"/>
                <a:chExt cx="1371240" cy="1441080"/>
              </a:xfrm>
            </p:grpSpPr>
            <p:sp>
              <p:nvSpPr>
                <p:cNvPr id="371" name="椭圆 14351"/>
                <p:cNvSpPr/>
                <p:nvPr/>
              </p:nvSpPr>
              <p:spPr>
                <a:xfrm>
                  <a:off x="1473120" y="33717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14352"/>
                <p:cNvSpPr/>
                <p:nvPr/>
              </p:nvSpPr>
              <p:spPr>
                <a:xfrm>
                  <a:off x="1491120" y="33800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椭圆 14353"/>
                <p:cNvSpPr/>
                <p:nvPr/>
              </p:nvSpPr>
              <p:spPr>
                <a:xfrm>
                  <a:off x="1504080" y="33933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椭圆 14354"/>
                <p:cNvSpPr/>
                <p:nvPr/>
              </p:nvSpPr>
              <p:spPr>
                <a:xfrm>
                  <a:off x="1575720" y="34300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文本框 14355"/>
                <p:cNvSpPr/>
                <p:nvPr/>
              </p:nvSpPr>
              <p:spPr>
                <a:xfrm>
                  <a:off x="1753560" y="3877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组合 14356"/>
            <p:cNvGrpSpPr/>
            <p:nvPr/>
          </p:nvGrpSpPr>
          <p:grpSpPr>
            <a:xfrm>
              <a:off x="1143000" y="2000160"/>
              <a:ext cx="1100160" cy="1139760"/>
              <a:chOff x="1143000" y="2000160"/>
              <a:chExt cx="1100160" cy="1139760"/>
            </a:xfrm>
          </p:grpSpPr>
          <p:sp>
            <p:nvSpPr>
              <p:cNvPr id="377" name="椭圆 14357"/>
              <p:cNvSpPr/>
              <p:nvPr/>
            </p:nvSpPr>
            <p:spPr>
              <a:xfrm>
                <a:off x="1143000" y="26067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椭圆 14358"/>
              <p:cNvSpPr/>
              <p:nvPr/>
            </p:nvSpPr>
            <p:spPr>
              <a:xfrm>
                <a:off x="1219320" y="20001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椭圆 14359"/>
              <p:cNvSpPr/>
              <p:nvPr/>
            </p:nvSpPr>
            <p:spPr>
              <a:xfrm>
                <a:off x="1231920" y="20048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椭圆 14360"/>
              <p:cNvSpPr/>
              <p:nvPr/>
            </p:nvSpPr>
            <p:spPr>
              <a:xfrm>
                <a:off x="1243080" y="20160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椭圆 14361"/>
              <p:cNvSpPr/>
              <p:nvPr/>
            </p:nvSpPr>
            <p:spPr>
              <a:xfrm>
                <a:off x="1297080" y="20415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文本框 14362"/>
              <p:cNvSpPr/>
              <p:nvPr/>
            </p:nvSpPr>
            <p:spPr>
              <a:xfrm>
                <a:off x="1416240" y="234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组合 14363"/>
            <p:cNvGrpSpPr/>
            <p:nvPr/>
          </p:nvGrpSpPr>
          <p:grpSpPr>
            <a:xfrm>
              <a:off x="2638440" y="1542960"/>
              <a:ext cx="804960" cy="762120"/>
              <a:chOff x="2638440" y="1542960"/>
              <a:chExt cx="804960" cy="762120"/>
            </a:xfrm>
          </p:grpSpPr>
          <p:sp>
            <p:nvSpPr>
              <p:cNvPr id="384" name="椭圆 14364"/>
              <p:cNvSpPr/>
              <p:nvPr/>
            </p:nvSpPr>
            <p:spPr>
              <a:xfrm>
                <a:off x="2638440" y="20764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椭圆 14365"/>
              <p:cNvSpPr/>
              <p:nvPr/>
            </p:nvSpPr>
            <p:spPr>
              <a:xfrm>
                <a:off x="2760840" y="15429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 14366"/>
              <p:cNvSpPr/>
              <p:nvPr/>
            </p:nvSpPr>
            <p:spPr>
              <a:xfrm>
                <a:off x="2770200" y="15462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椭圆 14367"/>
              <p:cNvSpPr/>
              <p:nvPr/>
            </p:nvSpPr>
            <p:spPr>
              <a:xfrm>
                <a:off x="2776680" y="15523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椭圆 14368"/>
              <p:cNvSpPr/>
              <p:nvPr/>
            </p:nvSpPr>
            <p:spPr>
              <a:xfrm>
                <a:off x="2813040" y="15714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文本框 14369"/>
              <p:cNvSpPr/>
              <p:nvPr/>
            </p:nvSpPr>
            <p:spPr>
              <a:xfrm>
                <a:off x="2831040" y="1766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文本框 1437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93" name="右箭头 1536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229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右箭头 1536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229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右箭头 1536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229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右箭头 1536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229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右箭头 1536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229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右箭头 1536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229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1c69a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1c69a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1c69a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1c69a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1c69a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1c69a"/>
                </a:gs>
                <a:gs pos="100000">
                  <a:srgbClr val="e389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 15383"/>
            <p:cNvSpPr/>
            <p:nvPr/>
          </p:nvSpPr>
          <p:spPr>
            <a:xfrm>
              <a:off x="3554280" y="2895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椭圆 15384"/>
            <p:cNvSpPr/>
            <p:nvPr/>
          </p:nvSpPr>
          <p:spPr>
            <a:xfrm>
              <a:off x="3652560" y="3003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椭圆 15385"/>
            <p:cNvSpPr/>
            <p:nvPr/>
          </p:nvSpPr>
          <p:spPr>
            <a:xfrm>
              <a:off x="3657600" y="3003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99dce"/>
                </a:gs>
                <a:gs pos="50000">
                  <a:srgbClr val="0099cc">
                    <a:alpha val="0"/>
                  </a:srgbClr>
                </a:gs>
                <a:gs pos="100000">
                  <a:srgbClr val="099d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18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组合 16386"/>
          <p:cNvGrpSpPr/>
          <p:nvPr/>
        </p:nvGrpSpPr>
        <p:grpSpPr>
          <a:xfrm>
            <a:off x="1219320" y="2060640"/>
            <a:ext cx="2170080" cy="4034880"/>
            <a:chOff x="1219320" y="2060640"/>
            <a:chExt cx="2170080" cy="4034880"/>
          </a:xfrm>
        </p:grpSpPr>
        <p:sp>
          <p:nvSpPr>
            <p:cNvPr id="425" name="圆角矩形 16387"/>
            <p:cNvSpPr/>
            <p:nvPr/>
          </p:nvSpPr>
          <p:spPr>
            <a:xfrm>
              <a:off x="1219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圆角矩形 16388"/>
            <p:cNvSpPr/>
            <p:nvPr/>
          </p:nvSpPr>
          <p:spPr>
            <a:xfrm>
              <a:off x="125280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圆角矩形 16389"/>
            <p:cNvSpPr/>
            <p:nvPr/>
          </p:nvSpPr>
          <p:spPr>
            <a:xfrm>
              <a:off x="1270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圆角矩形 16390"/>
            <p:cNvSpPr/>
            <p:nvPr/>
          </p:nvSpPr>
          <p:spPr>
            <a:xfrm>
              <a:off x="1270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圆角矩形 16391"/>
            <p:cNvSpPr/>
            <p:nvPr/>
          </p:nvSpPr>
          <p:spPr>
            <a:xfrm>
              <a:off x="12258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圆角矩形 16392"/>
            <p:cNvSpPr/>
            <p:nvPr/>
          </p:nvSpPr>
          <p:spPr>
            <a:xfrm>
              <a:off x="1270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组合 16393"/>
            <p:cNvGrpSpPr/>
            <p:nvPr/>
          </p:nvGrpSpPr>
          <p:grpSpPr>
            <a:xfrm>
              <a:off x="1963800" y="2060640"/>
              <a:ext cx="642960" cy="642600"/>
              <a:chOff x="1963800" y="2060640"/>
              <a:chExt cx="642960" cy="642600"/>
            </a:xfrm>
          </p:grpSpPr>
          <p:sp>
            <p:nvSpPr>
              <p:cNvPr id="432" name="椭圆 16394"/>
              <p:cNvSpPr/>
              <p:nvPr/>
            </p:nvSpPr>
            <p:spPr>
              <a:xfrm>
                <a:off x="19638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椭圆 16395"/>
              <p:cNvSpPr/>
              <p:nvPr/>
            </p:nvSpPr>
            <p:spPr>
              <a:xfrm>
                <a:off x="19702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椭圆 16396"/>
              <p:cNvSpPr/>
              <p:nvPr/>
            </p:nvSpPr>
            <p:spPr>
              <a:xfrm>
                <a:off x="19782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椭圆 16397"/>
              <p:cNvSpPr/>
              <p:nvPr/>
            </p:nvSpPr>
            <p:spPr>
              <a:xfrm>
                <a:off x="1984680" y="20746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椭圆 16398"/>
              <p:cNvSpPr/>
              <p:nvPr/>
            </p:nvSpPr>
            <p:spPr>
              <a:xfrm>
                <a:off x="20185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文本框 16399"/>
            <p:cNvSpPr/>
            <p:nvPr/>
          </p:nvSpPr>
          <p:spPr>
            <a:xfrm>
              <a:off x="2103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文本框 16400"/>
            <p:cNvSpPr/>
            <p:nvPr/>
          </p:nvSpPr>
          <p:spPr>
            <a:xfrm>
              <a:off x="12956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16401"/>
          <p:cNvGrpSpPr/>
          <p:nvPr/>
        </p:nvGrpSpPr>
        <p:grpSpPr>
          <a:xfrm>
            <a:off x="3581280" y="2060640"/>
            <a:ext cx="2166840" cy="4034880"/>
            <a:chOff x="3581280" y="2060640"/>
            <a:chExt cx="2166840" cy="4034880"/>
          </a:xfrm>
        </p:grpSpPr>
        <p:sp>
          <p:nvSpPr>
            <p:cNvPr id="440" name="圆角矩形 16402"/>
            <p:cNvSpPr/>
            <p:nvPr/>
          </p:nvSpPr>
          <p:spPr>
            <a:xfrm>
              <a:off x="358128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16403"/>
            <p:cNvSpPr/>
            <p:nvPr/>
          </p:nvSpPr>
          <p:spPr>
            <a:xfrm>
              <a:off x="361476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16404"/>
            <p:cNvSpPr/>
            <p:nvPr/>
          </p:nvSpPr>
          <p:spPr>
            <a:xfrm>
              <a:off x="363204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圆角矩形 16405"/>
            <p:cNvSpPr/>
            <p:nvPr/>
          </p:nvSpPr>
          <p:spPr>
            <a:xfrm>
              <a:off x="363204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椭圆 16406"/>
            <p:cNvSpPr/>
            <p:nvPr/>
          </p:nvSpPr>
          <p:spPr>
            <a:xfrm>
              <a:off x="432576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16407"/>
            <p:cNvSpPr/>
            <p:nvPr/>
          </p:nvSpPr>
          <p:spPr>
            <a:xfrm>
              <a:off x="4332240" y="20649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椭圆 16408"/>
            <p:cNvSpPr/>
            <p:nvPr/>
          </p:nvSpPr>
          <p:spPr>
            <a:xfrm>
              <a:off x="4340160" y="20682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椭圆 16409"/>
            <p:cNvSpPr/>
            <p:nvPr/>
          </p:nvSpPr>
          <p:spPr>
            <a:xfrm>
              <a:off x="4346280" y="20746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6410"/>
            <p:cNvSpPr/>
            <p:nvPr/>
          </p:nvSpPr>
          <p:spPr>
            <a:xfrm>
              <a:off x="4381560" y="20905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文本框 16411"/>
            <p:cNvSpPr/>
            <p:nvPr/>
          </p:nvSpPr>
          <p:spPr>
            <a:xfrm>
              <a:off x="44658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文本框 16412"/>
            <p:cNvSpPr/>
            <p:nvPr/>
          </p:nvSpPr>
          <p:spPr>
            <a:xfrm>
              <a:off x="3657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圆角矩形 16413"/>
            <p:cNvSpPr/>
            <p:nvPr/>
          </p:nvSpPr>
          <p:spPr>
            <a:xfrm>
              <a:off x="358452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16414"/>
            <p:cNvSpPr/>
            <p:nvPr/>
          </p:nvSpPr>
          <p:spPr>
            <a:xfrm>
              <a:off x="3628800" y="52495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16415"/>
          <p:cNvGrpSpPr/>
          <p:nvPr/>
        </p:nvGrpSpPr>
        <p:grpSpPr>
          <a:xfrm>
            <a:off x="5937120" y="2060640"/>
            <a:ext cx="2170080" cy="4034880"/>
            <a:chOff x="5937120" y="2060640"/>
            <a:chExt cx="2170080" cy="4034880"/>
          </a:xfrm>
        </p:grpSpPr>
        <p:sp>
          <p:nvSpPr>
            <p:cNvPr id="454" name="圆角矩形 16416"/>
            <p:cNvSpPr/>
            <p:nvPr/>
          </p:nvSpPr>
          <p:spPr>
            <a:xfrm>
              <a:off x="5943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圆角矩形 16417"/>
            <p:cNvSpPr/>
            <p:nvPr/>
          </p:nvSpPr>
          <p:spPr>
            <a:xfrm>
              <a:off x="597672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16418"/>
            <p:cNvSpPr/>
            <p:nvPr/>
          </p:nvSpPr>
          <p:spPr>
            <a:xfrm>
              <a:off x="5994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圆角矩形 16419"/>
            <p:cNvSpPr/>
            <p:nvPr/>
          </p:nvSpPr>
          <p:spPr>
            <a:xfrm>
              <a:off x="5994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组合 16420"/>
            <p:cNvGrpSpPr/>
            <p:nvPr/>
          </p:nvGrpSpPr>
          <p:grpSpPr>
            <a:xfrm>
              <a:off x="6688080" y="2060640"/>
              <a:ext cx="642960" cy="642600"/>
              <a:chOff x="6688080" y="2060640"/>
              <a:chExt cx="642960" cy="642600"/>
            </a:xfrm>
          </p:grpSpPr>
          <p:sp>
            <p:nvSpPr>
              <p:cNvPr id="459" name="椭圆 16421"/>
              <p:cNvSpPr/>
              <p:nvPr/>
            </p:nvSpPr>
            <p:spPr>
              <a:xfrm>
                <a:off x="6688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椭圆 16422"/>
              <p:cNvSpPr/>
              <p:nvPr/>
            </p:nvSpPr>
            <p:spPr>
              <a:xfrm>
                <a:off x="6694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椭圆 16423"/>
              <p:cNvSpPr/>
              <p:nvPr/>
            </p:nvSpPr>
            <p:spPr>
              <a:xfrm>
                <a:off x="6702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椭圆 16424"/>
              <p:cNvSpPr/>
              <p:nvPr/>
            </p:nvSpPr>
            <p:spPr>
              <a:xfrm>
                <a:off x="6708960" y="20746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椭圆 16425"/>
              <p:cNvSpPr/>
              <p:nvPr/>
            </p:nvSpPr>
            <p:spPr>
              <a:xfrm>
                <a:off x="6742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文本框 16426"/>
            <p:cNvSpPr/>
            <p:nvPr/>
          </p:nvSpPr>
          <p:spPr>
            <a:xfrm>
              <a:off x="6828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文本框 16427"/>
            <p:cNvSpPr/>
            <p:nvPr/>
          </p:nvSpPr>
          <p:spPr>
            <a:xfrm>
              <a:off x="601956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16428"/>
            <p:cNvSpPr/>
            <p:nvPr/>
          </p:nvSpPr>
          <p:spPr>
            <a:xfrm>
              <a:off x="593712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16429"/>
            <p:cNvSpPr/>
            <p:nvPr/>
          </p:nvSpPr>
          <p:spPr>
            <a:xfrm>
              <a:off x="5981400" y="52495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组合 17410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70" name="组合 17411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71" name="矩形 17412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矩形 17413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组合 17414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74" name="组合 17415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75" name="组合 17416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76" name="任意多边形 17417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任意多边形 17418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组合 17419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79" name="任意多边形 17420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任意多边形 17421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1" name="组合 17422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82" name="椭圆 17423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椭圆 17424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椭圆 17425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椭圆 17426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椭圆 17427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组合 17428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88" name="椭圆 17429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椭圆 17430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椭圆 17431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椭圆 17432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2" name="文本框 17433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文本框 17434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组合 1743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95" name="组合 17436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96" name="组合 17437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97" name="任意多边形 17438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任意多边形 17439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组合 17440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00" name="任意多边形 17441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任意多边形 17442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组合 17443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03" name="椭圆 17444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椭圆 17445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椭圆 17446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椭圆 17447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椭圆 17448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组合 17449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509" name="椭圆 17450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椭圆 17451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椭圆 17452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椭圆 17453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3" name="文本框 17454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文本框 17455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组合 17456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516" name="组合 17457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517" name="组合 17458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518" name="任意多边形 17459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任意多边形 17460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组合 17461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521" name="任意多边形 17462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任意多边形 17463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3" name="组合 174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24" name="椭圆 174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椭圆 174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椭圆 17467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椭圆 17468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椭圆 17469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9" name="组合 17470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30" name="椭圆 17471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椭圆 17472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椭圆 17473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椭圆 17474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4" name="文本框 17475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文本框 17476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组合 17477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537" name="组合 17478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38" name="组合 17479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39" name="任意多边形 17480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任意多边形 17481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组合 17482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42" name="任意多边形 17483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任意多边形 17484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4" name="椭圆 17485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椭圆 17486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椭圆 17487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椭圆 17488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椭圆 17489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组合 17490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50" name="椭圆 17491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椭圆 17492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椭圆 17493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椭圆 17494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文本框 17495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文本框 17496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7497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57" name="文本框 17498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文本框 17499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文本框 17500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文本框 17501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61" name="直接箭头连接符 17502"/>
              <p:cNvCxnSpPr>
                <a:stCxn id="557" idx="3"/>
                <a:endCxn id="558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</p:cxnSp>
          <p:cxnSp>
            <p:nvCxnSpPr>
              <p:cNvPr id="562" name="直接箭头连接符 17503"/>
              <p:cNvCxnSpPr>
                <a:stCxn id="558" idx="3"/>
                <a:endCxn id="559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</p:cxnSp>
          <p:cxnSp>
            <p:nvCxnSpPr>
              <p:cNvPr id="563" name="直接箭头连接符 17504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组合 18434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566" name="燕尾形 18435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4" y="0"/>
                  </a:lnTo>
                  <a:lnTo>
                    <a:pt x="21600" y="10800"/>
                  </a:lnTo>
                  <a:lnTo>
                    <a:pt x="18044" y="21600"/>
                  </a:lnTo>
                  <a:lnTo>
                    <a:pt x="0" y="21600"/>
                  </a:lnTo>
                  <a:lnTo>
                    <a:pt x="3556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3892f"/>
                </a:gs>
                <a:gs pos="100000">
                  <a:srgbClr val="ebad6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燕尾形 18436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6" y="0"/>
                  </a:lnTo>
                  <a:lnTo>
                    <a:pt x="21600" y="10800"/>
                  </a:lnTo>
                  <a:lnTo>
                    <a:pt x="17846" y="21600"/>
                  </a:lnTo>
                  <a:lnTo>
                    <a:pt x="0" y="21600"/>
                  </a:lnTo>
                  <a:lnTo>
                    <a:pt x="375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4db8d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燕尾形 18437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6" y="0"/>
                  </a:lnTo>
                  <a:lnTo>
                    <a:pt x="21600" y="10800"/>
                  </a:lnTo>
                  <a:lnTo>
                    <a:pt x="17846" y="21600"/>
                  </a:lnTo>
                  <a:lnTo>
                    <a:pt x="0" y="21600"/>
                  </a:lnTo>
                  <a:lnTo>
                    <a:pt x="375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29450"/>
                </a:gs>
                <a:gs pos="100000">
                  <a:srgbClr val="65b485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圆角矩形 18438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29450"/>
                </a:gs>
                <a:gs pos="100000">
                  <a:srgbClr val="65b485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圆角矩形 18439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4db8db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圆角矩形 18440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3892f"/>
                </a:gs>
                <a:gs pos="100000">
                  <a:srgbClr val="ebad6e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圆角矩形 19458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圆角矩形 19459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圆角矩形 19460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圆角矩形 19461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19462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78" name="矩形 19463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组合 19464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80" name="椭圆 19465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19466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椭圆 19467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19468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矩形 19469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29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组合 19470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86" name="椭圆 19471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矩形 19472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椭圆 19473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椭圆 19474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矩形 19475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组合 19476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92" name="椭圆 19477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矩形 19478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椭圆 19479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19480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19481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229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19482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9483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9484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9485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9486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9487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9488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9489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1066680" y="1751040"/>
          <a:ext cx="7139160" cy="4132080"/>
        </p:xfrm>
        <a:graphic>
          <a:graphicData uri="http://schemas.openxmlformats.org/drawingml/2006/table">
            <a:tbl>
              <a:tblPr/>
              <a:tblGrid>
                <a:gridCol w="1425600"/>
                <a:gridCol w="1143000"/>
                <a:gridCol w="1141560"/>
                <a:gridCol w="1141200"/>
                <a:gridCol w="1144800"/>
                <a:gridCol w="1143000"/>
              </a:tblGrid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29450"/>
                        </a:gs>
                        <a:gs pos="50000">
                          <a:srgbClr val="8dc8a5"/>
                        </a:gs>
                        <a:gs pos="100000">
                          <a:srgbClr val="2294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组合 21506"/>
          <p:cNvGrpSpPr/>
          <p:nvPr/>
        </p:nvGrpSpPr>
        <p:grpSpPr>
          <a:xfrm>
            <a:off x="997200" y="1531440"/>
            <a:ext cx="6729120" cy="4675320"/>
            <a:chOff x="997200" y="1531440"/>
            <a:chExt cx="6729120" cy="4675320"/>
          </a:xfrm>
        </p:grpSpPr>
        <p:sp>
          <p:nvSpPr>
            <p:cNvPr id="609" name="椭圆 21507"/>
            <p:cNvSpPr/>
            <p:nvPr/>
          </p:nvSpPr>
          <p:spPr>
            <a:xfrm>
              <a:off x="2163960" y="46180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21508"/>
            <p:cNvSpPr/>
            <p:nvPr/>
          </p:nvSpPr>
          <p:spPr>
            <a:xfrm rot="20601600">
              <a:off x="1308240" y="24285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椭圆 21509"/>
            <p:cNvSpPr/>
            <p:nvPr/>
          </p:nvSpPr>
          <p:spPr>
            <a:xfrm rot="20601600">
              <a:off x="1365120" y="22665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 21510"/>
            <p:cNvSpPr/>
            <p:nvPr/>
          </p:nvSpPr>
          <p:spPr>
            <a:xfrm rot="20601600">
              <a:off x="4012920" y="234432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21511"/>
            <p:cNvSpPr/>
            <p:nvPr/>
          </p:nvSpPr>
          <p:spPr>
            <a:xfrm flipH="1" rot="20602200">
              <a:off x="1419120" y="365724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21512"/>
            <p:cNvSpPr/>
            <p:nvPr/>
          </p:nvSpPr>
          <p:spPr>
            <a:xfrm rot="20601600">
              <a:off x="3257640" y="207288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21513"/>
            <p:cNvSpPr/>
            <p:nvPr/>
          </p:nvSpPr>
          <p:spPr>
            <a:xfrm flipH="1" rot="20602200">
              <a:off x="1218960" y="272520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21514"/>
            <p:cNvSpPr/>
            <p:nvPr/>
          </p:nvSpPr>
          <p:spPr>
            <a:xfrm rot="20601600">
              <a:off x="282600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文本框 21515"/>
            <p:cNvSpPr/>
            <p:nvPr/>
          </p:nvSpPr>
          <p:spPr>
            <a:xfrm>
              <a:off x="2141280" y="3203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文本框 21516"/>
            <p:cNvSpPr/>
            <p:nvPr/>
          </p:nvSpPr>
          <p:spPr>
            <a:xfrm>
              <a:off x="4046400" y="2289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21517"/>
            <p:cNvSpPr/>
            <p:nvPr/>
          </p:nvSpPr>
          <p:spPr>
            <a:xfrm>
              <a:off x="5722560" y="2746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21518"/>
            <p:cNvSpPr/>
            <p:nvPr/>
          </p:nvSpPr>
          <p:spPr>
            <a:xfrm>
              <a:off x="6148440" y="32796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21519"/>
            <p:cNvSpPr/>
            <p:nvPr/>
          </p:nvSpPr>
          <p:spPr>
            <a:xfrm rot="20539200">
              <a:off x="4546440" y="328572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21520"/>
            <p:cNvSpPr/>
            <p:nvPr/>
          </p:nvSpPr>
          <p:spPr>
            <a:xfrm>
              <a:off x="4448160" y="37609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21521"/>
            <p:cNvSpPr/>
            <p:nvPr/>
          </p:nvSpPr>
          <p:spPr>
            <a:xfrm>
              <a:off x="5722560" y="37368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文本框 21522"/>
            <p:cNvSpPr/>
            <p:nvPr/>
          </p:nvSpPr>
          <p:spPr>
            <a:xfrm>
              <a:off x="3970080" y="4498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文本框 21523"/>
            <p:cNvSpPr/>
            <p:nvPr/>
          </p:nvSpPr>
          <p:spPr>
            <a:xfrm>
              <a:off x="2064960" y="4346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21524"/>
            <p:cNvSpPr/>
            <p:nvPr/>
          </p:nvSpPr>
          <p:spPr>
            <a:xfrm rot="20601600">
              <a:off x="2927520" y="32338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21525"/>
            <p:cNvSpPr/>
            <p:nvPr/>
          </p:nvSpPr>
          <p:spPr>
            <a:xfrm>
              <a:off x="4624560" y="41562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22530"/>
          <p:cNvGrpSpPr/>
          <p:nvPr/>
        </p:nvGrpSpPr>
        <p:grpSpPr>
          <a:xfrm>
            <a:off x="1066680" y="1752480"/>
            <a:ext cx="7010280" cy="4419000"/>
            <a:chOff x="1066680" y="1752480"/>
            <a:chExt cx="7010280" cy="4419000"/>
          </a:xfrm>
        </p:grpSpPr>
        <p:sp>
          <p:nvSpPr>
            <p:cNvPr id="630" name="上箭头 22531"/>
            <p:cNvSpPr/>
            <p:nvPr/>
          </p:nvSpPr>
          <p:spPr>
            <a:xfrm>
              <a:off x="1999080" y="2468160"/>
              <a:ext cx="5206320" cy="257652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圆角矩形 22532"/>
            <p:cNvSpPr/>
            <p:nvPr/>
          </p:nvSpPr>
          <p:spPr>
            <a:xfrm>
              <a:off x="1783800" y="175248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5bbdde"/>
                </a:gs>
                <a:gs pos="100000">
                  <a:srgbClr val="0099c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文本框 22533"/>
            <p:cNvSpPr/>
            <p:nvPr/>
          </p:nvSpPr>
          <p:spPr>
            <a:xfrm>
              <a:off x="3538800" y="30420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22534"/>
            <p:cNvGrpSpPr/>
            <p:nvPr/>
          </p:nvGrpSpPr>
          <p:grpSpPr>
            <a:xfrm>
              <a:off x="1066680" y="4227480"/>
              <a:ext cx="1486800" cy="1944000"/>
              <a:chOff x="1066680" y="4227480"/>
              <a:chExt cx="1486800" cy="1944000"/>
            </a:xfrm>
          </p:grpSpPr>
          <p:grpSp>
            <p:nvGrpSpPr>
              <p:cNvPr id="634" name="组合 22535"/>
              <p:cNvGrpSpPr/>
              <p:nvPr/>
            </p:nvGrpSpPr>
            <p:grpSpPr>
              <a:xfrm>
                <a:off x="1066680" y="4227480"/>
                <a:ext cx="1398600" cy="1422360"/>
                <a:chOff x="1066680" y="4227480"/>
                <a:chExt cx="1398600" cy="1422360"/>
              </a:xfrm>
            </p:grpSpPr>
            <p:grpSp>
              <p:nvGrpSpPr>
                <p:cNvPr id="635" name="组合 22536"/>
                <p:cNvGrpSpPr/>
                <p:nvPr/>
              </p:nvGrpSpPr>
              <p:grpSpPr>
                <a:xfrm>
                  <a:off x="1066680" y="4227480"/>
                  <a:ext cx="1398600" cy="1422360"/>
                  <a:chOff x="1066680" y="4227480"/>
                  <a:chExt cx="1398600" cy="1422360"/>
                </a:xfrm>
              </p:grpSpPr>
              <p:sp>
                <p:nvSpPr>
                  <p:cNvPr id="636" name="椭圆 22537"/>
                  <p:cNvSpPr/>
                  <p:nvPr/>
                </p:nvSpPr>
                <p:spPr>
                  <a:xfrm>
                    <a:off x="1066680" y="422748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3892f"/>
                      </a:gs>
                      <a:gs pos="100000">
                        <a:srgbClr val="90571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任意多边形 22538"/>
                  <p:cNvSpPr/>
                  <p:nvPr/>
                </p:nvSpPr>
                <p:spPr>
                  <a:xfrm>
                    <a:off x="1226520" y="4250880"/>
                    <a:ext cx="107892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3892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8" name="文本框 22539"/>
                <p:cNvSpPr/>
                <p:nvPr/>
              </p:nvSpPr>
              <p:spPr>
                <a:xfrm>
                  <a:off x="1182960" y="49514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椭圆 22540"/>
              <p:cNvSpPr/>
              <p:nvPr/>
            </p:nvSpPr>
            <p:spPr>
              <a:xfrm>
                <a:off x="1066680" y="5760000"/>
                <a:ext cx="1486800" cy="411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22541"/>
            <p:cNvGrpSpPr/>
            <p:nvPr/>
          </p:nvGrpSpPr>
          <p:grpSpPr>
            <a:xfrm>
              <a:off x="2859840" y="4227480"/>
              <a:ext cx="1522080" cy="1944000"/>
              <a:chOff x="2859840" y="4227480"/>
              <a:chExt cx="1522080" cy="1944000"/>
            </a:xfrm>
          </p:grpSpPr>
          <p:grpSp>
            <p:nvGrpSpPr>
              <p:cNvPr id="641" name="组合 22542"/>
              <p:cNvGrpSpPr/>
              <p:nvPr/>
            </p:nvGrpSpPr>
            <p:grpSpPr>
              <a:xfrm>
                <a:off x="2859840" y="4227480"/>
                <a:ext cx="1433880" cy="1428480"/>
                <a:chOff x="2859840" y="4227480"/>
                <a:chExt cx="1433880" cy="1428480"/>
              </a:xfrm>
            </p:grpSpPr>
            <p:sp>
              <p:nvSpPr>
                <p:cNvPr id="642" name="椭圆 22543"/>
                <p:cNvSpPr/>
                <p:nvPr/>
              </p:nvSpPr>
              <p:spPr>
                <a:xfrm>
                  <a:off x="2859840" y="4227480"/>
                  <a:ext cx="1433880" cy="14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f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任意多边形 22544"/>
                <p:cNvSpPr/>
                <p:nvPr/>
              </p:nvSpPr>
              <p:spPr>
                <a:xfrm>
                  <a:off x="3023640" y="425088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4" name="文本框 22545"/>
              <p:cNvSpPr/>
              <p:nvPr/>
            </p:nvSpPr>
            <p:spPr>
              <a:xfrm>
                <a:off x="2931480" y="4912920"/>
                <a:ext cx="12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椭圆 22546"/>
              <p:cNvSpPr/>
              <p:nvPr/>
            </p:nvSpPr>
            <p:spPr>
              <a:xfrm>
                <a:off x="2895480" y="5760000"/>
                <a:ext cx="1486440" cy="411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组合 22547"/>
            <p:cNvGrpSpPr/>
            <p:nvPr/>
          </p:nvGrpSpPr>
          <p:grpSpPr>
            <a:xfrm>
              <a:off x="4797000" y="4186080"/>
              <a:ext cx="1535760" cy="1985400"/>
              <a:chOff x="4797000" y="4186080"/>
              <a:chExt cx="1535760" cy="1985400"/>
            </a:xfrm>
          </p:grpSpPr>
          <p:grpSp>
            <p:nvGrpSpPr>
              <p:cNvPr id="647" name="组合 22548"/>
              <p:cNvGrpSpPr/>
              <p:nvPr/>
            </p:nvGrpSpPr>
            <p:grpSpPr>
              <a:xfrm>
                <a:off x="4797000" y="4186080"/>
                <a:ext cx="1434240" cy="1428120"/>
                <a:chOff x="4797000" y="4186080"/>
                <a:chExt cx="1434240" cy="1428120"/>
              </a:xfrm>
            </p:grpSpPr>
            <p:sp>
              <p:nvSpPr>
                <p:cNvPr id="648" name="椭圆 22549"/>
                <p:cNvSpPr/>
                <p:nvPr/>
              </p:nvSpPr>
              <p:spPr>
                <a:xfrm>
                  <a:off x="4797000" y="418608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9450"/>
                    </a:gs>
                    <a:gs pos="100000">
                      <a:srgbClr val="114c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 22550"/>
                <p:cNvSpPr/>
                <p:nvPr/>
              </p:nvSpPr>
              <p:spPr>
                <a:xfrm>
                  <a:off x="4960800" y="420948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294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文本框 22551"/>
              <p:cNvSpPr/>
              <p:nvPr/>
            </p:nvSpPr>
            <p:spPr>
              <a:xfrm>
                <a:off x="4868640" y="487152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椭圆 22552"/>
              <p:cNvSpPr/>
              <p:nvPr/>
            </p:nvSpPr>
            <p:spPr>
              <a:xfrm>
                <a:off x="4846320" y="576036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组合 22553"/>
            <p:cNvGrpSpPr/>
            <p:nvPr/>
          </p:nvGrpSpPr>
          <p:grpSpPr>
            <a:xfrm>
              <a:off x="6590160" y="4186080"/>
              <a:ext cx="1486800" cy="1985400"/>
              <a:chOff x="6590160" y="4186080"/>
              <a:chExt cx="1486800" cy="1985400"/>
            </a:xfrm>
          </p:grpSpPr>
          <p:grpSp>
            <p:nvGrpSpPr>
              <p:cNvPr id="653" name="组合 22554"/>
              <p:cNvGrpSpPr/>
              <p:nvPr/>
            </p:nvGrpSpPr>
            <p:grpSpPr>
              <a:xfrm>
                <a:off x="6590160" y="4186080"/>
                <a:ext cx="1434240" cy="1438200"/>
                <a:chOff x="6590160" y="4186080"/>
                <a:chExt cx="1434240" cy="1438200"/>
              </a:xfrm>
            </p:grpSpPr>
            <p:grpSp>
              <p:nvGrpSpPr>
                <p:cNvPr id="654" name="组合 22555"/>
                <p:cNvGrpSpPr/>
                <p:nvPr/>
              </p:nvGrpSpPr>
              <p:grpSpPr>
                <a:xfrm>
                  <a:off x="6590160" y="4186080"/>
                  <a:ext cx="1434240" cy="1438200"/>
                  <a:chOff x="6590160" y="4186080"/>
                  <a:chExt cx="1434240" cy="1438200"/>
                </a:xfrm>
              </p:grpSpPr>
              <p:sp>
                <p:nvSpPr>
                  <p:cNvPr id="655" name="椭圆 22556"/>
                  <p:cNvSpPr/>
                  <p:nvPr/>
                </p:nvSpPr>
                <p:spPr>
                  <a:xfrm>
                    <a:off x="6590160" y="4186080"/>
                    <a:ext cx="143424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55ada"/>
                      </a:gs>
                      <a:gs pos="100000">
                        <a:srgbClr val="20163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任意多边形 22557"/>
                  <p:cNvSpPr/>
                  <p:nvPr/>
                </p:nvSpPr>
                <p:spPr>
                  <a:xfrm>
                    <a:off x="6753960" y="4209840"/>
                    <a:ext cx="110628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55ad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" name="文本框 22558"/>
                <p:cNvSpPr/>
                <p:nvPr/>
              </p:nvSpPr>
              <p:spPr>
                <a:xfrm>
                  <a:off x="6689880" y="48564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椭圆 22559"/>
              <p:cNvSpPr/>
              <p:nvPr/>
            </p:nvSpPr>
            <p:spPr>
              <a:xfrm>
                <a:off x="6590160" y="576036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文本框 2256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22561"/>
          <p:cNvSpPr/>
          <p:nvPr/>
        </p:nvSpPr>
        <p:spPr>
          <a:xfrm>
            <a:off x="990720" y="13716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cc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5122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32" name="组合 5123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33" name="六边形 5124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六边形 5125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六边形 5126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475e"/>
                  </a:gs>
                  <a:gs pos="100000">
                    <a:srgbClr val="0099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438280" y="2633400"/>
              <a:ext cx="4800600" cy="360"/>
              <a:chOff x="2438280" y="2633400"/>
              <a:chExt cx="4800600" cy="360"/>
            </a:xfrm>
          </p:grpSpPr>
          <p:sp>
            <p:nvSpPr>
              <p:cNvPr id="137" name="直接连接符 5127"/>
              <p:cNvSpPr/>
              <p:nvPr/>
            </p:nvSpPr>
            <p:spPr>
              <a:xfrm>
                <a:off x="2438280" y="263340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2438280" y="26334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文本框 5128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5129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5130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42" name="组合 5131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43" name="六边形 5132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六边形 5133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六边形 5134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04425"/>
                  </a:gs>
                  <a:gs pos="100000">
                    <a:srgbClr val="22945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438280" y="3547800"/>
              <a:ext cx="4800600" cy="360"/>
              <a:chOff x="2438280" y="3547800"/>
              <a:chExt cx="4800600" cy="360"/>
            </a:xfrm>
          </p:grpSpPr>
          <p:sp>
            <p:nvSpPr>
              <p:cNvPr id="147" name="直接连接符 5135"/>
              <p:cNvSpPr/>
              <p:nvPr/>
            </p:nvSpPr>
            <p:spPr>
              <a:xfrm>
                <a:off x="2438280" y="354780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438280" y="354780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文本框 5136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5137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5138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52" name="组合 5139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53" name="六边形 5140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六边形 5141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六边形 5142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475e"/>
                  </a:gs>
                  <a:gs pos="100000">
                    <a:srgbClr val="0099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438280" y="4439880"/>
              <a:ext cx="4800600" cy="360"/>
              <a:chOff x="2438280" y="4439880"/>
              <a:chExt cx="4800600" cy="360"/>
            </a:xfrm>
          </p:grpSpPr>
          <p:sp>
            <p:nvSpPr>
              <p:cNvPr id="157" name="直接连接符 5143"/>
              <p:cNvSpPr/>
              <p:nvPr/>
            </p:nvSpPr>
            <p:spPr>
              <a:xfrm>
                <a:off x="2438280" y="443988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2438280" y="44398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文本框 5144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5145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5146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62" name="组合 5147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163" name="六边形 5148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六边形 5149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六边形 5150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04425"/>
                  </a:gs>
                  <a:gs pos="100000">
                    <a:srgbClr val="22945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438280" y="5354280"/>
              <a:ext cx="4800600" cy="360"/>
              <a:chOff x="2438280" y="5354280"/>
              <a:chExt cx="4800600" cy="360"/>
            </a:xfrm>
          </p:grpSpPr>
          <p:sp>
            <p:nvSpPr>
              <p:cNvPr id="167" name="直接连接符 5151"/>
              <p:cNvSpPr/>
              <p:nvPr/>
            </p:nvSpPr>
            <p:spPr>
              <a:xfrm>
                <a:off x="2438280" y="535428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438280" y="53542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文本框 5152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5153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文本框 5154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4A81-6052-4B22-9981-C8BF2852D2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2437920" y="4266720"/>
            <a:ext cx="4496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23554"/>
          <p:cNvSpPr txBox="1"/>
          <p:nvPr/>
        </p:nvSpPr>
        <p:spPr>
          <a:xfrm>
            <a:off x="2286000" y="3352680"/>
            <a:ext cx="4800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99cc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667" name="图片 23555" descr="p12_s"/>
          <p:cNvPicPr/>
          <p:nvPr/>
        </p:nvPicPr>
        <p:blipFill>
          <a:blip r:embed="rId1"/>
          <a:stretch/>
        </p:blipFill>
        <p:spPr>
          <a:xfrm>
            <a:off x="4191120" y="2666880"/>
            <a:ext cx="91440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4800" y="1740960"/>
            <a:ext cx="761076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294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29450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29450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29450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29450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组合 7170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76" name="任意多边形 7171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7172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7173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7174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7175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7176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7177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5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7178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229450"/>
                </a:gs>
                <a:gs pos="100000">
                  <a:srgbClr val="0b2e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7179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3892f"/>
                </a:gs>
                <a:gs pos="100000">
                  <a:srgbClr val="5131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7180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7181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文本框 7182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7183"/>
            <p:cNvSpPr/>
            <p:nvPr/>
          </p:nvSpPr>
          <p:spPr>
            <a:xfrm>
              <a:off x="4053960" y="2433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7184"/>
            <p:cNvSpPr/>
            <p:nvPr/>
          </p:nvSpPr>
          <p:spPr>
            <a:xfrm>
              <a:off x="6673320" y="2644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7185"/>
            <p:cNvSpPr/>
            <p:nvPr/>
          </p:nvSpPr>
          <p:spPr>
            <a:xfrm>
              <a:off x="5076360" y="4683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7186"/>
            <p:cNvSpPr/>
            <p:nvPr/>
          </p:nvSpPr>
          <p:spPr>
            <a:xfrm>
              <a:off x="260604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7187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94" name="直接连接符 7188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6" name="直接箭头连接符 7189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97" name="文本框 7190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3892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组合 8194"/>
          <p:cNvGrpSpPr/>
          <p:nvPr/>
        </p:nvGrpSpPr>
        <p:grpSpPr>
          <a:xfrm>
            <a:off x="1143000" y="3505320"/>
            <a:ext cx="2286000" cy="2666880"/>
            <a:chOff x="1143000" y="3505320"/>
            <a:chExt cx="2286000" cy="2666880"/>
          </a:xfrm>
        </p:grpSpPr>
        <p:sp>
          <p:nvSpPr>
            <p:cNvPr id="200" name="圆角矩形 8195"/>
            <p:cNvSpPr/>
            <p:nvPr/>
          </p:nvSpPr>
          <p:spPr>
            <a:xfrm>
              <a:off x="114300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196"/>
            <p:cNvSpPr/>
            <p:nvPr/>
          </p:nvSpPr>
          <p:spPr>
            <a:xfrm>
              <a:off x="1238400" y="37054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任意多边形 8197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3892f"/>
              </a:gs>
              <a:gs pos="100000">
                <a:srgbClr val="edb4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8198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8199"/>
          <p:cNvGrpSpPr/>
          <p:nvPr/>
        </p:nvGrpSpPr>
        <p:grpSpPr>
          <a:xfrm>
            <a:off x="3048120" y="1781280"/>
            <a:ext cx="2998440" cy="1601280"/>
            <a:chOff x="3048120" y="1781280"/>
            <a:chExt cx="2998440" cy="1601280"/>
          </a:xfrm>
        </p:grpSpPr>
        <p:grpSp>
          <p:nvGrpSpPr>
            <p:cNvPr id="205" name="组合 8200"/>
            <p:cNvGrpSpPr/>
            <p:nvPr/>
          </p:nvGrpSpPr>
          <p:grpSpPr>
            <a:xfrm>
              <a:off x="3048120" y="1781280"/>
              <a:ext cx="2998440" cy="1601280"/>
              <a:chOff x="3048120" y="1781280"/>
              <a:chExt cx="2998440" cy="1601280"/>
            </a:xfrm>
          </p:grpSpPr>
          <p:grpSp>
            <p:nvGrpSpPr>
              <p:cNvPr id="206" name="组合 8201"/>
              <p:cNvGrpSpPr/>
              <p:nvPr/>
            </p:nvGrpSpPr>
            <p:grpSpPr>
              <a:xfrm>
                <a:off x="3048120" y="1924200"/>
                <a:ext cx="2998440" cy="1458360"/>
                <a:chOff x="3048120" y="1924200"/>
                <a:chExt cx="2998440" cy="1458360"/>
              </a:xfrm>
            </p:grpSpPr>
            <p:sp>
              <p:nvSpPr>
                <p:cNvPr id="207" name="椭圆 8202"/>
                <p:cNvSpPr/>
                <p:nvPr/>
              </p:nvSpPr>
              <p:spPr>
                <a:xfrm>
                  <a:off x="3080880" y="19706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a6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8203"/>
                <p:cNvSpPr/>
                <p:nvPr/>
              </p:nvSpPr>
              <p:spPr>
                <a:xfrm>
                  <a:off x="3048120" y="19242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d2e8"/>
                    </a:gs>
                    <a:gs pos="100000">
                      <a:srgbClr val="0099c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椭圆 8204"/>
              <p:cNvSpPr/>
              <p:nvPr/>
            </p:nvSpPr>
            <p:spPr>
              <a:xfrm>
                <a:off x="3189240" y="17812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04425"/>
                  </a:gs>
                  <a:gs pos="100000">
                    <a:srgbClr val="2294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椭圆 8205"/>
              <p:cNvSpPr/>
              <p:nvPr/>
            </p:nvSpPr>
            <p:spPr>
              <a:xfrm>
                <a:off x="3224160" y="17892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229450">
                      <a:alpha val="0"/>
                    </a:srgbClr>
                  </a:gs>
                  <a:gs pos="100000">
                    <a:srgbClr val="b2da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椭圆 8206"/>
              <p:cNvSpPr/>
              <p:nvPr/>
            </p:nvSpPr>
            <p:spPr>
              <a:xfrm>
                <a:off x="3251160" y="18018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1b753f"/>
                  </a:gs>
                  <a:gs pos="100000">
                    <a:srgbClr val="22945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椭圆 8207"/>
              <p:cNvSpPr/>
              <p:nvPr/>
            </p:nvSpPr>
            <p:spPr>
              <a:xfrm>
                <a:off x="3382920" y="18288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2945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文本框 8208"/>
            <p:cNvSpPr/>
            <p:nvPr/>
          </p:nvSpPr>
          <p:spPr>
            <a:xfrm>
              <a:off x="3882960" y="19814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8209"/>
          <p:cNvGrpSpPr/>
          <p:nvPr/>
        </p:nvGrpSpPr>
        <p:grpSpPr>
          <a:xfrm>
            <a:off x="5562720" y="3505320"/>
            <a:ext cx="2286000" cy="2666880"/>
            <a:chOff x="5562720" y="3505320"/>
            <a:chExt cx="2286000" cy="2666880"/>
          </a:xfrm>
        </p:grpSpPr>
        <p:sp>
          <p:nvSpPr>
            <p:cNvPr id="215" name="圆角矩形 8210"/>
            <p:cNvSpPr/>
            <p:nvPr/>
          </p:nvSpPr>
          <p:spPr>
            <a:xfrm>
              <a:off x="556272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8211"/>
            <p:cNvSpPr/>
            <p:nvPr/>
          </p:nvSpPr>
          <p:spPr>
            <a:xfrm>
              <a:off x="5791320" y="37339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任意多边形 8212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aedf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组合 9218"/>
          <p:cNvGrpSpPr/>
          <p:nvPr/>
        </p:nvGrpSpPr>
        <p:grpSpPr>
          <a:xfrm>
            <a:off x="1295280" y="1905120"/>
            <a:ext cx="6476760" cy="4125600"/>
            <a:chOff x="1295280" y="1905120"/>
            <a:chExt cx="6476760" cy="4125600"/>
          </a:xfrm>
        </p:grpSpPr>
        <p:sp>
          <p:nvSpPr>
            <p:cNvPr id="220" name="圆柱形 9219"/>
            <p:cNvSpPr/>
            <p:nvPr/>
          </p:nvSpPr>
          <p:spPr>
            <a:xfrm>
              <a:off x="3759120" y="421020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柱形 9220"/>
            <p:cNvSpPr/>
            <p:nvPr/>
          </p:nvSpPr>
          <p:spPr>
            <a:xfrm>
              <a:off x="3759120" y="370404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柱形 9221"/>
            <p:cNvSpPr/>
            <p:nvPr/>
          </p:nvSpPr>
          <p:spPr>
            <a:xfrm>
              <a:off x="3759120" y="319716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9222"/>
            <p:cNvSpPr/>
            <p:nvPr/>
          </p:nvSpPr>
          <p:spPr>
            <a:xfrm>
              <a:off x="4234680" y="3416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9223"/>
            <p:cNvSpPr/>
            <p:nvPr/>
          </p:nvSpPr>
          <p:spPr>
            <a:xfrm>
              <a:off x="4234680" y="392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9224"/>
            <p:cNvSpPr/>
            <p:nvPr/>
          </p:nvSpPr>
          <p:spPr>
            <a:xfrm>
              <a:off x="4234680" y="442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左箭头 9225"/>
            <p:cNvSpPr/>
            <p:nvPr/>
          </p:nvSpPr>
          <p:spPr>
            <a:xfrm>
              <a:off x="3125520" y="298008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229450"/>
                </a:gs>
                <a:gs pos="100000">
                  <a:srgbClr val="10442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圆角矩形 9226"/>
            <p:cNvSpPr/>
            <p:nvPr/>
          </p:nvSpPr>
          <p:spPr>
            <a:xfrm>
              <a:off x="1295280" y="247320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9227"/>
            <p:cNvSpPr/>
            <p:nvPr/>
          </p:nvSpPr>
          <p:spPr>
            <a:xfrm>
              <a:off x="1365480" y="269028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圆角矩形 9228"/>
            <p:cNvSpPr/>
            <p:nvPr/>
          </p:nvSpPr>
          <p:spPr>
            <a:xfrm>
              <a:off x="6082560" y="247320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9229"/>
            <p:cNvSpPr/>
            <p:nvPr/>
          </p:nvSpPr>
          <p:spPr>
            <a:xfrm>
              <a:off x="6153120" y="269028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右箭头 9230"/>
            <p:cNvSpPr/>
            <p:nvPr/>
          </p:nvSpPr>
          <p:spPr>
            <a:xfrm>
              <a:off x="5451840" y="298008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104425">
                    <a:alpha val="12156"/>
                  </a:srgbClr>
                </a:gs>
                <a:gs pos="100000">
                  <a:srgbClr val="2294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圆柱形 9231"/>
            <p:cNvSpPr/>
            <p:nvPr/>
          </p:nvSpPr>
          <p:spPr>
            <a:xfrm>
              <a:off x="3055320" y="190512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93f16"/>
                </a:gs>
                <a:gs pos="50000">
                  <a:srgbClr val="e3892f"/>
                </a:gs>
                <a:gs pos="100000">
                  <a:srgbClr val="693f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上箭头 9232"/>
            <p:cNvSpPr/>
            <p:nvPr/>
          </p:nvSpPr>
          <p:spPr>
            <a:xfrm>
              <a:off x="3728520" y="261828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229450"/>
                </a:gs>
                <a:gs pos="100000">
                  <a:srgbClr val="73bb9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9233"/>
            <p:cNvSpPr/>
            <p:nvPr/>
          </p:nvSpPr>
          <p:spPr>
            <a:xfrm>
              <a:off x="4212720" y="211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柱形 9234"/>
            <p:cNvSpPr/>
            <p:nvPr/>
          </p:nvSpPr>
          <p:spPr>
            <a:xfrm>
              <a:off x="3125520" y="544104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9235"/>
            <p:cNvSpPr/>
            <p:nvPr/>
          </p:nvSpPr>
          <p:spPr>
            <a:xfrm>
              <a:off x="4212720" y="5662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下箭头 9236"/>
            <p:cNvSpPr/>
            <p:nvPr/>
          </p:nvSpPr>
          <p:spPr>
            <a:xfrm>
              <a:off x="3708000" y="486180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73bb90">
                    <a:alpha val="12156"/>
                  </a:srgbClr>
                </a:gs>
                <a:gs pos="100000">
                  <a:srgbClr val="2294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组合 1024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40" name="组合 10243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41" name="上箭头 10244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上箭头 10245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上箭头 10246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椭圆 10247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椭圆 10248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椭圆 10249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99cc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椭圆 10250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椭圆 10251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00536e"/>
                  </a:gs>
                  <a:gs pos="50000">
                    <a:srgbClr val="0099cc"/>
                  </a:gs>
                  <a:gs pos="100000">
                    <a:srgbClr val="00536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10252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圆柱形 1025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圆柱形 10254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圆柱形 10255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圆柱形 1025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04425"/>
                </a:gs>
                <a:gs pos="50000">
                  <a:srgbClr val="229450"/>
                </a:gs>
                <a:gs pos="100000">
                  <a:srgbClr val="1044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圆柱形 10257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04425"/>
                </a:gs>
                <a:gs pos="50000">
                  <a:srgbClr val="229450"/>
                </a:gs>
                <a:gs pos="100000">
                  <a:srgbClr val="1044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圆柱形 10258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04425"/>
                </a:gs>
                <a:gs pos="50000">
                  <a:srgbClr val="229450"/>
                </a:gs>
                <a:gs pos="100000">
                  <a:srgbClr val="1044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1025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圆角矩形 10260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10261"/>
            <p:cNvSpPr/>
            <p:nvPr/>
          </p:nvSpPr>
          <p:spPr>
            <a:xfrm>
              <a:off x="159948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10262"/>
            <p:cNvSpPr/>
            <p:nvPr/>
          </p:nvSpPr>
          <p:spPr>
            <a:xfrm>
              <a:off x="159948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10263"/>
            <p:cNvSpPr/>
            <p:nvPr/>
          </p:nvSpPr>
          <p:spPr>
            <a:xfrm>
              <a:off x="159948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10264"/>
            <p:cNvSpPr/>
            <p:nvPr/>
          </p:nvSpPr>
          <p:spPr>
            <a:xfrm>
              <a:off x="669744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10265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10266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组合 11266"/>
          <p:cNvGrpSpPr/>
          <p:nvPr/>
        </p:nvGrpSpPr>
        <p:grpSpPr>
          <a:xfrm>
            <a:off x="1523520" y="2286000"/>
            <a:ext cx="6324840" cy="3352320"/>
            <a:chOff x="1523520" y="2286000"/>
            <a:chExt cx="6324840" cy="3352320"/>
          </a:xfrm>
        </p:grpSpPr>
        <p:sp>
          <p:nvSpPr>
            <p:cNvPr id="266" name="任意多边形 11267"/>
            <p:cNvSpPr/>
            <p:nvPr/>
          </p:nvSpPr>
          <p:spPr>
            <a:xfrm>
              <a:off x="7323120" y="2286000"/>
              <a:ext cx="51948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11268"/>
            <p:cNvSpPr/>
            <p:nvPr/>
          </p:nvSpPr>
          <p:spPr>
            <a:xfrm>
              <a:off x="4833000" y="2286000"/>
              <a:ext cx="30153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11269"/>
            <p:cNvSpPr/>
            <p:nvPr/>
          </p:nvSpPr>
          <p:spPr>
            <a:xfrm>
              <a:off x="6799680" y="3126600"/>
              <a:ext cx="519480" cy="8416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11270"/>
            <p:cNvSpPr/>
            <p:nvPr/>
          </p:nvSpPr>
          <p:spPr>
            <a:xfrm>
              <a:off x="4083480" y="3126600"/>
              <a:ext cx="3241800" cy="5400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11271"/>
            <p:cNvSpPr/>
            <p:nvPr/>
          </p:nvSpPr>
          <p:spPr>
            <a:xfrm>
              <a:off x="6275520" y="3958560"/>
              <a:ext cx="517320" cy="844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11272"/>
            <p:cNvSpPr/>
            <p:nvPr/>
          </p:nvSpPr>
          <p:spPr>
            <a:xfrm>
              <a:off x="5754600" y="4791960"/>
              <a:ext cx="52056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11273"/>
            <p:cNvSpPr/>
            <p:nvPr/>
          </p:nvSpPr>
          <p:spPr>
            <a:xfrm>
              <a:off x="2593800" y="4797000"/>
              <a:ext cx="368136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523880" y="5632560"/>
              <a:ext cx="1069920" cy="360"/>
              <a:chOff x="1523880" y="5632560"/>
              <a:chExt cx="1069920" cy="360"/>
            </a:xfrm>
          </p:grpSpPr>
          <p:sp>
            <p:nvSpPr>
              <p:cNvPr id="274" name="直接连接符 11274"/>
              <p:cNvSpPr/>
              <p:nvPr/>
            </p:nvSpPr>
            <p:spPr>
              <a:xfrm flipH="1">
                <a:off x="1523880" y="5632560"/>
                <a:ext cx="106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1523880" y="5632560"/>
                <a:ext cx="106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523880" y="4791960"/>
              <a:ext cx="1818000" cy="360"/>
              <a:chOff x="1523880" y="4791960"/>
              <a:chExt cx="1818000" cy="360"/>
            </a:xfrm>
          </p:grpSpPr>
          <p:sp>
            <p:nvSpPr>
              <p:cNvPr id="277" name="直接连接符 11275"/>
              <p:cNvSpPr/>
              <p:nvPr/>
            </p:nvSpPr>
            <p:spPr>
              <a:xfrm flipH="1">
                <a:off x="1523880" y="4791960"/>
                <a:ext cx="181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1523880" y="4791960"/>
                <a:ext cx="181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523520" y="3962160"/>
              <a:ext cx="2566800" cy="360"/>
              <a:chOff x="1523520" y="3962160"/>
              <a:chExt cx="2566800" cy="360"/>
            </a:xfrm>
          </p:grpSpPr>
          <p:sp>
            <p:nvSpPr>
              <p:cNvPr id="280" name="直接连接符 11276"/>
              <p:cNvSpPr/>
              <p:nvPr/>
            </p:nvSpPr>
            <p:spPr>
              <a:xfrm flipH="1">
                <a:off x="1523520" y="3962160"/>
                <a:ext cx="256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523880" y="3962160"/>
                <a:ext cx="256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523880" y="3133440"/>
              <a:ext cx="3314880" cy="360"/>
              <a:chOff x="1523880" y="3133440"/>
              <a:chExt cx="3314880" cy="360"/>
            </a:xfrm>
          </p:grpSpPr>
          <p:sp>
            <p:nvSpPr>
              <p:cNvPr id="283" name="直接连接符 11277"/>
              <p:cNvSpPr/>
              <p:nvPr/>
            </p:nvSpPr>
            <p:spPr>
              <a:xfrm flipH="1">
                <a:off x="1523880" y="3133440"/>
                <a:ext cx="331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1523880" y="3133440"/>
                <a:ext cx="3314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523520" y="2291760"/>
              <a:ext cx="4063680" cy="360"/>
              <a:chOff x="1523520" y="2291760"/>
              <a:chExt cx="4063680" cy="360"/>
            </a:xfrm>
          </p:grpSpPr>
          <p:sp>
            <p:nvSpPr>
              <p:cNvPr id="286" name="直接连接符 11278"/>
              <p:cNvSpPr/>
              <p:nvPr/>
            </p:nvSpPr>
            <p:spPr>
              <a:xfrm flipH="1">
                <a:off x="1523520" y="2291760"/>
                <a:ext cx="406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1523880" y="2291760"/>
                <a:ext cx="406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685160" y="2286000"/>
              <a:ext cx="360" cy="871560"/>
              <a:chOff x="1685160" y="2286000"/>
              <a:chExt cx="360" cy="871560"/>
            </a:xfrm>
          </p:grpSpPr>
          <p:sp>
            <p:nvSpPr>
              <p:cNvPr id="289" name="直接连接符 11279"/>
              <p:cNvSpPr/>
              <p:nvPr/>
            </p:nvSpPr>
            <p:spPr>
              <a:xfrm>
                <a:off x="1685160" y="228600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1685160" y="228600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685160" y="3157560"/>
              <a:ext cx="360" cy="816480"/>
              <a:chOff x="1685160" y="3157560"/>
              <a:chExt cx="360" cy="816480"/>
            </a:xfrm>
          </p:grpSpPr>
          <p:sp>
            <p:nvSpPr>
              <p:cNvPr id="292" name="直接连接符 11280"/>
              <p:cNvSpPr/>
              <p:nvPr/>
            </p:nvSpPr>
            <p:spPr>
              <a:xfrm>
                <a:off x="1685160" y="3157560"/>
                <a:ext cx="0" cy="81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1685160" y="3157560"/>
                <a:ext cx="360" cy="81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685160" y="3974040"/>
              <a:ext cx="360" cy="816480"/>
              <a:chOff x="1685160" y="3974040"/>
              <a:chExt cx="360" cy="816480"/>
            </a:xfrm>
          </p:grpSpPr>
          <p:sp>
            <p:nvSpPr>
              <p:cNvPr id="295" name="直接连接符 11281"/>
              <p:cNvSpPr/>
              <p:nvPr/>
            </p:nvSpPr>
            <p:spPr>
              <a:xfrm>
                <a:off x="1685160" y="3974040"/>
                <a:ext cx="0" cy="81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1685160" y="3974040"/>
                <a:ext cx="360" cy="81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685160" y="4791960"/>
              <a:ext cx="360" cy="816480"/>
              <a:chOff x="1685160" y="4791960"/>
              <a:chExt cx="360" cy="816480"/>
            </a:xfrm>
          </p:grpSpPr>
          <p:sp>
            <p:nvSpPr>
              <p:cNvPr id="298" name="直接连接符 11282"/>
              <p:cNvSpPr/>
              <p:nvPr/>
            </p:nvSpPr>
            <p:spPr>
              <a:xfrm>
                <a:off x="1685160" y="4791960"/>
                <a:ext cx="0" cy="81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1685160" y="4791960"/>
                <a:ext cx="360" cy="81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任意多边形 11283"/>
            <p:cNvSpPr/>
            <p:nvPr/>
          </p:nvSpPr>
          <p:spPr>
            <a:xfrm>
              <a:off x="3127680" y="2449080"/>
              <a:ext cx="1657800" cy="27234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84"/>
            <p:cNvSpPr/>
            <p:nvPr/>
          </p:nvSpPr>
          <p:spPr>
            <a:xfrm>
              <a:off x="4837680" y="2827440"/>
              <a:ext cx="2496960" cy="3034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285"/>
            <p:cNvSpPr/>
            <p:nvPr/>
          </p:nvSpPr>
          <p:spPr>
            <a:xfrm>
              <a:off x="4084560" y="3666600"/>
              <a:ext cx="2720880" cy="29772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11286"/>
            <p:cNvSpPr/>
            <p:nvPr/>
          </p:nvSpPr>
          <p:spPr>
            <a:xfrm>
              <a:off x="3339720" y="3958560"/>
              <a:ext cx="3458880" cy="5450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1287"/>
            <p:cNvSpPr/>
            <p:nvPr/>
          </p:nvSpPr>
          <p:spPr>
            <a:xfrm>
              <a:off x="3341880" y="4502520"/>
              <a:ext cx="2944800" cy="29772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1288"/>
            <p:cNvSpPr/>
            <p:nvPr/>
          </p:nvSpPr>
          <p:spPr>
            <a:xfrm>
              <a:off x="2592720" y="5338440"/>
              <a:ext cx="3168720" cy="29736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11289"/>
            <p:cNvSpPr/>
            <p:nvPr/>
          </p:nvSpPr>
          <p:spPr>
            <a:xfrm>
              <a:off x="1725120" y="2610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11290"/>
            <p:cNvSpPr/>
            <p:nvPr/>
          </p:nvSpPr>
          <p:spPr>
            <a:xfrm>
              <a:off x="1725120" y="3436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11291"/>
            <p:cNvSpPr/>
            <p:nvPr/>
          </p:nvSpPr>
          <p:spPr>
            <a:xfrm>
              <a:off x="1725120" y="4300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11292"/>
            <p:cNvSpPr/>
            <p:nvPr/>
          </p:nvSpPr>
          <p:spPr>
            <a:xfrm>
              <a:off x="1725120" y="5106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右箭头 12290"/>
          <p:cNvSpPr/>
          <p:nvPr/>
        </p:nvSpPr>
        <p:spPr>
          <a:xfrm>
            <a:off x="762120" y="1600200"/>
            <a:ext cx="5499000" cy="4495680"/>
          </a:xfrm>
          <a:prstGeom prst="rightArrow">
            <a:avLst>
              <a:gd name="adj1" fmla="val 79306"/>
              <a:gd name="adj2" fmla="val 30290"/>
            </a:avLst>
          </a:prstGeom>
          <a:gradFill rotWithShape="0">
            <a:gsLst>
              <a:gs pos="0">
                <a:srgbClr val="ffffff"/>
              </a:gs>
              <a:gs pos="100000">
                <a:srgbClr val="2294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2291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3892f"/>
              </a:gs>
              <a:gs pos="100000">
                <a:srgbClr val="ebad6e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12292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12293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cc"/>
              </a:gs>
              <a:gs pos="100000">
                <a:srgbClr val="4db8db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12294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43Z</dcterms:modified>
  <cp:revision>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