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AF5F-F8C5-4E45-A3AD-6200891E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E183-07B6-43A1-AD4D-8A28D0A8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C57D-E214-4A27-AADD-A242C8C48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609C-7ECC-4347-B61B-A24B9B241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9AD8-B1AC-423F-AF8E-B9115B455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FBAA-6434-43C9-870B-346C40A5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23A6-B2CA-4B29-9889-7F9BBF5A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8AC0-3710-46C3-BDCF-69265C6C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5463-56F5-4D04-A092-8298D9D1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A036-2A0F-4BFE-93A7-6CB74EB8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3A13-84BE-4424-A083-FA63A12F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4019-2EB2-4523-8929-7EEFA907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7691D-04F8-4DF2-B58C-6F0A50BB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7D6D-8FE5-45FB-BBA9-CCFBEAEB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9AC2-E50B-404B-A65C-FA3E838E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3D72-804A-4B08-A44A-1137D8254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5504-D04C-4772-8756-4E3A1DF8F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EFA5-D472-44DA-AB7A-3BE2C516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93F5-4A01-4108-9A30-1679A6F7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CD04-D014-41E7-926A-2ABB24BB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7C66-9441-4533-9E2B-78D00530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4307-F32B-4C9E-BCAB-5A632CBA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CAF2-B8B5-4CC1-9D16-5CB9F767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5A28-FB51-459A-A4E9-3EDCF56E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00B2-5336-48EE-B879-4C75CDD0C11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CDE1-E12B-441C-9FE2-18FC94FE95D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9768-8535-4D22-88DC-0A96DCB89E3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3EA2-FED7-4E7A-B660-5C04808E67F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" descr="022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3074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文本框 3075"/>
          <p:cNvSpPr/>
          <p:nvPr/>
        </p:nvSpPr>
        <p:spPr>
          <a:xfrm>
            <a:off x="2522520" y="18900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针管医疗幻灯片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4B23-BF47-4C01-A5BE-3D7C824A4AE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本框 4097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08:45:1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8:54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