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304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304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480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EEF-3F2B-4A97-9BCE-824A3675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C16-2C3E-4AC5-8ACE-512A7548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150-25F9-4535-8DEA-22EC8332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75F-73BD-427E-A815-4FDD4BE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A7E-03DB-42FE-B9A0-4890BEE8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50920" y="27432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A96-C718-436E-AF04-8FB64027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801-516F-4975-8745-534192B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621-6C78-44C4-A2C6-CE58FD39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F58-05E1-41A9-B88F-F4267C7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A13-0B9E-4DE8-B699-1DBAA8CE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909-0603-421B-BD86-6B39C820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304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0" y="160020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304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94800" y="39643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855-248D-4DCA-A9F6-56BFD860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0920" y="274320"/>
            <a:ext cx="864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9280" y="39643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60020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A85-ACD3-4B77-9BC2-949DACC1BFE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B809-F32E-4AF6-AAF2-1C245BBCE0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4981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8920" y="5518080"/>
            <a:ext cx="47530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Franklin Gothic Book"/>
                <a:ea typeface="隶书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076"/>
          <p:cNvSpPr/>
          <p:nvPr/>
        </p:nvSpPr>
        <p:spPr>
          <a:xfrm>
            <a:off x="2217600" y="1809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紫色工作商务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5C91-5051-49F5-BB13-5005E6B0AA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文本框 4099"/>
          <p:cNvSpPr/>
          <p:nvPr/>
        </p:nvSpPr>
        <p:spPr>
          <a:xfrm>
            <a:off x="1305000" y="28274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2:4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3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