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3823-7D7A-4AA4-8370-8713A7F4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5531-A5CC-4B81-AE3E-47231B3E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BBF-E0E9-44F5-9CC7-1B709913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2C0-42C0-47FB-B880-6FEC061C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4DF5-289C-48FD-80A9-E575660A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1181-733C-4D3F-BF57-02110A0F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6127-3555-4550-A405-47DFA673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708A-3CA3-4E4B-9957-CB229F0F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3963-4970-49B8-8841-23093BFD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CF02-BEF8-40C6-8FB5-6C04D30E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7C4E-5557-439A-9651-82B5BE25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184-4F02-46C9-9C18-22A82E98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CF29-906B-4C1C-AF15-586F0E93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65F8-CCAC-46D6-9493-F6E0E8DA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F5B2-FE8F-42EF-B720-4660ADFC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E159-D3FC-4F06-8898-7EFF3523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F73A-97E7-4C33-B3CE-B0757CAE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9890-AA89-4A0A-A4C2-36EC0481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AF9D-1193-45C7-98D4-4684B5BD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AD1-61CF-455B-8D4A-427BAB25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905-CE26-4995-BB93-859DA388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6B35-B6E0-4F2B-AA68-18829D46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A36-0AEB-4294-AF5B-DD2F73D5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6A68-CC7B-4801-B8C5-2FA700C8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6E7A-32CE-42B7-A903-0A56BB32CD6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B73F-6908-4C8D-B981-7290C4974A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439F-F7B5-4D2F-A62A-A243494FD20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2D12-E76F-4786-A4F4-3B50E50209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PowerPoint_Bugs_Background_by_Luai_lashire"/>
          <p:cNvPicPr/>
          <p:nvPr/>
        </p:nvPicPr>
        <p:blipFill>
          <a:blip r:embed="rId1"/>
          <a:stretch/>
        </p:blipFill>
        <p:spPr>
          <a:xfrm>
            <a:off x="-14400" y="-22320"/>
            <a:ext cx="9156960" cy="137336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994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国外设计师经典作品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Sermon_Powerpoin_15_by_jedskie"/>
          <p:cNvPicPr/>
          <p:nvPr/>
        </p:nvPicPr>
        <p:blipFill>
          <a:blip r:embed="rId1"/>
          <a:stretch/>
        </p:blipFill>
        <p:spPr>
          <a:xfrm>
            <a:off x="-3240" y="-1440"/>
            <a:ext cx="9145800" cy="1365228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35CA-4EBA-4409-96BA-B89635C6D88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Sermon_Powerpoin_17_by_jedskie"/>
          <p:cNvPicPr/>
          <p:nvPr/>
        </p:nvPicPr>
        <p:blipFill>
          <a:blip r:embed="rId1"/>
          <a:stretch/>
        </p:blipFill>
        <p:spPr>
          <a:xfrm>
            <a:off x="0" y="-1440"/>
            <a:ext cx="9142560" cy="136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3:4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46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