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0C4-F413-494B-857C-F84C4C66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C5A-8A98-4C67-9009-5B54981C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DFC-EFA5-4564-8048-F9D267B9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6A0-FC58-4E4F-B670-D59E3E0A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0AF7-764A-42C2-9659-2D50D6BC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B931-B1A0-4F9F-B6EB-14E7EA86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195F-A9CC-4D4E-B828-BCFD3CCC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7E19-5CB4-4C63-8307-8BA25A71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4248-1BD0-470E-B3E8-2B725E35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7B3C-6AFB-4796-BB32-4D90CD75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5ACF-3F26-49D8-9860-ACE1643A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01A-603F-4AB7-A235-8FF23DE5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4059-DBE4-4A51-9592-959BA061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249F-7528-4F67-8F94-4A2E87F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27EF-3402-46B6-A56D-67952D1D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D00E-729C-4FE2-BEF5-33420483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5B4F-B5F3-4A3D-AFA4-FFA904AB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61F90-8498-4880-905C-CEEAEB65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08786-DFE0-4DEE-BA84-3AFE51A6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B0C1-DD3D-4BD1-9604-4591BB59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9155-72E7-42FC-BDE4-89B4BF4B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69A5-08F3-4F9A-B153-568831DC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283-771E-40C0-A49C-94BC0EDA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57B6-7316-4D59-8E1B-5599D7B3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E035-E74E-43BB-B31B-86AFE7B4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7019-F56F-486C-A1FA-0D83C189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9462-49EC-4033-8B7F-37F7D961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CA5F-73C4-4A75-8E4E-FA45DD5F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51E4-33BB-4AE3-9C41-68713840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55A68-F4D4-4D83-B5A6-F9AF566A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426-E786-465E-BCD8-05990573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E3B-C1FD-4D5A-84A9-A6895B0A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C51-4C8C-4BD4-A8CD-07928A2D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26F-A186-429F-B0A5-9F0683E6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E68-E25F-49AA-A5BE-08FCB3FB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E03-6A92-49B3-A1B6-02AC57CD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DBB7-639E-4E4A-87AE-3E990E8FD5B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CF36-BFDC-415E-954D-E5DC54F695B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DD58-B27C-4649-ADFE-2B467829A0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078"/>
          <p:cNvSpPr/>
          <p:nvPr/>
        </p:nvSpPr>
        <p:spPr>
          <a:xfrm>
            <a:off x="685800" y="1447920"/>
            <a:ext cx="7772400" cy="41907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E325-2737-47C5-8CF7-5B7CB90F24B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subtitl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823400" y="774720"/>
            <a:ext cx="52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外实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7712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组合 4105"/>
          <p:cNvGrpSpPr/>
          <p:nvPr/>
        </p:nvGrpSpPr>
        <p:grpSpPr>
          <a:xfrm>
            <a:off x="7315200" y="609480"/>
            <a:ext cx="1143000" cy="1143000"/>
            <a:chOff x="7315200" y="609480"/>
            <a:chExt cx="1143000" cy="1143000"/>
          </a:xfrm>
        </p:grpSpPr>
        <p:pic>
          <p:nvPicPr>
            <p:cNvPr id="131" name="图片 4103" descr="Z:\newtek\_backgrounds_1.02\Greg\PowerPoint Templates\Maps\Elements\globe_anim.gif"/>
            <p:cNvPicPr/>
            <p:nvPr/>
          </p:nvPicPr>
          <p:blipFill>
            <a:blip r:embed="rId1"/>
            <a:stretch/>
          </p:blipFill>
          <p:spPr>
            <a:xfrm>
              <a:off x="7315200" y="609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矩形 4104"/>
            <p:cNvSpPr/>
            <p:nvPr/>
          </p:nvSpPr>
          <p:spPr>
            <a:xfrm>
              <a:off x="7315200" y="609480"/>
              <a:ext cx="114300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文本框 8199"/>
          <p:cNvSpPr/>
          <p:nvPr/>
        </p:nvSpPr>
        <p:spPr>
          <a:xfrm>
            <a:off x="1285920" y="5454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ab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1D33-CFBE-46A6-8745-FE82805E5F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3314" descr="Z:\newtek\_backgrounds_1.02\Greg\PowerPoint Templates\Maps\Elements\maps_title.jpg"/>
          <p:cNvPicPr/>
          <p:nvPr/>
        </p:nvPicPr>
        <p:blipFill>
          <a:blip r:embed="rId1"/>
          <a:stretch/>
        </p:blipFill>
        <p:spPr>
          <a:xfrm>
            <a:off x="304920" y="1143000"/>
            <a:ext cx="3274920" cy="2620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3315" descr="Z:\newtek\_backgrounds_1.02\Greg\PowerPoint Templates\Maps\Elements\maps_slide.jpg"/>
          <p:cNvPicPr/>
          <p:nvPr/>
        </p:nvPicPr>
        <p:blipFill>
          <a:blip r:embed="rId2"/>
          <a:stretch/>
        </p:blipFill>
        <p:spPr>
          <a:xfrm flipH="1" rot="10800000">
            <a:off x="5562720" y="1142640"/>
            <a:ext cx="3274920" cy="26208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3316" descr="Z:\newtek\_backgrounds_1.02\Greg\PowerPoint Templates\Maps\Elements\maps_print.jpg"/>
          <p:cNvPicPr/>
          <p:nvPr/>
        </p:nvPicPr>
        <p:blipFill>
          <a:blip r:embed="rId3"/>
          <a:stretch/>
        </p:blipFill>
        <p:spPr>
          <a:xfrm>
            <a:off x="5562720" y="4008600"/>
            <a:ext cx="3276360" cy="2620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3317" descr="Z:\newtek\_backgrounds_1.02\Greg\PowerPoint Templates\Maps\Elements\maps_trans.jpg"/>
          <p:cNvPicPr/>
          <p:nvPr/>
        </p:nvPicPr>
        <p:blipFill>
          <a:blip r:embed="rId4"/>
          <a:stretch/>
        </p:blipFill>
        <p:spPr>
          <a:xfrm>
            <a:off x="304920" y="4008600"/>
            <a:ext cx="3274920" cy="2620800"/>
          </a:xfrm>
          <a:prstGeom prst="rect">
            <a:avLst/>
          </a:prstGeom>
          <a:ln w="0">
            <a:noFill/>
          </a:ln>
        </p:spPr>
      </p:pic>
      <p:grpSp>
        <p:nvGrpSpPr>
          <p:cNvPr id="147" name="组合 13320"/>
          <p:cNvGrpSpPr/>
          <p:nvPr/>
        </p:nvGrpSpPr>
        <p:grpSpPr>
          <a:xfrm>
            <a:off x="3809880" y="4572000"/>
            <a:ext cx="1447920" cy="1447920"/>
            <a:chOff x="3809880" y="4572000"/>
            <a:chExt cx="1447920" cy="1447920"/>
          </a:xfrm>
        </p:grpSpPr>
        <p:pic>
          <p:nvPicPr>
            <p:cNvPr id="148" name="图片 13318" descr="Z:\newtek\_backgrounds_1.02\Greg\PowerPoint Templates\Maps\Elements\globe_anim.gif"/>
            <p:cNvPicPr/>
            <p:nvPr/>
          </p:nvPicPr>
          <p:blipFill>
            <a:blip r:embed="rId5"/>
            <a:stretch/>
          </p:blipFill>
          <p:spPr>
            <a:xfrm>
              <a:off x="3809880" y="457200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矩形 13319"/>
            <p:cNvSpPr/>
            <p:nvPr/>
          </p:nvSpPr>
          <p:spPr>
            <a:xfrm>
              <a:off x="3809880" y="4572000"/>
              <a:ext cx="1447920" cy="1447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文本框 13321"/>
          <p:cNvSpPr/>
          <p:nvPr/>
        </p:nvSpPr>
        <p:spPr>
          <a:xfrm>
            <a:off x="3733920" y="1295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13322"/>
          <p:cNvSpPr/>
          <p:nvPr/>
        </p:nvSpPr>
        <p:spPr>
          <a:xfrm>
            <a:off x="3581280" y="19810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is page when template is fin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1:49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11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