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EC4-2723-4A8D-94A7-2DD0B463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E42-FC69-4A03-80D0-129F827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8E8-2942-4197-B963-EF296552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814-C215-4F99-B25A-B02ED586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B4CD-C234-4D39-84A3-F273A9C4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0B0D-C941-47E8-B2D5-BF77AD00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2B54-2B0F-48B3-AE03-712B43A5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AFBB-80C5-4404-B80E-20C1BEF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549B-8CB2-4F92-BFA3-7D47DCCD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9ED-3978-4249-BD4D-18A03806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3D30-EBD4-4839-B90C-5EC43A7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B64-E902-4763-AA62-00DFDEC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8D01-54EB-4B14-9D46-68F0E40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ED4D-0C5D-4273-8E8C-704891D0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E999-FEF6-4F0F-8681-F0C79B19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163F-0068-430C-B9EE-4C13F0A2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FE9C-6A02-447F-B267-664C1875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DB5-6C7D-4339-85A1-C3E801AA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515-CC63-4A7F-94BB-AF40F505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8E8-E081-4179-83FC-BE87ED59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895-8BAA-4D81-B8FF-BE55E7F9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CF9-A448-4A76-869E-3C5A687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DA9-AFF3-49C5-9A7C-060F275D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951-C258-48B6-8376-9618A5A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5791-4F44-4685-982F-0965DA0EA8A8}" type="datetime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26年 7月 29日</a:t>
            </a:fld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D25A-38DC-4E3D-9B50-0098D8775D7F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D57F-EA79-49CF-8751-D6E75B62C3C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CDB2-4AA2-4A2D-BBFA-4DA3DB8FA2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韩国电子企业</a:t>
            </a: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Malgun Gothic"/>
            </a:endParaRPr>
          </a:p>
        </p:txBody>
      </p:sp>
      <p:sp>
        <p:nvSpPr>
          <p:cNvPr id="84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6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0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91" name="그룹 22"/>
          <p:cNvGrpSpPr/>
          <p:nvPr/>
        </p:nvGrpSpPr>
        <p:grpSpPr>
          <a:xfrm>
            <a:off x="1547640" y="2644920"/>
            <a:ext cx="6207480" cy="1568160"/>
            <a:chOff x="1547640" y="2644920"/>
            <a:chExt cx="6207480" cy="1568160"/>
          </a:xfrm>
        </p:grpSpPr>
        <p:sp>
          <p:nvSpPr>
            <p:cNvPr id="92" name="TextBox 19"/>
            <p:cNvSpPr/>
            <p:nvPr/>
          </p:nvSpPr>
          <p:spPr>
            <a:xfrm>
              <a:off x="3106080" y="2644920"/>
              <a:ext cx="464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P</a:t>
              </a:r>
              <a:r>
                <a:rPr b="0" lang="en-US" sz="5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resentation</a:t>
              </a:r>
              <a:endParaRPr b="0" lang="en-US" sz="5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93" name="그림 21" descr=""/>
            <p:cNvPicPr/>
            <p:nvPr/>
          </p:nvPicPr>
          <p:blipFill>
            <a:blip r:embed="rId1"/>
            <a:stretch/>
          </p:blipFill>
          <p:spPr>
            <a:xfrm>
              <a:off x="1547640" y="2691720"/>
              <a:ext cx="1522440" cy="152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2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3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6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227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228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29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0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231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32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3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234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35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6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237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38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9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240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41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242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355-E234-488A-AF75-6036B768C5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8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9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0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1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2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3" name="TextBox 19"/>
          <p:cNvSpPr/>
          <p:nvPr/>
        </p:nvSpPr>
        <p:spPr>
          <a:xfrm>
            <a:off x="2646720" y="2644920"/>
            <a:ext cx="385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T</a:t>
            </a:r>
            <a:r>
              <a:rPr b="0" lang="en-US" sz="5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hank you</a:t>
            </a:r>
            <a:endParaRPr b="0" lang="en-US" sz="5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4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사각형 10"/>
          <p:cNvSpPr/>
          <p:nvPr/>
        </p:nvSpPr>
        <p:spPr>
          <a:xfrm>
            <a:off x="250920" y="549360"/>
            <a:ext cx="1873080" cy="122400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122760" y="549360"/>
            <a:ext cx="22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I</a:t>
            </a:r>
            <a:r>
              <a:rPr b="0" lang="en-US" sz="5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ndex</a:t>
            </a:r>
            <a:endParaRPr b="0" lang="en-US" sz="5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04" name="그룹 6"/>
          <p:cNvGrpSpPr/>
          <p:nvPr/>
        </p:nvGrpSpPr>
        <p:grpSpPr>
          <a:xfrm>
            <a:off x="4402080" y="1628640"/>
            <a:ext cx="1816560" cy="874800"/>
            <a:chOff x="4402080" y="1628640"/>
            <a:chExt cx="1816560" cy="874800"/>
          </a:xfrm>
        </p:grpSpPr>
        <p:sp>
          <p:nvSpPr>
            <p:cNvPr id="105" name="TextBox 37"/>
            <p:cNvSpPr/>
            <p:nvPr/>
          </p:nvSpPr>
          <p:spPr>
            <a:xfrm>
              <a:off x="5137200" y="177336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06" name="그림 38" descr=""/>
            <p:cNvPicPr/>
            <p:nvPr/>
          </p:nvPicPr>
          <p:blipFill>
            <a:blip r:embed="rId1"/>
            <a:stretch/>
          </p:blipFill>
          <p:spPr>
            <a:xfrm>
              <a:off x="4402080" y="1628640"/>
              <a:ext cx="87480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그룹 41"/>
          <p:cNvGrpSpPr/>
          <p:nvPr/>
        </p:nvGrpSpPr>
        <p:grpSpPr>
          <a:xfrm>
            <a:off x="4816440" y="2665440"/>
            <a:ext cx="1816560" cy="874800"/>
            <a:chOff x="4816440" y="2665440"/>
            <a:chExt cx="1816560" cy="874800"/>
          </a:xfrm>
        </p:grpSpPr>
        <p:sp>
          <p:nvSpPr>
            <p:cNvPr id="108" name="TextBox 42"/>
            <p:cNvSpPr/>
            <p:nvPr/>
          </p:nvSpPr>
          <p:spPr>
            <a:xfrm>
              <a:off x="5551560" y="281016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09" name="그림 43" descr=""/>
            <p:cNvPicPr/>
            <p:nvPr/>
          </p:nvPicPr>
          <p:blipFill>
            <a:blip r:embed="rId2"/>
            <a:stretch/>
          </p:blipFill>
          <p:spPr>
            <a:xfrm>
              <a:off x="4816440" y="2665440"/>
              <a:ext cx="87480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그룹 44"/>
          <p:cNvGrpSpPr/>
          <p:nvPr/>
        </p:nvGrpSpPr>
        <p:grpSpPr>
          <a:xfrm>
            <a:off x="5405400" y="3701880"/>
            <a:ext cx="1816560" cy="873360"/>
            <a:chOff x="5405400" y="3701880"/>
            <a:chExt cx="1816560" cy="873360"/>
          </a:xfrm>
        </p:grpSpPr>
        <p:sp>
          <p:nvSpPr>
            <p:cNvPr id="111" name="TextBox 45"/>
            <p:cNvSpPr/>
            <p:nvPr/>
          </p:nvSpPr>
          <p:spPr>
            <a:xfrm>
              <a:off x="6140520" y="384660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12" name="그림 46" descr=""/>
            <p:cNvPicPr/>
            <p:nvPr/>
          </p:nvPicPr>
          <p:blipFill>
            <a:blip r:embed="rId3"/>
            <a:stretch/>
          </p:blipFill>
          <p:spPr>
            <a:xfrm>
              <a:off x="5405400" y="3701880"/>
              <a:ext cx="874800" cy="87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그룹 47"/>
          <p:cNvGrpSpPr/>
          <p:nvPr/>
        </p:nvGrpSpPr>
        <p:grpSpPr>
          <a:xfrm>
            <a:off x="5996160" y="4737240"/>
            <a:ext cx="1816200" cy="874440"/>
            <a:chOff x="5996160" y="4737240"/>
            <a:chExt cx="1816200" cy="874440"/>
          </a:xfrm>
        </p:grpSpPr>
        <p:sp>
          <p:nvSpPr>
            <p:cNvPr id="114" name="TextBox 48"/>
            <p:cNvSpPr/>
            <p:nvPr/>
          </p:nvSpPr>
          <p:spPr>
            <a:xfrm>
              <a:off x="6730920" y="488196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15" name="그림 49" descr=""/>
            <p:cNvPicPr/>
            <p:nvPr/>
          </p:nvPicPr>
          <p:blipFill>
            <a:blip r:embed="rId4"/>
            <a:stretch/>
          </p:blipFill>
          <p:spPr>
            <a:xfrm>
              <a:off x="5996160" y="4737240"/>
              <a:ext cx="874440" cy="87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직선 연결선 8"/>
          <p:cNvSpPr/>
          <p:nvPr/>
        </p:nvSpPr>
        <p:spPr>
          <a:xfrm>
            <a:off x="3851280" y="1989000"/>
            <a:ext cx="1425600" cy="3622680"/>
          </a:xfrm>
          <a:prstGeom prst="line">
            <a:avLst/>
          </a:prstGeom>
          <a:ln w="381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직선 연결선 39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8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직사각형 20"/>
          <p:cNvSpPr/>
          <p:nvPr/>
        </p:nvSpPr>
        <p:spPr>
          <a:xfrm>
            <a:off x="4859280" y="3745080"/>
            <a:ext cx="428472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20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22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  <p:sp>
        <p:nvSpPr>
          <p:cNvPr id="123" name="타원 3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5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6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7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8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9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32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133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34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35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136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37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38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139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40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41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142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43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44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145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46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147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직선 연결선 7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타원 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1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2" name="직사각형 20"/>
          <p:cNvSpPr/>
          <p:nvPr/>
        </p:nvSpPr>
        <p:spPr>
          <a:xfrm>
            <a:off x="4859280" y="3716280"/>
            <a:ext cx="4284720" cy="2620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53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55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7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1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3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64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165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66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67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168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69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70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171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72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73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174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75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76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177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78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179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직선 연결선 7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1" name="타원 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2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직사각형 20"/>
          <p:cNvSpPr/>
          <p:nvPr/>
        </p:nvSpPr>
        <p:spPr>
          <a:xfrm>
            <a:off x="4859280" y="3745080"/>
            <a:ext cx="428472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84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86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8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9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0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2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95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196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97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98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199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0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01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202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3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04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205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6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07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208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9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210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직선 연결선 7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3" name="타원 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4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5" name="직사각형 20"/>
          <p:cNvSpPr/>
          <p:nvPr/>
        </p:nvSpPr>
        <p:spPr>
          <a:xfrm>
            <a:off x="4859280" y="3745080"/>
            <a:ext cx="428472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16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18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5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3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