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6642-EC96-4576-97D8-667BE265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EDA4-BBC6-4CA4-AD08-7AB5936D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2B18-FD65-49DD-8674-E6E39807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3F2-F9ED-4DB0-9991-335D60B1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172-A2CF-4393-AE44-556C9ABD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42AE-AAAD-4699-A145-EEB981C5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271-12BB-44EE-B3FE-D2D9B56D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8BB-56E5-448F-9634-808BD396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31AA-E2B0-44DB-AE1A-2DC37BE5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F63-4E7F-4FC4-8B53-1D50A7BE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311-92D5-4E7E-BE20-BA2F53AB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8CB6-E4CF-48BA-93BC-38BF2C4F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7555-2B7D-421B-A6DB-436DBBA16DB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E42A-130F-4621-A9C9-B990C7EDA8B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bg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bg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6" descr="bg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6" descr="bg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6" descr="bg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6" descr="bg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571680" y="2709720"/>
            <a:ext cx="50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241200" y="1924200"/>
            <a:ext cx="764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efbda"/>
                </a:solidFill>
                <a:latin typeface="Kunstler Script"/>
                <a:ea typeface="Arial"/>
              </a:rPr>
              <a:t>Powerpoin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7"/>
          <p:cNvSpPr/>
          <p:nvPr/>
        </p:nvSpPr>
        <p:spPr>
          <a:xfrm>
            <a:off x="928800" y="4313160"/>
            <a:ext cx="27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f2f2"/>
                </a:solidFill>
                <a:latin typeface="Arial"/>
                <a:ea typeface="宋体"/>
              </a:rPr>
              <a:t>A better love I couldn't ask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f2f2"/>
                </a:solidFill>
                <a:latin typeface="Arial"/>
                <a:ea typeface="宋体"/>
              </a:rPr>
              <a:t>With your sweet and gentl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f2f2"/>
                </a:solidFill>
                <a:latin typeface="Arial"/>
                <a:ea typeface="宋体"/>
              </a:rPr>
              <a:t>And knowing that your love for 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f2f2"/>
                </a:solidFill>
                <a:latin typeface="Arial"/>
                <a:ea typeface="宋体"/>
              </a:rPr>
              <a:t>Grows more every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8"/>
          <p:cNvSpPr/>
          <p:nvPr/>
        </p:nvSpPr>
        <p:spPr>
          <a:xfrm>
            <a:off x="71280" y="2932200"/>
            <a:ext cx="601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efbda"/>
                </a:solidFill>
                <a:latin typeface="Kunstler Script"/>
                <a:ea typeface="Arial"/>
              </a:rPr>
              <a:t>Templat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8123400" cy="13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婚礼企业幻灯片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6155"/>
          <p:cNvSpPr/>
          <p:nvPr/>
        </p:nvSpPr>
        <p:spPr>
          <a:xfrm>
            <a:off x="179280" y="6381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3929040" cy="45007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4642920" y="1143000"/>
            <a:ext cx="3929400" cy="4500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图片 12" descr="t4.png"/>
          <p:cNvPicPr/>
          <p:nvPr/>
        </p:nvPicPr>
        <p:blipFill>
          <a:blip r:embed="rId1"/>
          <a:stretch/>
        </p:blipFill>
        <p:spPr>
          <a:xfrm>
            <a:off x="2643120" y="588960"/>
            <a:ext cx="3873600" cy="105408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3"/>
          <p:cNvSpPr/>
          <p:nvPr/>
        </p:nvSpPr>
        <p:spPr>
          <a:xfrm>
            <a:off x="3143160" y="5643720"/>
            <a:ext cx="378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2251"/>
                </a:solidFill>
                <a:latin typeface="Arial"/>
                <a:ea typeface="Arial"/>
              </a:rPr>
              <a:t>A better love I couldn't ask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2251"/>
                </a:solidFill>
                <a:latin typeface="Arial"/>
                <a:ea typeface="Arial"/>
              </a:rPr>
              <a:t>With your sweet and gentl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2251"/>
                </a:solidFill>
                <a:latin typeface="Arial"/>
                <a:ea typeface="Arial"/>
              </a:rPr>
              <a:t>And knowing that your love for 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2251"/>
                </a:solidFill>
                <a:latin typeface="Arial"/>
                <a:ea typeface="Arial"/>
              </a:rPr>
              <a:t>Grows more every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1714680" y="1428480"/>
            <a:ext cx="2643120" cy="18968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4785840" y="1428480"/>
            <a:ext cx="2643480" cy="18968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4785840" y="3429000"/>
            <a:ext cx="2643480" cy="18972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5"/>
          <a:stretch/>
        </p:blipFill>
        <p:spPr>
          <a:xfrm>
            <a:off x="1714680" y="3429000"/>
            <a:ext cx="2643120" cy="1897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图片 7" descr="t5.png"/>
          <p:cNvPicPr/>
          <p:nvPr/>
        </p:nvPicPr>
        <p:blipFill>
          <a:blip r:embed="rId1"/>
          <a:stretch/>
        </p:blipFill>
        <p:spPr>
          <a:xfrm>
            <a:off x="0" y="0"/>
            <a:ext cx="7751880" cy="3286080"/>
          </a:xfrm>
          <a:prstGeom prst="rect">
            <a:avLst/>
          </a:prstGeom>
          <a:ln w="0">
            <a:noFill/>
          </a:ln>
        </p:spPr>
      </p:pic>
      <p:sp>
        <p:nvSpPr>
          <p:cNvPr id="328" name="TextBox 8"/>
          <p:cNvSpPr/>
          <p:nvPr/>
        </p:nvSpPr>
        <p:spPr>
          <a:xfrm>
            <a:off x="5500800" y="5742000"/>
            <a:ext cx="378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c1818"/>
                </a:solidFill>
                <a:latin typeface="Arial"/>
                <a:ea typeface="Arial"/>
              </a:rPr>
              <a:t>A better love I couldn't ask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c1818"/>
                </a:solidFill>
                <a:latin typeface="Arial"/>
                <a:ea typeface="Arial"/>
              </a:rPr>
              <a:t>With your sweet and gentl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c1818"/>
                </a:solidFill>
                <a:latin typeface="Arial"/>
                <a:ea typeface="Arial"/>
              </a:rPr>
              <a:t>And knowing that your love for 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c1818"/>
                </a:solidFill>
                <a:latin typeface="Arial"/>
                <a:ea typeface="Arial"/>
              </a:rPr>
              <a:t>Grows more every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1357200" y="1428480"/>
            <a:ext cx="6429600" cy="4143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图片 8" descr="t3.png"/>
          <p:cNvPicPr/>
          <p:nvPr/>
        </p:nvPicPr>
        <p:blipFill>
          <a:blip r:embed="rId1"/>
          <a:stretch/>
        </p:blipFill>
        <p:spPr>
          <a:xfrm>
            <a:off x="1928880" y="4000680"/>
            <a:ext cx="3860640" cy="26794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3571920" y="785880"/>
            <a:ext cx="4643280" cy="5256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958680" y="785880"/>
            <a:ext cx="2541600" cy="5256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图片 7" descr="t4.png"/>
          <p:cNvPicPr/>
          <p:nvPr/>
        </p:nvPicPr>
        <p:blipFill>
          <a:blip r:embed="rId1"/>
          <a:stretch/>
        </p:blipFill>
        <p:spPr>
          <a:xfrm>
            <a:off x="142920" y="2000160"/>
            <a:ext cx="3000240" cy="816120"/>
          </a:xfrm>
          <a:prstGeom prst="rect">
            <a:avLst/>
          </a:prstGeom>
          <a:ln w="0">
            <a:noFill/>
          </a:ln>
        </p:spPr>
      </p:pic>
      <p:sp>
        <p:nvSpPr>
          <p:cNvPr id="334" name="TextBox 8"/>
          <p:cNvSpPr/>
          <p:nvPr/>
        </p:nvSpPr>
        <p:spPr>
          <a:xfrm>
            <a:off x="857160" y="2714760"/>
            <a:ext cx="378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767d"/>
                </a:solidFill>
                <a:latin typeface="Arial"/>
                <a:ea typeface="Arial"/>
              </a:rPr>
              <a:t>A better love I couldn't ask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767d"/>
                </a:solidFill>
                <a:latin typeface="Arial"/>
                <a:ea typeface="Arial"/>
              </a:rPr>
              <a:t>With your sweet and gentl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767d"/>
                </a:solidFill>
                <a:latin typeface="Arial"/>
                <a:ea typeface="Arial"/>
              </a:rPr>
              <a:t>And knowing that your love for 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767d"/>
                </a:solidFill>
                <a:latin typeface="Arial"/>
                <a:ea typeface="Arial"/>
              </a:rPr>
              <a:t>Grows more every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928680" y="500040"/>
            <a:ext cx="4429080" cy="58579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28400" y="4000320"/>
            <a:ext cx="2214360" cy="1571400"/>
          </a:xfrm>
          <a:prstGeom prst="rect">
            <a:avLst/>
          </a:prstGeom>
          <a:ln w="0">
            <a:noFill/>
          </a:ln>
        </p:spPr>
      </p:pic>
      <p:sp>
        <p:nvSpPr>
          <p:cNvPr id="337" name="文本框 8199"/>
          <p:cNvSpPr/>
          <p:nvPr/>
        </p:nvSpPr>
        <p:spPr>
          <a:xfrm>
            <a:off x="3851280" y="551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4995-BDFC-4432-A0E0-5FB80DE0AA8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5"/>
          <p:cNvSpPr/>
          <p:nvPr/>
        </p:nvSpPr>
        <p:spPr>
          <a:xfrm>
            <a:off x="5643720" y="6500880"/>
            <a:ext cx="3500280" cy="357120"/>
          </a:xfrm>
          <a:prstGeom prst="rect">
            <a:avLst/>
          </a:prstGeom>
          <a:gradFill rotWithShape="0">
            <a:gsLst>
              <a:gs pos="0">
                <a:srgbClr val="236567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3"/>
          <p:cNvSpPr/>
          <p:nvPr/>
        </p:nvSpPr>
        <p:spPr>
          <a:xfrm>
            <a:off x="468360" y="2347920"/>
            <a:ext cx="580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efbda"/>
                </a:solidFill>
                <a:latin typeface="Kunstler Script"/>
                <a:ea typeface="Arial"/>
              </a:rPr>
              <a:t>Thanks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6:54:3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9:47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