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6AB1-763E-47DF-8B0D-748866CB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6705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743640"/>
            <a:ext cx="6705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F95D-F2CD-40B0-9B36-D2ED9BA3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74364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64440" y="374364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FD9E-24A1-461E-BC5E-C2A0B018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95520" y="83808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62800" y="83808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74364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95520" y="374364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62800" y="374364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C46-F1CB-4A58-8630-24BFAB9C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A4A0-E84B-42E4-8BE3-E3D55102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838080"/>
            <a:ext cx="67057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1312-03DA-4D16-B2A8-A119AC94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6705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6DF2-0C12-4766-9E2C-8C6A36DC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C5D6-F10E-49D4-91A1-8D9653CD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F5CA-BAA6-462D-A35E-880B2306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756D-91E1-4439-8DFB-BBD666F0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374364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C36F-D0E9-4527-8297-18FAAE99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838080"/>
            <a:ext cx="67057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61C9-AF5D-48F4-978E-CCD9E9D3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64440" y="374364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A6AC-46CF-4D8D-9052-C3D6EABE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3743640"/>
            <a:ext cx="6705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9ADF-45A3-45C2-8921-AFDBA97E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6705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3743640"/>
            <a:ext cx="6705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8C82-9102-4382-8780-4F556089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374364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664440" y="374364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B948-8E0B-4271-97E5-B9BFDECD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95520" y="83808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62800" y="83808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374364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95520" y="374364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762800" y="374364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4DDF-6D2E-4982-9388-B13A10D1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6C415-54C3-4C46-98AA-129B3F8B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240" y="838080"/>
            <a:ext cx="67057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D1A3C-2782-48DB-93AB-FB2BD2F5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6705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3F8D6-2B02-4E5E-A96C-A9759408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E08D5-3EA9-447F-9277-3C3391BD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CAC2D-49B6-4BEB-95EC-82175BEF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6705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B999-F2F4-4543-871D-3143A61D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9EB17-3D72-4CE5-8097-595C8B5C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240" y="374364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66E46-0CE5-4C65-BE22-9D5A76E1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664440" y="374364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DCB81-FC75-4149-8E46-D783B023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240" y="3743640"/>
            <a:ext cx="6705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7B655-3862-46E9-87DE-E6C81D41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6705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240" y="3743640"/>
            <a:ext cx="6705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9274-10A3-489A-98A9-6DBE2F9B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240" y="374364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664440" y="374364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74081-EC8B-410E-B230-50150ECD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495520" y="83808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62800" y="83808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240" y="374364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495520" y="374364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762800" y="374364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23DA4-D003-4E7E-AA5F-A014A263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A780-14AC-4F1B-8DCD-8B7C8230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CB14-A1EB-481F-83F7-E31C09DA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FFF4-14B9-4D23-A95F-47BCF882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74364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232-B85F-4006-834D-F8E0CC29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64440" y="374364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50F-1E8B-4916-AABE-98D0EBD3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743640"/>
            <a:ext cx="6705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79ED-6E1B-4CD2-BC7C-FE479079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838080"/>
            <a:ext cx="6705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2560"/>
            <a:ext cx="2895840" cy="1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22560"/>
            <a:ext cx="2133720" cy="1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12E8-C1A7-45F8-9021-C940665DCCFE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AF56-27EB-45B1-AD75-B151C3D6FFC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38EA-4A79-4EEC-9888-1C805232D8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28240" y="838080"/>
            <a:ext cx="6705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261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6502-0D00-4925-B3BA-F4279DAF5B95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Impact"/>
              </a:rPr>
              <a:t>UP IN SMOKE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6320" y="3200040"/>
            <a:ext cx="9067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subtitle goes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74760" y="6454800"/>
            <a:ext cx="47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757080" y="380880"/>
            <a:ext cx="764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火山爆发卡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6705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6668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Impact"/>
              </a:rPr>
              <a:t>Transitional Page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320" y="3169440"/>
            <a:ext cx="9067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CBA3-E8F6-4672-B228-08B2B8191B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6705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14:16:5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19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