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A6D9-D897-409B-8CC0-B0A2C97F6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D839-32D4-41B4-996D-BFA0CF2D7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F702-845F-4E1C-A5CC-1AA915A76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F88F-24CE-4314-91F2-A1AB03838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11AB9-6C4D-41D3-9C9A-7F59FAE8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1DCBC-4488-40F4-BA74-A7E0EA5F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A2C9A-4C67-4BA8-976B-1A29905E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03D61-5200-4675-9B13-8A8511E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04F02-F3AF-4C13-B556-7DC404E1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0032D-A961-48FF-BE4A-A4395186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8A55D-26F5-4D0F-A6AD-FD89DBA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E3E7-BF64-4535-863E-F0EA517F0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96F55-1452-4DD3-BB38-0EBBD41B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24B44-1D36-4256-9036-4D9FC84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8D13F-D2C1-4E05-8456-33D951E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FEB33-3CB7-4A0A-9E80-F1717025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9EC15-B619-4E42-8F3D-468A8443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9CC65-3B68-4B55-9DB8-14CCC08D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043C9-EEF7-4B70-A688-97E36A2A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B3A1D-66E7-443E-B9F0-5CC6551B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96BBC-83E5-4F92-9400-1A95A2FD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B22FE-7035-4B5C-9422-FC22D52A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28BF-8455-4806-9521-B01170A214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EC199-0166-425A-B78D-B2B94DA0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CC23B-02DE-4341-BC1F-EF973CD0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89D24-56E0-4D15-8914-ECD28B61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1AF1D-A51A-4B15-8583-FC3BF55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B8882-8509-4001-BC6C-6D4A2E0B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9105D-F285-4BD1-A613-B9A55059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5CD37-54DC-4523-ADA9-AA0244D6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BF43-5D53-4BDE-9B7D-6A6E4DE8C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12E4-F757-489B-8E42-CF8883CDC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1B1C-DA5C-4D2E-A469-F487EDBE6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8180-562C-4E3A-BEA0-B4205F31D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CDF3-0785-4DE1-BDF3-183D53267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461D1-2816-4CA4-A7AB-D58B1A760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61ad6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abddce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abddce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43AD-CCA1-4F2C-BB21-A454BD045406}" type="slidenum"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B527-5663-48C4-99CD-49BA6E80424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F5AC-0301-4D5F-9AFF-4A65BC1A22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61ad6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abddce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abddce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4CB4-3997-4915-A566-F6D160265D05}" type="slidenum">
              <a:rPr b="1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421000"/>
            <a:ext cx="7777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黑色格调报告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42638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4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bddc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abddc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Click to add tit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  <a:ea typeface="굴림"/>
              </a:rPr>
              <a:t>Competitors 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ddce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abdd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  <a:ea typeface="굴림"/>
              </a:rPr>
              <a:t>Strengths 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ddce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abdd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  <a:ea typeface="굴림"/>
              </a:rPr>
              <a:t>Weaknesses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ddce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8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内容占位符 35843" descr=""/>
          <p:cNvPicPr/>
          <p:nvPr/>
        </p:nvPicPr>
        <p:blipFill>
          <a:blip r:embed="rId1"/>
          <a:stretch/>
        </p:blipFill>
        <p:spPr>
          <a:xfrm>
            <a:off x="685800" y="163836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131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3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1ad6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61ad6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abddc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bddc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BEF-7AC8-422F-A773-A4652E861AB2}" type="slidenum">
              <a:rPr b="0" lang="zh-CN" sz="1400" spc="-1" strike="noStrike">
                <a:solidFill>
                  <a:srgbClr val="abddc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Schedu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  <a:ea typeface="굴림"/>
              </a:rPr>
              <a:t>Review high-level schedule milestones here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grpSp>
        <p:nvGrpSpPr>
          <p:cNvPr id="139" name="组合 37891"/>
          <p:cNvGrpSpPr/>
          <p:nvPr/>
        </p:nvGrpSpPr>
        <p:grpSpPr>
          <a:xfrm>
            <a:off x="1256400" y="4483080"/>
            <a:ext cx="6628320" cy="714960"/>
            <a:chOff x="1256400" y="4483080"/>
            <a:chExt cx="6628320" cy="714960"/>
          </a:xfrm>
        </p:grpSpPr>
        <p:sp>
          <p:nvSpPr>
            <p:cNvPr id="140" name="右箭头 37892"/>
            <p:cNvSpPr/>
            <p:nvPr/>
          </p:nvSpPr>
          <p:spPr>
            <a:xfrm>
              <a:off x="1333080" y="4483080"/>
              <a:ext cx="6551640" cy="557640"/>
            </a:xfrm>
            <a:prstGeom prst="rightArrow">
              <a:avLst>
                <a:gd name="adj1" fmla="val 36602"/>
                <a:gd name="adj2" fmla="val 48192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53b9c7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1f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1" name="文本框 37893"/>
            <p:cNvSpPr/>
            <p:nvPr/>
          </p:nvSpPr>
          <p:spPr>
            <a:xfrm>
              <a:off x="1256400" y="4890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Jan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2" name="文本框 37894"/>
            <p:cNvSpPr/>
            <p:nvPr/>
          </p:nvSpPr>
          <p:spPr>
            <a:xfrm>
              <a:off x="1796040" y="48909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Feb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3" name="文本框 37895"/>
            <p:cNvSpPr/>
            <p:nvPr/>
          </p:nvSpPr>
          <p:spPr>
            <a:xfrm>
              <a:off x="2369880" y="489096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Mar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4" name="文本框 37896"/>
            <p:cNvSpPr/>
            <p:nvPr/>
          </p:nvSpPr>
          <p:spPr>
            <a:xfrm>
              <a:off x="2979720" y="4890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Apr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5" name="文本框 37897"/>
            <p:cNvSpPr/>
            <p:nvPr/>
          </p:nvSpPr>
          <p:spPr>
            <a:xfrm>
              <a:off x="3563280" y="48909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May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6" name="文本框 37898"/>
            <p:cNvSpPr/>
            <p:nvPr/>
          </p:nvSpPr>
          <p:spPr>
            <a:xfrm>
              <a:off x="4208760" y="48909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Jun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7" name="文本框 37899"/>
            <p:cNvSpPr/>
            <p:nvPr/>
          </p:nvSpPr>
          <p:spPr>
            <a:xfrm>
              <a:off x="4758840" y="489096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July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8" name="文本框 37900"/>
            <p:cNvSpPr/>
            <p:nvPr/>
          </p:nvSpPr>
          <p:spPr>
            <a:xfrm>
              <a:off x="5369760" y="489096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Sep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9" name="文本框 37901"/>
            <p:cNvSpPr/>
            <p:nvPr/>
          </p:nvSpPr>
          <p:spPr>
            <a:xfrm>
              <a:off x="5941800" y="489096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Oct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50" name="文本框 37902"/>
            <p:cNvSpPr/>
            <p:nvPr/>
          </p:nvSpPr>
          <p:spPr>
            <a:xfrm>
              <a:off x="6504840" y="489096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Nov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51" name="文本框 37903"/>
            <p:cNvSpPr/>
            <p:nvPr/>
          </p:nvSpPr>
          <p:spPr>
            <a:xfrm>
              <a:off x="7126200" y="489096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Dec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</p:grpSp>
      <p:sp>
        <p:nvSpPr>
          <p:cNvPr id="152" name="流程图: 过程 37904"/>
          <p:cNvSpPr/>
          <p:nvPr/>
        </p:nvSpPr>
        <p:spPr>
          <a:xfrm>
            <a:off x="1406520" y="2916360"/>
            <a:ext cx="2379600" cy="347400"/>
          </a:xfrm>
          <a:prstGeom prst="flowChartProcess">
            <a:avLst/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ddce"/>
                </a:solidFill>
                <a:latin typeface="Arial"/>
                <a:ea typeface="굴림"/>
              </a:rPr>
              <a:t>Phase 1</a:t>
            </a:r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53" name="流程图: 过程 37905"/>
          <p:cNvSpPr/>
          <p:nvPr/>
        </p:nvSpPr>
        <p:spPr>
          <a:xfrm>
            <a:off x="4016520" y="3395520"/>
            <a:ext cx="1860480" cy="347760"/>
          </a:xfrm>
          <a:prstGeom prst="flowChartProcess">
            <a:avLst/>
          </a:prstGeom>
          <a:solidFill>
            <a:srgbClr val="53b9c7"/>
          </a:solidFill>
          <a:ln w="0">
            <a:noFill/>
          </a:ln>
          <a:effectLst>
            <a:outerShdw dist="17819" dir="2700000" blurRad="0" rotWithShape="0">
              <a:srgbClr val="326f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ddce"/>
                </a:solidFill>
                <a:latin typeface="Arial"/>
                <a:ea typeface="굴림"/>
              </a:rPr>
              <a:t>Phase 2</a:t>
            </a:r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54" name="流程图: 过程 37906"/>
          <p:cNvSpPr/>
          <p:nvPr/>
        </p:nvSpPr>
        <p:spPr>
          <a:xfrm>
            <a:off x="6056280" y="3873600"/>
            <a:ext cx="1636920" cy="347400"/>
          </a:xfrm>
          <a:prstGeom prst="flowChartProcess">
            <a:avLst/>
          </a:prstGeom>
          <a:solidFill>
            <a:srgbClr val="61ad6c"/>
          </a:solidFill>
          <a:ln w="0">
            <a:noFill/>
          </a:ln>
          <a:effectLst>
            <a:outerShdw dist="17819" dir="2700000" blurRad="0" rotWithShape="0">
              <a:srgbClr val="3a68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ddce"/>
                </a:solidFill>
                <a:latin typeface="Arial"/>
                <a:ea typeface="굴림"/>
              </a:rPr>
              <a:t>Phase 3</a:t>
            </a:r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04:1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52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