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E15-0657-43A3-90D5-94C43A94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84-9B81-4E9B-82BA-BECC623D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9A2-5D87-4CB9-A441-B48929C5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F2ED-392B-45E0-B14E-1F43602F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0613-505D-42AB-8C25-5D7C6C51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1448-D6BE-4315-A1D8-93353EC4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CE3-D353-49AA-9D7C-D135150D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C2F6-BD98-4C65-9B3B-DFBF41B8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D3C2-3CF7-40CA-A2E1-A7CFF00D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EE8E-70D2-4B79-A34A-2728847B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E597-6585-4CF9-9BF0-3C639D32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05C-73C5-4858-956E-1849494A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7454-48F2-43FD-98C3-439B294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E28-AA01-4BD9-A674-F8925A0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697A-2A14-42FE-A1E4-1A50C0E0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64CD-631B-4691-84C3-92AF9971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C8F4-055E-4B97-B5D3-4586909A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B24-FF7E-4A23-AFD5-F172864C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EDF-E463-4894-B452-6FF31547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26B-A218-41BB-B59B-7AD18C1D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1BA-7406-4ED8-AD01-8A878D4A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8A8-5C70-4A6D-8C20-F571362B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3090-C4F9-4874-BDE5-56164CEB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E37-A9B8-415E-98C6-0E4F7BE7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AE90-C1CC-406C-8A59-428231F21A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93A6-AD3D-478A-AEE7-DFC134843D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014-6D79-4FD5-82D0-77755EABEB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857680" y="6429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14065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抽象简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"/>
          <p:cNvSpPr/>
          <p:nvPr/>
        </p:nvSpPr>
        <p:spPr>
          <a:xfrm>
            <a:off x="2114280" y="1773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红色花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0FB-81C8-4152-BD58-3265D391CB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16:44Z</dcterms:modified>
  <cp:revision>68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