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5689A-521D-463C-B621-28C9AA4B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CEF7D-78F8-4F7E-BE73-1470E3E2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47FE0-2E01-4F84-BA3F-2ACAAB66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6236D-7B79-462B-8872-A9696260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0E52-4C80-4065-B865-B560351E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5D70-E7D1-488C-8F91-81FDF2C2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A8D1-C554-496C-B943-41724D80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315C-6007-4480-8563-715E9995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268C-EC30-45FB-96C3-54E8608B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8F85-8087-44A2-9092-290963A7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D999-FDC2-43CA-9B44-3B4509DB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D128D-A983-4880-8CB0-C4041297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C895-202B-4638-B849-29AF667A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CC63-1EAB-4EDA-AB4E-67038389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C4B7-CE31-4E61-B20B-7B5F1376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3A96-7544-44FF-ACC0-1DFE5819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6AEA-9962-43A0-B26E-A33E8927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2818C-081B-48CF-B8E6-22291230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8F2CA-162B-4DE4-87B6-08DFE63F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FE28D-8DFF-4866-B4B6-ADF50CD0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666DF-1AFB-42DF-8DD3-727D7AE7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F94A3-6D0E-4A7A-976B-D356E5F1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0991-E888-4D16-A859-CBC1DA0E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0C82C-AAF2-49EB-AB09-CC572945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F678A-BEF5-4B35-8705-AA7CC558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E0DBB-1280-4F08-B833-6870FC2A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1FFD8-600C-40E2-B0AD-89700FAE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8448E-58E6-4D8E-B441-A64CF8A3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1C39F-74A7-412A-8F1A-1355CC95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37A76-3254-48D2-B943-B5E2DB8F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B3469-C61D-4A9A-B134-CA69E05B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56C42-F9F9-4855-AF13-98A63E4B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0B4EE-F198-4169-A523-7689B3E7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73136-596F-45C8-AF5E-D25B8C75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0902D-3A20-4FB2-BE77-EDB709BB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9B7D5-6084-4F41-A160-3A0DEDB4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090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2ebaad"/>
              </a:gs>
              <a:gs pos="100000">
                <a:srgbClr val="5ab7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091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2ebaad"/>
              </a:gs>
              <a:gs pos="100000">
                <a:srgbClr val="5ab7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对象 109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任意多边形 1093"/>
          <p:cNvSpPr/>
          <p:nvPr/>
        </p:nvSpPr>
        <p:spPr>
          <a:xfrm flipH="1">
            <a:off x="0" y="793800"/>
            <a:ext cx="3635280" cy="444600"/>
          </a:xfrm>
          <a:custGeom>
            <a:avLst/>
            <a:gdLst/>
            <a:ahLst/>
            <a:rect l="l" t="t" r="r" b="b"/>
            <a:pathLst>
              <a:path w="2096" h="280">
                <a:moveTo>
                  <a:pt x="0" y="16"/>
                </a:moveTo>
                <a:cubicBezTo>
                  <a:pt x="352" y="48"/>
                  <a:pt x="418" y="43"/>
                  <a:pt x="1000" y="104"/>
                </a:cubicBezTo>
                <a:cubicBezTo>
                  <a:pt x="1584" y="165"/>
                  <a:pt x="2048" y="251"/>
                  <a:pt x="2096" y="280"/>
                </a:cubicBezTo>
                <a:lnTo>
                  <a:pt x="2096" y="0"/>
                </a:lnTo>
                <a:lnTo>
                  <a:pt x="0" y="1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任意多边形 1094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143da2"/>
              </a:gs>
              <a:gs pos="50000">
                <a:srgbClr val="091c4b"/>
              </a:gs>
              <a:gs pos="100000">
                <a:srgbClr val="143da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ed33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3d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eb59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3d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3d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3d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3d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3d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3d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7086240" y="6629040"/>
            <a:ext cx="1981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4114800" y="670536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2aa2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C2D1-C5EE-4C53-8EDE-2D20EBE11925}" type="slidenum">
              <a:rPr b="0" lang="en-US" sz="1000" spc="-1" strike="noStrike">
                <a:solidFill>
                  <a:srgbClr val="692aa2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380520" y="6553080"/>
            <a:ext cx="16765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任意多边形 1095"/>
          <p:cNvSpPr/>
          <p:nvPr/>
        </p:nvSpPr>
        <p:spPr>
          <a:xfrm>
            <a:off x="4978440" y="800280"/>
            <a:ext cx="4165560" cy="444240"/>
          </a:xfrm>
          <a:custGeom>
            <a:avLst/>
            <a:gdLst/>
            <a:ahLst/>
            <a:rect l="l" t="t" r="r" b="b"/>
            <a:pathLst>
              <a:path w="2624" h="280">
                <a:moveTo>
                  <a:pt x="0" y="8"/>
                </a:moveTo>
                <a:cubicBezTo>
                  <a:pt x="438" y="40"/>
                  <a:pt x="564" y="59"/>
                  <a:pt x="1288" y="120"/>
                </a:cubicBezTo>
                <a:cubicBezTo>
                  <a:pt x="2015" y="181"/>
                  <a:pt x="2616" y="280"/>
                  <a:pt x="2624" y="280"/>
                </a:cubicBezTo>
                <a:lnTo>
                  <a:pt x="2624" y="0"/>
                </a:lnTo>
                <a:lnTo>
                  <a:pt x="0" y="8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A33B-D988-489B-AC1E-39A0A640EC2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2D70-7BD5-4409-8BFB-C0FBFF7E54C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对象 3136" descr=""/>
          <p:cNvPicPr/>
          <p:nvPr/>
        </p:nvPicPr>
        <p:blipFill>
          <a:blip r:embed="rId2"/>
          <a:stretch/>
        </p:blipFill>
        <p:spPr>
          <a:xfrm>
            <a:off x="0" y="0"/>
            <a:ext cx="4416480" cy="5877000"/>
          </a:xfrm>
          <a:prstGeom prst="rect">
            <a:avLst/>
          </a:prstGeom>
          <a:ln w="0">
            <a:noFill/>
          </a:ln>
        </p:spPr>
      </p:pic>
      <p:sp>
        <p:nvSpPr>
          <p:cNvPr id="89" name="任意多边形 3139"/>
          <p:cNvSpPr/>
          <p:nvPr/>
        </p:nvSpPr>
        <p:spPr>
          <a:xfrm>
            <a:off x="2239920" y="-15840"/>
            <a:ext cx="6916680" cy="6873840"/>
          </a:xfrm>
          <a:custGeom>
            <a:avLst/>
            <a:gdLst/>
            <a:ahLst/>
            <a:rect l="l" t="t" r="r" b="b"/>
            <a:pathLst>
              <a:path w="4357" h="4330">
                <a:moveTo>
                  <a:pt x="189" y="0"/>
                </a:moveTo>
                <a:lnTo>
                  <a:pt x="561" y="181"/>
                </a:lnTo>
                <a:lnTo>
                  <a:pt x="943" y="489"/>
                </a:lnTo>
                <a:lnTo>
                  <a:pt x="1221" y="955"/>
                </a:lnTo>
                <a:lnTo>
                  <a:pt x="1413" y="1618"/>
                </a:lnTo>
                <a:lnTo>
                  <a:pt x="1290" y="2648"/>
                </a:lnTo>
                <a:lnTo>
                  <a:pt x="0" y="4330"/>
                </a:lnTo>
                <a:lnTo>
                  <a:pt x="4349" y="4330"/>
                </a:lnTo>
                <a:lnTo>
                  <a:pt x="4357" y="3"/>
                </a:lnTo>
                <a:lnTo>
                  <a:pt x="189" y="0"/>
                </a:lnTo>
                <a:close/>
              </a:path>
            </a:pathLst>
          </a:custGeom>
          <a:gradFill rotWithShape="0">
            <a:gsLst>
              <a:gs pos="0">
                <a:srgbClr val="5ab7ea"/>
              </a:gs>
              <a:gs pos="100000">
                <a:srgbClr val="143da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3137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363636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3138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2ebaad"/>
              </a:gs>
              <a:gs pos="100000">
                <a:srgbClr val="15565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3135"/>
          <p:cNvSpPr/>
          <p:nvPr/>
        </p:nvSpPr>
        <p:spPr>
          <a:xfrm>
            <a:off x="6781680" y="6019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ompany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140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solidFill>
            <a:srgbClr val="5ab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297320" y="3936960"/>
            <a:ext cx="4859280" cy="360"/>
            <a:chOff x="4297320" y="3936960"/>
            <a:chExt cx="4859280" cy="360"/>
          </a:xfrm>
        </p:grpSpPr>
        <p:sp>
          <p:nvSpPr>
            <p:cNvPr id="95" name="直接连接符 3146"/>
            <p:cNvSpPr/>
            <p:nvPr/>
          </p:nvSpPr>
          <p:spPr>
            <a:xfrm>
              <a:off x="4297320" y="3936960"/>
              <a:ext cx="4859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4297320" y="393696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284720" y="4365720"/>
            <a:ext cx="4859280" cy="360"/>
            <a:chOff x="4284720" y="4365720"/>
            <a:chExt cx="4859280" cy="360"/>
          </a:xfrm>
        </p:grpSpPr>
        <p:sp>
          <p:nvSpPr>
            <p:cNvPr id="98" name="直接连接符 3141"/>
            <p:cNvSpPr/>
            <p:nvPr/>
          </p:nvSpPr>
          <p:spPr>
            <a:xfrm>
              <a:off x="4284720" y="4365720"/>
              <a:ext cx="4859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4284720" y="436572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任意多边形 3142"/>
          <p:cNvSpPr/>
          <p:nvPr/>
        </p:nvSpPr>
        <p:spPr>
          <a:xfrm>
            <a:off x="965160" y="-9360"/>
            <a:ext cx="3822840" cy="6879960"/>
          </a:xfrm>
          <a:custGeom>
            <a:avLst/>
            <a:gdLst/>
            <a:ahLst/>
            <a:rect l="l" t="t" r="r" b="b"/>
            <a:pathLst>
              <a:path w="2408" h="4334">
                <a:moveTo>
                  <a:pt x="858" y="0"/>
                </a:moveTo>
                <a:cubicBezTo>
                  <a:pt x="2020" y="270"/>
                  <a:pt x="2408" y="1630"/>
                  <a:pt x="1984" y="2582"/>
                </a:cubicBezTo>
                <a:cubicBezTo>
                  <a:pt x="1560" y="3534"/>
                  <a:pt x="880" y="3975"/>
                  <a:pt x="0" y="4326"/>
                </a:cubicBezTo>
                <a:lnTo>
                  <a:pt x="1208" y="4334"/>
                </a:lnTo>
                <a:cubicBezTo>
                  <a:pt x="1520" y="4078"/>
                  <a:pt x="2144" y="3342"/>
                  <a:pt x="2272" y="2566"/>
                </a:cubicBezTo>
                <a:cubicBezTo>
                  <a:pt x="2400" y="1790"/>
                  <a:pt x="2278" y="418"/>
                  <a:pt x="998" y="2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e9f3c8"/>
              </a:gs>
              <a:gs pos="100000">
                <a:srgbClr val="aed3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ed33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3d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eb59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3d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3d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3d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3d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3d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3d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5D84-A51E-4020-90EA-0F643A5CD2A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24280" y="29718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ffffff"/>
                </a:solidFill>
                <a:latin typeface="Verdana"/>
              </a:rPr>
              <a:t>Template</a:t>
            </a:r>
            <a:endParaRPr b="1" lang="en-US" sz="5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矩形 2052"/>
          <p:cNvSpPr/>
          <p:nvPr/>
        </p:nvSpPr>
        <p:spPr>
          <a:xfrm>
            <a:off x="4996440" y="243360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Verdana"/>
                <a:ea typeface="Arial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"/>
          <p:cNvSpPr/>
          <p:nvPr/>
        </p:nvSpPr>
        <p:spPr>
          <a:xfrm>
            <a:off x="2212920" y="685800"/>
            <a:ext cx="646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经典企业幻灯片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组合 70696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347" name="圆角矩形 70657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圆角矩形 70658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圆角矩形 70659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燕尾形 70661"/>
            <p:cNvSpPr/>
            <p:nvPr/>
          </p:nvSpPr>
          <p:spPr>
            <a:xfrm>
              <a:off x="3151080" y="2452680"/>
              <a:ext cx="400320" cy="4492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eb5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燕尾形 70662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aed3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椭圆 70663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ed33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椭圆 70664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aed33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70665"/>
            <p:cNvSpPr/>
            <p:nvPr/>
          </p:nvSpPr>
          <p:spPr>
            <a:xfrm>
              <a:off x="633240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5e721e"/>
                </a:gs>
                <a:gs pos="50000">
                  <a:srgbClr val="aed337"/>
                </a:gs>
                <a:gs pos="100000">
                  <a:srgbClr val="5e721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椭圆 70666"/>
            <p:cNvSpPr/>
            <p:nvPr/>
          </p:nvSpPr>
          <p:spPr>
            <a:xfrm>
              <a:off x="6357960" y="19526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6f8623"/>
                </a:gs>
                <a:gs pos="100000">
                  <a:srgbClr val="aed33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椭圆 70667"/>
            <p:cNvSpPr/>
            <p:nvPr/>
          </p:nvSpPr>
          <p:spPr>
            <a:xfrm>
              <a:off x="6411960" y="2016000"/>
              <a:ext cx="13348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70668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ab7e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椭圆 70669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5ab7e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椭圆 70670"/>
            <p:cNvSpPr/>
            <p:nvPr/>
          </p:nvSpPr>
          <p:spPr>
            <a:xfrm>
              <a:off x="1406520" y="19382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1637f"/>
                </a:gs>
                <a:gs pos="50000">
                  <a:srgbClr val="5ab7ea"/>
                </a:gs>
                <a:gs pos="100000">
                  <a:srgbClr val="31637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椭圆 70671"/>
            <p:cNvSpPr/>
            <p:nvPr/>
          </p:nvSpPr>
          <p:spPr>
            <a:xfrm>
              <a:off x="1407960" y="194148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97495"/>
                </a:gs>
                <a:gs pos="100000">
                  <a:srgbClr val="5ab7e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椭圆 70672"/>
            <p:cNvSpPr/>
            <p:nvPr/>
          </p:nvSpPr>
          <p:spPr>
            <a:xfrm>
              <a:off x="148104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组合 70673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363" name="椭圆 70674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椭圆 70675"/>
              <p:cNvSpPr/>
              <p:nvPr/>
            </p:nvSpPr>
            <p:spPr>
              <a:xfrm>
                <a:off x="1518120" y="203868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椭圆 70676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椭圆 70677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椭圆 70678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b592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椭圆 70679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eb592b">
                    <a:alpha val="32156"/>
                  </a:srgbClr>
                </a:gs>
                <a:gs pos="100000">
                  <a:srgbClr val="6d29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70680"/>
            <p:cNvSpPr/>
            <p:nvPr/>
          </p:nvSpPr>
          <p:spPr>
            <a:xfrm>
              <a:off x="38703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7f3017"/>
                </a:gs>
                <a:gs pos="50000">
                  <a:srgbClr val="eb592b"/>
                </a:gs>
                <a:gs pos="100000">
                  <a:srgbClr val="7f301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70681"/>
            <p:cNvSpPr/>
            <p:nvPr/>
          </p:nvSpPr>
          <p:spPr>
            <a:xfrm>
              <a:off x="3871800" y="19461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5391b"/>
                </a:gs>
                <a:gs pos="100000">
                  <a:srgbClr val="eb592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椭圆 70682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组合 70683"/>
            <p:cNvGrpSpPr/>
            <p:nvPr/>
          </p:nvGrpSpPr>
          <p:grpSpPr>
            <a:xfrm>
              <a:off x="3965400" y="2031840"/>
              <a:ext cx="1290960" cy="1278000"/>
              <a:chOff x="3965400" y="2031840"/>
              <a:chExt cx="1290960" cy="1278000"/>
            </a:xfrm>
          </p:grpSpPr>
          <p:sp>
            <p:nvSpPr>
              <p:cNvPr id="373" name="椭圆 70684"/>
              <p:cNvSpPr/>
              <p:nvPr/>
            </p:nvSpPr>
            <p:spPr>
              <a:xfrm>
                <a:off x="3965400" y="2031840"/>
                <a:ext cx="1290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椭圆 70685"/>
              <p:cNvSpPr/>
              <p:nvPr/>
            </p:nvSpPr>
            <p:spPr>
              <a:xfrm>
                <a:off x="3981600" y="2038680"/>
                <a:ext cx="12600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椭圆 70686"/>
              <p:cNvSpPr/>
              <p:nvPr/>
            </p:nvSpPr>
            <p:spPr>
              <a:xfrm>
                <a:off x="3995280" y="2051280"/>
                <a:ext cx="119808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椭圆 70687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组合 70688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78" name="椭圆 70689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椭圆 70690"/>
              <p:cNvSpPr/>
              <p:nvPr/>
            </p:nvSpPr>
            <p:spPr>
              <a:xfrm>
                <a:off x="6451920" y="2038680"/>
                <a:ext cx="12614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椭圆 70691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椭圆 70692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文本框 70693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70694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文本框 70695"/>
            <p:cNvSpPr/>
            <p:nvPr/>
          </p:nvSpPr>
          <p:spPr>
            <a:xfrm>
              <a:off x="670032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组合 71681"/>
          <p:cNvGrpSpPr/>
          <p:nvPr/>
        </p:nvGrpSpPr>
        <p:grpSpPr>
          <a:xfrm>
            <a:off x="1371600" y="1143000"/>
            <a:ext cx="5714640" cy="5330520"/>
            <a:chOff x="1371600" y="1143000"/>
            <a:chExt cx="5714640" cy="5330520"/>
          </a:xfrm>
        </p:grpSpPr>
        <p:sp>
          <p:nvSpPr>
            <p:cNvPr id="386" name="矩形 71682"/>
            <p:cNvSpPr/>
            <p:nvPr/>
          </p:nvSpPr>
          <p:spPr>
            <a:xfrm rot="13770000">
              <a:off x="4703760" y="3727800"/>
              <a:ext cx="1015920" cy="1962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71683"/>
            <p:cNvSpPr/>
            <p:nvPr/>
          </p:nvSpPr>
          <p:spPr>
            <a:xfrm rot="20856000">
              <a:off x="2679480" y="3248280"/>
              <a:ext cx="1035720" cy="182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71684"/>
            <p:cNvSpPr/>
            <p:nvPr/>
          </p:nvSpPr>
          <p:spPr>
            <a:xfrm rot="18394200">
              <a:off x="4838400" y="2089440"/>
              <a:ext cx="631440" cy="135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组合 71685"/>
            <p:cNvGrpSpPr/>
            <p:nvPr/>
          </p:nvGrpSpPr>
          <p:grpSpPr>
            <a:xfrm>
              <a:off x="3643560" y="2125080"/>
              <a:ext cx="1652400" cy="1684080"/>
              <a:chOff x="3643560" y="2125080"/>
              <a:chExt cx="1652400" cy="1684080"/>
            </a:xfrm>
          </p:grpSpPr>
          <p:grpSp>
            <p:nvGrpSpPr>
              <p:cNvPr id="390" name="组合 71686"/>
              <p:cNvGrpSpPr/>
              <p:nvPr/>
            </p:nvGrpSpPr>
            <p:grpSpPr>
              <a:xfrm>
                <a:off x="3643560" y="2125080"/>
                <a:ext cx="1652400" cy="1684080"/>
                <a:chOff x="3643560" y="2125080"/>
                <a:chExt cx="1652400" cy="1684080"/>
              </a:xfrm>
            </p:grpSpPr>
            <p:sp>
              <p:nvSpPr>
                <p:cNvPr id="391" name="椭圆 71687"/>
                <p:cNvSpPr/>
                <p:nvPr/>
              </p:nvSpPr>
              <p:spPr>
                <a:xfrm>
                  <a:off x="3643560" y="212508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b7ea"/>
                    </a:gs>
                    <a:gs pos="100000">
                      <a:srgbClr val="162c3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任意多边形 71688"/>
                <p:cNvSpPr/>
                <p:nvPr/>
              </p:nvSpPr>
              <p:spPr>
                <a:xfrm>
                  <a:off x="3832200" y="2152800"/>
                  <a:ext cx="127476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b7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文本框 71689"/>
              <p:cNvSpPr/>
              <p:nvPr/>
            </p:nvSpPr>
            <p:spPr>
              <a:xfrm>
                <a:off x="3750120" y="28573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组合 71690"/>
            <p:cNvGrpSpPr/>
            <p:nvPr/>
          </p:nvGrpSpPr>
          <p:grpSpPr>
            <a:xfrm>
              <a:off x="5089320" y="1143000"/>
              <a:ext cx="925200" cy="911880"/>
              <a:chOff x="5089320" y="1143000"/>
              <a:chExt cx="925200" cy="911880"/>
            </a:xfrm>
          </p:grpSpPr>
          <p:grpSp>
            <p:nvGrpSpPr>
              <p:cNvPr id="395" name="组合 71691"/>
              <p:cNvGrpSpPr/>
              <p:nvPr/>
            </p:nvGrpSpPr>
            <p:grpSpPr>
              <a:xfrm>
                <a:off x="5089320" y="1143000"/>
                <a:ext cx="894960" cy="911880"/>
                <a:chOff x="5089320" y="1143000"/>
                <a:chExt cx="894960" cy="911880"/>
              </a:xfrm>
            </p:grpSpPr>
            <p:sp>
              <p:nvSpPr>
                <p:cNvPr id="396" name="椭圆 71692"/>
                <p:cNvSpPr/>
                <p:nvPr/>
              </p:nvSpPr>
              <p:spPr>
                <a:xfrm>
                  <a:off x="5089320" y="1143000"/>
                  <a:ext cx="894960" cy="91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b592b"/>
                    </a:gs>
                    <a:gs pos="100000">
                      <a:srgbClr val="39160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任意多边形 71693"/>
                <p:cNvSpPr/>
                <p:nvPr/>
              </p:nvSpPr>
              <p:spPr>
                <a:xfrm>
                  <a:off x="5191560" y="1158120"/>
                  <a:ext cx="690480" cy="344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b5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" name="文本框 71694"/>
              <p:cNvSpPr/>
              <p:nvPr/>
            </p:nvSpPr>
            <p:spPr>
              <a:xfrm>
                <a:off x="510516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组合 71695"/>
            <p:cNvGrpSpPr/>
            <p:nvPr/>
          </p:nvGrpSpPr>
          <p:grpSpPr>
            <a:xfrm>
              <a:off x="1371600" y="2476080"/>
              <a:ext cx="1790280" cy="1894680"/>
              <a:chOff x="1371600" y="2476080"/>
              <a:chExt cx="1790280" cy="1894680"/>
            </a:xfrm>
          </p:grpSpPr>
          <p:grpSp>
            <p:nvGrpSpPr>
              <p:cNvPr id="400" name="组合 71696"/>
              <p:cNvGrpSpPr/>
              <p:nvPr/>
            </p:nvGrpSpPr>
            <p:grpSpPr>
              <a:xfrm>
                <a:off x="1371600" y="2476080"/>
                <a:ext cx="1790280" cy="1894680"/>
                <a:chOff x="1371600" y="2476080"/>
                <a:chExt cx="1790280" cy="1894680"/>
              </a:xfrm>
            </p:grpSpPr>
            <p:sp>
              <p:nvSpPr>
                <p:cNvPr id="401" name="椭圆 71697"/>
                <p:cNvSpPr/>
                <p:nvPr/>
              </p:nvSpPr>
              <p:spPr>
                <a:xfrm>
                  <a:off x="1371600" y="2476080"/>
                  <a:ext cx="1790280" cy="18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baad"/>
                    </a:gs>
                    <a:gs pos="100000">
                      <a:srgbClr val="1d76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任意多边形 71698"/>
                <p:cNvSpPr/>
                <p:nvPr/>
              </p:nvSpPr>
              <p:spPr>
                <a:xfrm>
                  <a:off x="1576080" y="2507400"/>
                  <a:ext cx="1380960" cy="714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ebaa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3" name="文本框 71699"/>
              <p:cNvSpPr/>
              <p:nvPr/>
            </p:nvSpPr>
            <p:spPr>
              <a:xfrm>
                <a:off x="1487520" y="331812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组合 71700"/>
            <p:cNvGrpSpPr/>
            <p:nvPr/>
          </p:nvGrpSpPr>
          <p:grpSpPr>
            <a:xfrm>
              <a:off x="5020920" y="3879720"/>
              <a:ext cx="2065320" cy="2105280"/>
              <a:chOff x="5020920" y="3879720"/>
              <a:chExt cx="2065320" cy="2105280"/>
            </a:xfrm>
          </p:grpSpPr>
          <p:grpSp>
            <p:nvGrpSpPr>
              <p:cNvPr id="405" name="组合 71701"/>
              <p:cNvGrpSpPr/>
              <p:nvPr/>
            </p:nvGrpSpPr>
            <p:grpSpPr>
              <a:xfrm>
                <a:off x="5020920" y="3879720"/>
                <a:ext cx="2065320" cy="2105280"/>
                <a:chOff x="5020920" y="3879720"/>
                <a:chExt cx="2065320" cy="2105280"/>
              </a:xfrm>
            </p:grpSpPr>
            <p:sp>
              <p:nvSpPr>
                <p:cNvPr id="406" name="椭圆 71702"/>
                <p:cNvSpPr/>
                <p:nvPr/>
              </p:nvSpPr>
              <p:spPr>
                <a:xfrm>
                  <a:off x="5020920" y="38797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ed337"/>
                    </a:gs>
                    <a:gs pos="100000">
                      <a:srgbClr val="596c1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任意多边形 71703"/>
                <p:cNvSpPr/>
                <p:nvPr/>
              </p:nvSpPr>
              <p:spPr>
                <a:xfrm>
                  <a:off x="525672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ed33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8" name="文本框 71704"/>
              <p:cNvSpPr/>
              <p:nvPr/>
            </p:nvSpPr>
            <p:spPr>
              <a:xfrm>
                <a:off x="533592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椭圆 71705"/>
            <p:cNvSpPr/>
            <p:nvPr/>
          </p:nvSpPr>
          <p:spPr>
            <a:xfrm>
              <a:off x="1577880" y="444132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椭圆 71706"/>
            <p:cNvSpPr/>
            <p:nvPr/>
          </p:nvSpPr>
          <p:spPr>
            <a:xfrm>
              <a:off x="3781440" y="381276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椭圆 71707"/>
            <p:cNvSpPr/>
            <p:nvPr/>
          </p:nvSpPr>
          <p:spPr>
            <a:xfrm>
              <a:off x="5365080" y="5985360"/>
              <a:ext cx="145404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椭圆 71708"/>
            <p:cNvSpPr/>
            <p:nvPr/>
          </p:nvSpPr>
          <p:spPr>
            <a:xfrm>
              <a:off x="5227560" y="2125080"/>
              <a:ext cx="666720" cy="2437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组合 81952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416" name="右箭头 81922"/>
            <p:cNvSpPr/>
            <p:nvPr/>
          </p:nvSpPr>
          <p:spPr>
            <a:xfrm rot="17973000">
              <a:off x="4561560" y="2534040"/>
              <a:ext cx="792360" cy="289080"/>
            </a:xfrm>
            <a:prstGeom prst="rightArrow">
              <a:avLst>
                <a:gd name="adj1" fmla="val 35167"/>
                <a:gd name="adj2" fmla="val 110971"/>
              </a:avLst>
            </a:prstGeom>
            <a:solidFill>
              <a:srgbClr val="eb5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右箭头 81923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eb5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右箭头 81924"/>
            <p:cNvSpPr/>
            <p:nvPr/>
          </p:nvSpPr>
          <p:spPr>
            <a:xfrm rot="14368800">
              <a:off x="3393000" y="2556360"/>
              <a:ext cx="792000" cy="288720"/>
            </a:xfrm>
            <a:prstGeom prst="rightArrow">
              <a:avLst>
                <a:gd name="adj1" fmla="val 35167"/>
                <a:gd name="adj2" fmla="val 111059"/>
              </a:avLst>
            </a:prstGeom>
            <a:solidFill>
              <a:srgbClr val="eb5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右箭头 81925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09"/>
              </a:avLst>
            </a:prstGeom>
            <a:solidFill>
              <a:srgbClr val="eb5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右箭头 81926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eb5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右箭头 81927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54"/>
              </a:avLst>
            </a:prstGeom>
            <a:solidFill>
              <a:srgbClr val="eb5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椭圆 81928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文本框 81929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文本框 81930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81931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文本框 81932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文本框 81933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81934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椭圆 81935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99ddd7"/>
                </a:gs>
                <a:gs pos="100000">
                  <a:srgbClr val="2ebaa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椭圆 81936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99ddd7"/>
                </a:gs>
                <a:gs pos="100000">
                  <a:srgbClr val="2ebaa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椭圆 81937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9ddd7"/>
                </a:gs>
                <a:gs pos="100000">
                  <a:srgbClr val="2ebaa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椭圆 81938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9ddd7"/>
                </a:gs>
                <a:gs pos="100000">
                  <a:srgbClr val="2ebaa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椭圆 81939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9ddd7"/>
                </a:gs>
                <a:gs pos="100000">
                  <a:srgbClr val="2ebaa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椭圆 81940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9ddd7"/>
                </a:gs>
                <a:gs pos="100000">
                  <a:srgbClr val="2ebaa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椭圆 81941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ed33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椭圆 81942"/>
            <p:cNvSpPr/>
            <p:nvPr/>
          </p:nvSpPr>
          <p:spPr>
            <a:xfrm>
              <a:off x="3540240" y="288936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aed33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椭圆 81943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e721e"/>
                </a:gs>
                <a:gs pos="50000">
                  <a:srgbClr val="aed337"/>
                </a:gs>
                <a:gs pos="100000">
                  <a:srgbClr val="5e721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椭圆 81944"/>
            <p:cNvSpPr/>
            <p:nvPr/>
          </p:nvSpPr>
          <p:spPr>
            <a:xfrm>
              <a:off x="3668760" y="297180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6f8623"/>
                </a:gs>
                <a:gs pos="100000">
                  <a:srgbClr val="aed33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椭圆 81945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组合 81946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41" name="椭圆 81947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椭圆 81948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椭圆 81949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椭圆 81950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文本框 81951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组合 73819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448" name="圆角矩形 73820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圆角矩形 73821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圆角矩形 73822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圆角矩形 73823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圆角矩形 73824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圆角矩形 73825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组合 73826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55" name="椭圆 73827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椭圆 73828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椭圆 73829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椭圆 73830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椭圆 73831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文本框 73832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文本框 73833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73834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63" name="圆角矩形 73835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圆角矩形 73836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圆角矩形 73837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圆角矩形 73838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椭圆 73839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椭圆 73840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椭圆 73841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椭圆 73842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椭圆 73843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文本框 73844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文本框 73845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圆角矩形 73846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圆角矩形 73847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组合 73848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77" name="圆角矩形 73849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圆角矩形 73850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圆角矩形 73851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73852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组合 73853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82" name="椭圆 73854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椭圆 73855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椭圆 73856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椭圆 73857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椭圆 73858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文本框 73859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文本框 73860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圆角矩形 73861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圆角矩形 73862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ed337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aed337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组合 74848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94" name="组合 74754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95" name="矩形 74755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矩形 74756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组合 74844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498" name="组合 74810"/>
              <p:cNvGrpSpPr/>
              <p:nvPr/>
            </p:nvGrpSpPr>
            <p:grpSpPr>
              <a:xfrm>
                <a:off x="1167840" y="3526560"/>
                <a:ext cx="1526760" cy="2424600"/>
                <a:chOff x="1167840" y="3526560"/>
                <a:chExt cx="1526760" cy="2424600"/>
              </a:xfrm>
            </p:grpSpPr>
            <p:grpSp>
              <p:nvGrpSpPr>
                <p:cNvPr id="499" name="组合 74811"/>
                <p:cNvGrpSpPr/>
                <p:nvPr/>
              </p:nvGrpSpPr>
              <p:grpSpPr>
                <a:xfrm>
                  <a:off x="1167840" y="3684240"/>
                  <a:ext cx="1420560" cy="2266920"/>
                  <a:chOff x="1167840" y="3684240"/>
                  <a:chExt cx="1420560" cy="2266920"/>
                </a:xfrm>
              </p:grpSpPr>
              <p:sp>
                <p:nvSpPr>
                  <p:cNvPr id="500" name="任意多边形 74812"/>
                  <p:cNvSpPr/>
                  <p:nvPr/>
                </p:nvSpPr>
                <p:spPr>
                  <a:xfrm rot="3876600">
                    <a:off x="740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任意多边形 74813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组合 74814"/>
                <p:cNvGrpSpPr/>
                <p:nvPr/>
              </p:nvGrpSpPr>
              <p:grpSpPr>
                <a:xfrm>
                  <a:off x="1604520" y="3526560"/>
                  <a:ext cx="1090080" cy="1739520"/>
                  <a:chOff x="1604520" y="3526560"/>
                  <a:chExt cx="1090080" cy="1739520"/>
                </a:xfrm>
              </p:grpSpPr>
              <p:sp>
                <p:nvSpPr>
                  <p:cNvPr id="503" name="任意多边形 74815"/>
                  <p:cNvSpPr/>
                  <p:nvPr/>
                </p:nvSpPr>
                <p:spPr>
                  <a:xfrm flipV="1" rot="3876600">
                    <a:off x="1276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任意多边形 74816"/>
                  <p:cNvSpPr/>
                  <p:nvPr/>
                </p:nvSpPr>
                <p:spPr>
                  <a:xfrm flipV="1" rot="3876600">
                    <a:off x="2309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5" name="组合 74817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506" name="椭圆 74818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椭圆 74819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椭圆 74820"/>
                <p:cNvSpPr/>
                <p:nvPr/>
              </p:nvSpPr>
              <p:spPr>
                <a:xfrm>
                  <a:off x="845640" y="277092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椭圆 74821"/>
                <p:cNvSpPr/>
                <p:nvPr/>
              </p:nvSpPr>
              <p:spPr>
                <a:xfrm>
                  <a:off x="845640" y="277380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椭圆 74822"/>
                <p:cNvSpPr/>
                <p:nvPr/>
              </p:nvSpPr>
              <p:spPr>
                <a:xfrm>
                  <a:off x="900360" y="2828520"/>
                  <a:ext cx="99324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1" name="组合 74823"/>
                <p:cNvGrpSpPr/>
                <p:nvPr/>
              </p:nvGrpSpPr>
              <p:grpSpPr>
                <a:xfrm>
                  <a:off x="916200" y="2844720"/>
                  <a:ext cx="962280" cy="993240"/>
                  <a:chOff x="916200" y="2844720"/>
                  <a:chExt cx="962280" cy="993240"/>
                </a:xfrm>
              </p:grpSpPr>
              <p:sp>
                <p:nvSpPr>
                  <p:cNvPr id="512" name="椭圆 74824"/>
                  <p:cNvSpPr/>
                  <p:nvPr/>
                </p:nvSpPr>
                <p:spPr>
                  <a:xfrm>
                    <a:off x="916200" y="2844720"/>
                    <a:ext cx="96228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椭圆 74825"/>
                  <p:cNvSpPr/>
                  <p:nvPr/>
                </p:nvSpPr>
                <p:spPr>
                  <a:xfrm>
                    <a:off x="928080" y="2850120"/>
                    <a:ext cx="93924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椭圆 74826"/>
                  <p:cNvSpPr/>
                  <p:nvPr/>
                </p:nvSpPr>
                <p:spPr>
                  <a:xfrm>
                    <a:off x="938160" y="2859480"/>
                    <a:ext cx="89316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椭圆 74827"/>
                  <p:cNvSpPr/>
                  <p:nvPr/>
                </p:nvSpPr>
                <p:spPr>
                  <a:xfrm>
                    <a:off x="990720" y="288504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6" name="文本框 74828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文本框 74829"/>
              <p:cNvSpPr/>
              <p:nvPr/>
            </p:nvSpPr>
            <p:spPr>
              <a:xfrm rot="3925800">
                <a:off x="15908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组合 74845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519" name="组合 74792"/>
              <p:cNvGrpSpPr/>
              <p:nvPr/>
            </p:nvGrpSpPr>
            <p:grpSpPr>
              <a:xfrm>
                <a:off x="2913840" y="3526560"/>
                <a:ext cx="1526760" cy="2424600"/>
                <a:chOff x="2913840" y="3526560"/>
                <a:chExt cx="1526760" cy="2424600"/>
              </a:xfrm>
            </p:grpSpPr>
            <p:grpSp>
              <p:nvGrpSpPr>
                <p:cNvPr id="520" name="组合 74793"/>
                <p:cNvGrpSpPr/>
                <p:nvPr/>
              </p:nvGrpSpPr>
              <p:grpSpPr>
                <a:xfrm>
                  <a:off x="2913840" y="3684240"/>
                  <a:ext cx="1420560" cy="2266920"/>
                  <a:chOff x="2913840" y="3684240"/>
                  <a:chExt cx="1420560" cy="2266920"/>
                </a:xfrm>
              </p:grpSpPr>
              <p:sp>
                <p:nvSpPr>
                  <p:cNvPr id="521" name="任意多边形 74794"/>
                  <p:cNvSpPr/>
                  <p:nvPr/>
                </p:nvSpPr>
                <p:spPr>
                  <a:xfrm rot="3876600">
                    <a:off x="2486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任意多边形 74795"/>
                  <p:cNvSpPr/>
                  <p:nvPr/>
                </p:nvSpPr>
                <p:spPr>
                  <a:xfrm rot="3876600">
                    <a:off x="3853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组合 74796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524" name="任意多边形 74797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任意多边形 74798"/>
                  <p:cNvSpPr/>
                  <p:nvPr/>
                </p:nvSpPr>
                <p:spPr>
                  <a:xfrm flipV="1" rot="3876600">
                    <a:off x="4055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6" name="组合 74799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527" name="椭圆 74800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椭圆 74801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椭圆 74802"/>
                <p:cNvSpPr/>
                <p:nvPr/>
              </p:nvSpPr>
              <p:spPr>
                <a:xfrm>
                  <a:off x="2593440" y="277092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椭圆 74803"/>
                <p:cNvSpPr/>
                <p:nvPr/>
              </p:nvSpPr>
              <p:spPr>
                <a:xfrm>
                  <a:off x="2593440" y="277380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椭圆 74804"/>
                <p:cNvSpPr/>
                <p:nvPr/>
              </p:nvSpPr>
              <p:spPr>
                <a:xfrm>
                  <a:off x="2648160" y="2828520"/>
                  <a:ext cx="9928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2" name="组合 74805"/>
                <p:cNvGrpSpPr/>
                <p:nvPr/>
              </p:nvGrpSpPr>
              <p:grpSpPr>
                <a:xfrm>
                  <a:off x="2663640" y="2844720"/>
                  <a:ext cx="961920" cy="993240"/>
                  <a:chOff x="2663640" y="2844720"/>
                  <a:chExt cx="961920" cy="993240"/>
                </a:xfrm>
              </p:grpSpPr>
              <p:sp>
                <p:nvSpPr>
                  <p:cNvPr id="533" name="椭圆 74806"/>
                  <p:cNvSpPr/>
                  <p:nvPr/>
                </p:nvSpPr>
                <p:spPr>
                  <a:xfrm>
                    <a:off x="2663640" y="2844720"/>
                    <a:ext cx="96192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椭圆 74807"/>
                  <p:cNvSpPr/>
                  <p:nvPr/>
                </p:nvSpPr>
                <p:spPr>
                  <a:xfrm>
                    <a:off x="2675520" y="2850120"/>
                    <a:ext cx="93888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椭圆 74808"/>
                  <p:cNvSpPr/>
                  <p:nvPr/>
                </p:nvSpPr>
                <p:spPr>
                  <a:xfrm>
                    <a:off x="2685600" y="2859480"/>
                    <a:ext cx="89280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椭圆 74809"/>
                  <p:cNvSpPr/>
                  <p:nvPr/>
                </p:nvSpPr>
                <p:spPr>
                  <a:xfrm>
                    <a:off x="2738160" y="288504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7" name="文本框 74830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文本框 74831"/>
              <p:cNvSpPr/>
              <p:nvPr/>
            </p:nvSpPr>
            <p:spPr>
              <a:xfrm rot="3925800">
                <a:off x="33314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组合 74846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540" name="组合 74757"/>
              <p:cNvGrpSpPr/>
              <p:nvPr/>
            </p:nvGrpSpPr>
            <p:grpSpPr>
              <a:xfrm>
                <a:off x="4719240" y="3526560"/>
                <a:ext cx="1526040" cy="2424600"/>
                <a:chOff x="4719240" y="3526560"/>
                <a:chExt cx="1526040" cy="2424600"/>
              </a:xfrm>
            </p:grpSpPr>
            <p:grpSp>
              <p:nvGrpSpPr>
                <p:cNvPr id="541" name="组合 74758"/>
                <p:cNvGrpSpPr/>
                <p:nvPr/>
              </p:nvGrpSpPr>
              <p:grpSpPr>
                <a:xfrm>
                  <a:off x="4719240" y="3684240"/>
                  <a:ext cx="1420200" cy="2266920"/>
                  <a:chOff x="4719240" y="3684240"/>
                  <a:chExt cx="1420200" cy="2266920"/>
                </a:xfrm>
              </p:grpSpPr>
              <p:sp>
                <p:nvSpPr>
                  <p:cNvPr id="542" name="任意多边形 74759"/>
                  <p:cNvSpPr/>
                  <p:nvPr/>
                </p:nvSpPr>
                <p:spPr>
                  <a:xfrm rot="3876600">
                    <a:off x="42915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任意多边形 74760"/>
                  <p:cNvSpPr/>
                  <p:nvPr/>
                </p:nvSpPr>
                <p:spPr>
                  <a:xfrm rot="3876600">
                    <a:off x="5658840" y="5450760"/>
                    <a:ext cx="35748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" name="组合 74761"/>
                <p:cNvGrpSpPr/>
                <p:nvPr/>
              </p:nvGrpSpPr>
              <p:grpSpPr>
                <a:xfrm>
                  <a:off x="5155200" y="3526560"/>
                  <a:ext cx="1090080" cy="1739520"/>
                  <a:chOff x="5155200" y="3526560"/>
                  <a:chExt cx="1090080" cy="1739520"/>
                </a:xfrm>
              </p:grpSpPr>
              <p:sp>
                <p:nvSpPr>
                  <p:cNvPr id="545" name="任意多边形 74762"/>
                  <p:cNvSpPr/>
                  <p:nvPr/>
                </p:nvSpPr>
                <p:spPr>
                  <a:xfrm flipV="1" rot="3876600">
                    <a:off x="482688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任意多边形 74763"/>
                  <p:cNvSpPr/>
                  <p:nvPr/>
                </p:nvSpPr>
                <p:spPr>
                  <a:xfrm flipV="1" rot="3876600">
                    <a:off x="586080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7" name="组合 74764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48" name="椭圆 74765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椭圆 74766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椭圆 74767"/>
                <p:cNvSpPr/>
                <p:nvPr/>
              </p:nvSpPr>
              <p:spPr>
                <a:xfrm>
                  <a:off x="4397040" y="277092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椭圆 74768"/>
                <p:cNvSpPr/>
                <p:nvPr/>
              </p:nvSpPr>
              <p:spPr>
                <a:xfrm>
                  <a:off x="4397040" y="277380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椭圆 74769"/>
                <p:cNvSpPr/>
                <p:nvPr/>
              </p:nvSpPr>
              <p:spPr>
                <a:xfrm>
                  <a:off x="4451760" y="2828520"/>
                  <a:ext cx="9946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3" name="组合 74770"/>
                <p:cNvGrpSpPr/>
                <p:nvPr/>
              </p:nvGrpSpPr>
              <p:grpSpPr>
                <a:xfrm>
                  <a:off x="4467240" y="2844720"/>
                  <a:ext cx="963360" cy="993240"/>
                  <a:chOff x="4467240" y="2844720"/>
                  <a:chExt cx="963360" cy="993240"/>
                </a:xfrm>
              </p:grpSpPr>
              <p:sp>
                <p:nvSpPr>
                  <p:cNvPr id="554" name="椭圆 74771"/>
                  <p:cNvSpPr/>
                  <p:nvPr/>
                </p:nvSpPr>
                <p:spPr>
                  <a:xfrm>
                    <a:off x="4467240" y="2844720"/>
                    <a:ext cx="96336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椭圆 74772"/>
                  <p:cNvSpPr/>
                  <p:nvPr/>
                </p:nvSpPr>
                <p:spPr>
                  <a:xfrm>
                    <a:off x="4479120" y="2850120"/>
                    <a:ext cx="94032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椭圆 74773"/>
                  <p:cNvSpPr/>
                  <p:nvPr/>
                </p:nvSpPr>
                <p:spPr>
                  <a:xfrm>
                    <a:off x="4489560" y="2859480"/>
                    <a:ext cx="89424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椭圆 74774"/>
                  <p:cNvSpPr/>
                  <p:nvPr/>
                </p:nvSpPr>
                <p:spPr>
                  <a:xfrm>
                    <a:off x="4541760" y="2885040"/>
                    <a:ext cx="79488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8" name="文本框 74832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文本框 74833"/>
              <p:cNvSpPr/>
              <p:nvPr/>
            </p:nvSpPr>
            <p:spPr>
              <a:xfrm rot="3925800">
                <a:off x="51447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组合 74847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561" name="组合 74775"/>
              <p:cNvGrpSpPr/>
              <p:nvPr/>
            </p:nvGrpSpPr>
            <p:grpSpPr>
              <a:xfrm>
                <a:off x="6685920" y="3593160"/>
                <a:ext cx="1526760" cy="2424600"/>
                <a:chOff x="6685920" y="3593160"/>
                <a:chExt cx="1526760" cy="2424600"/>
              </a:xfrm>
            </p:grpSpPr>
            <p:grpSp>
              <p:nvGrpSpPr>
                <p:cNvPr id="562" name="组合 74776"/>
                <p:cNvGrpSpPr/>
                <p:nvPr/>
              </p:nvGrpSpPr>
              <p:grpSpPr>
                <a:xfrm>
                  <a:off x="6685920" y="3750840"/>
                  <a:ext cx="1420560" cy="2266920"/>
                  <a:chOff x="6685920" y="3750840"/>
                  <a:chExt cx="1420560" cy="2266920"/>
                </a:xfrm>
              </p:grpSpPr>
              <p:sp>
                <p:nvSpPr>
                  <p:cNvPr id="563" name="任意多边形 74777"/>
                  <p:cNvSpPr/>
                  <p:nvPr/>
                </p:nvSpPr>
                <p:spPr>
                  <a:xfrm rot="3876600">
                    <a:off x="6258240" y="46378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任意多边形 74778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5" name="组合 74779"/>
                <p:cNvGrpSpPr/>
                <p:nvPr/>
              </p:nvGrpSpPr>
              <p:grpSpPr>
                <a:xfrm>
                  <a:off x="7122600" y="3593160"/>
                  <a:ext cx="1090080" cy="1739520"/>
                  <a:chOff x="7122600" y="3593160"/>
                  <a:chExt cx="1090080" cy="1739520"/>
                </a:xfrm>
              </p:grpSpPr>
              <p:sp>
                <p:nvSpPr>
                  <p:cNvPr id="566" name="任意多边形 74780"/>
                  <p:cNvSpPr/>
                  <p:nvPr/>
                </p:nvSpPr>
                <p:spPr>
                  <a:xfrm flipV="1" rot="3876600">
                    <a:off x="6794280" y="42739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任意多边形 74781"/>
                  <p:cNvSpPr/>
                  <p:nvPr/>
                </p:nvSpPr>
                <p:spPr>
                  <a:xfrm flipV="1" rot="3876600">
                    <a:off x="7827840" y="49557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8" name="椭圆 74782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椭圆 74783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椭圆 74784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椭圆 74785"/>
              <p:cNvSpPr/>
              <p:nvPr/>
            </p:nvSpPr>
            <p:spPr>
              <a:xfrm>
                <a:off x="6192720" y="2647800"/>
                <a:ext cx="132624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椭圆 74786"/>
              <p:cNvSpPr/>
              <p:nvPr/>
            </p:nvSpPr>
            <p:spPr>
              <a:xfrm>
                <a:off x="6256440" y="2712960"/>
                <a:ext cx="119376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3" name="组合 74787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74" name="椭圆 74788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椭圆 74789"/>
                <p:cNvSpPr/>
                <p:nvPr/>
              </p:nvSpPr>
              <p:spPr>
                <a:xfrm>
                  <a:off x="6289920" y="2738520"/>
                  <a:ext cx="112968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椭圆 74790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椭圆 74791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文本框 74834"/>
              <p:cNvSpPr/>
              <p:nvPr/>
            </p:nvSpPr>
            <p:spPr>
              <a:xfrm rot="3925800">
                <a:off x="663516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文本框 74835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组合 74836"/>
            <p:cNvGrpSpPr/>
            <p:nvPr/>
          </p:nvGrpSpPr>
          <p:grpSpPr>
            <a:xfrm>
              <a:off x="1101600" y="1828800"/>
              <a:ext cx="6057000" cy="407880"/>
              <a:chOff x="1101600" y="1828800"/>
              <a:chExt cx="6057000" cy="407880"/>
            </a:xfrm>
          </p:grpSpPr>
          <p:sp>
            <p:nvSpPr>
              <p:cNvPr id="581" name="文本框 74837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43da2"/>
                    </a:solidFill>
                    <a:latin typeface="Verdana"/>
                    <a:ea typeface="Arial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文本框 74838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43da2"/>
                    </a:solidFill>
                    <a:latin typeface="Verdana"/>
                    <a:ea typeface="Arial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文本框 74839"/>
              <p:cNvSpPr/>
              <p:nvPr/>
            </p:nvSpPr>
            <p:spPr>
              <a:xfrm>
                <a:off x="460224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43da2"/>
                    </a:solidFill>
                    <a:latin typeface="Verdana"/>
                    <a:ea typeface="Arial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文本框 74840"/>
              <p:cNvSpPr/>
              <p:nvPr/>
            </p:nvSpPr>
            <p:spPr>
              <a:xfrm>
                <a:off x="639252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43da2"/>
                    </a:solidFill>
                    <a:latin typeface="Verdana"/>
                    <a:ea typeface="Arial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5" name="直接箭头连接符 74841"/>
              <p:cNvCxnSpPr>
                <a:stCxn id="581" idx="3"/>
                <a:endCxn id="582" idx="1"/>
              </p:cNvCxnSpPr>
              <p:nvPr/>
            </p:nvCxnSpPr>
            <p:spPr>
              <a:xfrm>
                <a:off x="1838520" y="2052360"/>
                <a:ext cx="986400" cy="1080"/>
              </a:xfrm>
              <a:prstGeom prst="straightConnector1">
                <a:avLst/>
              </a:prstGeom>
              <a:ln w="9360">
                <a:solidFill>
                  <a:srgbClr val="143da2"/>
                </a:solidFill>
                <a:round/>
                <a:tailEnd len="med" type="triangle" w="med"/>
              </a:ln>
            </p:spPr>
          </p:cxnSp>
          <p:cxnSp>
            <p:nvCxnSpPr>
              <p:cNvPr id="586" name="直接箭头连接符 74842"/>
              <p:cNvCxnSpPr>
                <a:stCxn id="582" idx="3"/>
                <a:endCxn id="583" idx="1"/>
              </p:cNvCxnSpPr>
              <p:nvPr/>
            </p:nvCxnSpPr>
            <p:spPr>
              <a:xfrm>
                <a:off x="3592080" y="2052360"/>
                <a:ext cx="978840" cy="1080"/>
              </a:xfrm>
              <a:prstGeom prst="straightConnector1">
                <a:avLst/>
              </a:prstGeom>
              <a:ln w="9360">
                <a:solidFill>
                  <a:srgbClr val="143da2"/>
                </a:solidFill>
                <a:round/>
                <a:tailEnd len="med" type="triangle" w="med"/>
              </a:ln>
            </p:spPr>
          </p:cxnSp>
          <p:cxnSp>
            <p:nvCxnSpPr>
              <p:cNvPr id="587" name="直接箭头连接符 74843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143da2"/>
                </a:solidFill>
                <a:round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组合 75778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90" name="圆角矩形 75779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组合 75780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592" name="圆角矩形 75781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b592b"/>
                  </a:gs>
                  <a:gs pos="100000">
                    <a:srgbClr val="a43e1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任意多边形 75782"/>
              <p:cNvSpPr/>
              <p:nvPr/>
            </p:nvSpPr>
            <p:spPr>
              <a:xfrm>
                <a:off x="1874880" y="171180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a58b"/>
                  </a:gs>
                  <a:gs pos="50000">
                    <a:srgbClr val="eb592b">
                      <a:alpha val="0"/>
                    </a:srgbClr>
                  </a:gs>
                  <a:gs pos="100000">
                    <a:srgbClr val="f4a5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文本框 75783"/>
              <p:cNvSpPr/>
              <p:nvPr/>
            </p:nvSpPr>
            <p:spPr>
              <a:xfrm>
                <a:off x="1931040" y="19332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文本框 75784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组合 75785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97" name="圆角矩形 75786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组合 75787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599" name="圆角矩形 75788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c4df6e"/>
                  </a:gs>
                  <a:gs pos="100000">
                    <a:srgbClr val="aed337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任意多边形 75789"/>
              <p:cNvSpPr/>
              <p:nvPr/>
            </p:nvSpPr>
            <p:spPr>
              <a:xfrm>
                <a:off x="1874880" y="324216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ecaa"/>
                  </a:gs>
                  <a:gs pos="100000">
                    <a:srgbClr val="aed33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文本框 75790"/>
              <p:cNvSpPr/>
              <p:nvPr/>
            </p:nvSpPr>
            <p:spPr>
              <a:xfrm>
                <a:off x="193104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文本框 75791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75792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604" name="圆角矩形 75793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组合 75794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606" name="圆角矩形 75795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6d1f2"/>
                  </a:gs>
                  <a:gs pos="100000">
                    <a:srgbClr val="5ab7ea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任意多边形 75796"/>
              <p:cNvSpPr/>
              <p:nvPr/>
            </p:nvSpPr>
            <p:spPr>
              <a:xfrm>
                <a:off x="1874880" y="478224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dcf5"/>
                  </a:gs>
                  <a:gs pos="100000">
                    <a:srgbClr val="5ab7ea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文本框 75797"/>
              <p:cNvSpPr/>
              <p:nvPr/>
            </p:nvSpPr>
            <p:spPr>
              <a:xfrm>
                <a:off x="193104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文本框 75798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圆角矩形 76802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圆角矩形 76803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圆角矩形 76804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圆角矩形 76805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组合 76806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616" name="矩形 76807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aed337"/>
                </a:gs>
                <a:gs pos="100000">
                  <a:srgbClr val="516219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" name="组合 76808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618" name="椭圆 76809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矩形 76810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椭圆 76811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椭圆 76812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矩形 76813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eb5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组合 76814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624" name="椭圆 76815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矩形 76816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椭圆 76817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椭圆 76818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矩形 76819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aed337"/>
                </a:gs>
                <a:gs pos="100000">
                  <a:srgbClr val="516219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组合 76820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630" name="椭圆 76821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矩形 76822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椭圆 76823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椭圆 76824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" name="矩形 76825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eb5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矩形 76826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76827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76828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76829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76830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76831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76832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76833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838080" y="2224080"/>
          <a:ext cx="7467480" cy="3198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76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592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592b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592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592b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592b"/>
                    </a:solidFill>
                  </a:tcPr>
                </a:tc>
              </a:tr>
              <a:tr h="45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43da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43da2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43da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43da2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43da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43da2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6" name="组合 78850"/>
          <p:cNvGrpSpPr/>
          <p:nvPr/>
        </p:nvGrpSpPr>
        <p:grpSpPr>
          <a:xfrm>
            <a:off x="1128600" y="1280520"/>
            <a:ext cx="6575400" cy="4666320"/>
            <a:chOff x="1128600" y="1280520"/>
            <a:chExt cx="6575400" cy="4666320"/>
          </a:xfrm>
        </p:grpSpPr>
        <p:sp>
          <p:nvSpPr>
            <p:cNvPr id="647" name="椭圆 78851"/>
            <p:cNvSpPr/>
            <p:nvPr/>
          </p:nvSpPr>
          <p:spPr>
            <a:xfrm>
              <a:off x="2141640" y="42908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椭圆 78852"/>
            <p:cNvSpPr/>
            <p:nvPr/>
          </p:nvSpPr>
          <p:spPr>
            <a:xfrm rot="20601600">
              <a:off x="1452240" y="21798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椭圆 78853"/>
            <p:cNvSpPr/>
            <p:nvPr/>
          </p:nvSpPr>
          <p:spPr>
            <a:xfrm rot="20601600">
              <a:off x="1471320" y="20160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任意多边形 78854"/>
            <p:cNvSpPr/>
            <p:nvPr/>
          </p:nvSpPr>
          <p:spPr>
            <a:xfrm rot="20601600">
              <a:off x="4129200" y="19047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d337"/>
                </a:gs>
                <a:gs pos="100000">
                  <a:srgbClr val="c9e27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任意多边形 78855"/>
            <p:cNvSpPr/>
            <p:nvPr/>
          </p:nvSpPr>
          <p:spPr>
            <a:xfrm flipH="1" rot="20602200">
              <a:off x="171648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eb592b"/>
                </a:gs>
                <a:gs pos="100000">
                  <a:srgbClr val="8f361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任意多边形 78856"/>
            <p:cNvSpPr/>
            <p:nvPr/>
          </p:nvSpPr>
          <p:spPr>
            <a:xfrm rot="20601600">
              <a:off x="265392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089" y="972"/>
                    <a:pt x="6645" y="0"/>
                    <a:pt x="10427" y="0"/>
                  </a:cubicBezTo>
                  <a:cubicBezTo>
                    <a:pt x="15489" y="0"/>
                    <a:pt x="20144" y="1741"/>
                    <a:pt x="23826" y="4657"/>
                  </a:cubicBezTo>
                </a:path>
                <a:path stroke="0" w="23826" h="21600">
                  <a:moveTo>
                    <a:pt x="23825" y="4658"/>
                  </a:moveTo>
                  <a:cubicBezTo>
                    <a:pt x="18822" y="1233"/>
                    <a:pt x="15427" y="-5464"/>
                    <a:pt x="15427" y="-13163"/>
                  </a:cubicBezTo>
                  <a:cubicBezTo>
                    <a:pt x="15427" y="-24351"/>
                    <a:pt x="22596" y="-33421"/>
                    <a:pt x="31440" y="-33421"/>
                  </a:cubicBezTo>
                  <a:cubicBezTo>
                    <a:pt x="40284" y="-33421"/>
                    <a:pt x="47453" y="-24351"/>
                    <a:pt x="47453" y="-13163"/>
                  </a:cubicBezTo>
                  <a:cubicBezTo>
                    <a:pt x="47453" y="-9003"/>
                    <a:pt x="46462" y="-5136"/>
                    <a:pt x="44763" y="-1920"/>
                  </a:cubicBez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任意多边形 78857"/>
            <p:cNvSpPr/>
            <p:nvPr/>
          </p:nvSpPr>
          <p:spPr>
            <a:xfrm flipH="1" rot="20602200">
              <a:off x="137088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8" y="0"/>
                  </a:moveTo>
                  <a:cubicBezTo>
                    <a:pt x="15854" y="3113"/>
                    <a:pt x="21600" y="10967"/>
                    <a:pt x="21600" y="20162"/>
                  </a:cubicBezTo>
                  <a:cubicBezTo>
                    <a:pt x="21600" y="23984"/>
                    <a:pt x="20607" y="27575"/>
                    <a:pt x="18866" y="30688"/>
                  </a:cubicBezTo>
                </a:path>
                <a:path stroke="0" w="21600" h="30685">
                  <a:moveTo>
                    <a:pt x="18863" y="30685"/>
                  </a:moveTo>
                  <a:cubicBezTo>
                    <a:pt x="20130" y="25770"/>
                    <a:pt x="22110" y="22608"/>
                    <a:pt x="24334" y="22608"/>
                  </a:cubicBezTo>
                  <a:cubicBezTo>
                    <a:pt x="28159" y="22608"/>
                    <a:pt x="31260" y="31957"/>
                    <a:pt x="31260" y="43489"/>
                  </a:cubicBezTo>
                  <a:cubicBezTo>
                    <a:pt x="31260" y="44923"/>
                    <a:pt x="31212" y="46322"/>
                    <a:pt x="31121" y="47669"/>
                  </a:cubicBezTo>
                  <a:lnTo>
                    <a:pt x="7748" y="0"/>
                  </a:lnTo>
                  <a:close/>
                </a:path>
              </a:pathLst>
            </a:custGeom>
            <a:gradFill rotWithShape="0">
              <a:gsLst>
                <a:gs pos="0">
                  <a:srgbClr val="2ebaad"/>
                </a:gs>
                <a:gs pos="100000">
                  <a:srgbClr val="19655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椭圆 78858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文本框 78859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文本框 78860"/>
            <p:cNvSpPr/>
            <p:nvPr/>
          </p:nvSpPr>
          <p:spPr>
            <a:xfrm>
              <a:off x="3829680" y="219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文本框 78861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组合 78862"/>
            <p:cNvGrpSpPr/>
            <p:nvPr/>
          </p:nvGrpSpPr>
          <p:grpSpPr>
            <a:xfrm>
              <a:off x="4293720" y="2466360"/>
              <a:ext cx="3164760" cy="2769120"/>
              <a:chOff x="4293720" y="2466360"/>
              <a:chExt cx="3164760" cy="2769120"/>
            </a:xfrm>
          </p:grpSpPr>
          <p:sp>
            <p:nvSpPr>
              <p:cNvPr id="659" name="任意多边形 78863"/>
              <p:cNvSpPr/>
              <p:nvPr/>
            </p:nvSpPr>
            <p:spPr>
              <a:xfrm>
                <a:off x="5448240" y="34480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76f8e"/>
                  </a:gs>
                  <a:gs pos="100000">
                    <a:srgbClr val="5ab7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任意多边形 78864"/>
              <p:cNvSpPr/>
              <p:nvPr/>
            </p:nvSpPr>
            <p:spPr>
              <a:xfrm rot="20539200">
                <a:off x="4511520" y="28364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98" y="16775"/>
                      <a:pt x="9667" y="20255"/>
                      <a:pt x="3705" y="21284"/>
                    </a:cubicBezTo>
                  </a:path>
                  <a:path stroke="0" w="18016" h="21282">
                    <a:moveTo>
                      <a:pt x="3694" y="21281"/>
                    </a:moveTo>
                    <a:cubicBezTo>
                      <a:pt x="3701" y="21445"/>
                      <a:pt x="3704" y="21612"/>
                      <a:pt x="3704" y="21781"/>
                    </a:cubicBezTo>
                    <a:cubicBezTo>
                      <a:pt x="3704" y="22331"/>
                      <a:pt x="3670" y="22860"/>
                      <a:pt x="3608" y="23352"/>
                    </a:cubicBez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b7ea"/>
                  </a:gs>
                  <a:gs pos="100000">
                    <a:srgbClr val="2a556c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任意多边形 78865"/>
              <p:cNvSpPr/>
              <p:nvPr/>
            </p:nvSpPr>
            <p:spPr>
              <a:xfrm>
                <a:off x="4583160" y="39243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b7ea"/>
                  </a:gs>
                  <a:gs pos="100000">
                    <a:srgbClr val="2a556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文本框 78866"/>
              <p:cNvSpPr/>
              <p:nvPr/>
            </p:nvSpPr>
            <p:spPr>
              <a:xfrm>
                <a:off x="5353560" y="37148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Text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3" name="文本框 78867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任意多边形 78868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椭圆 78869"/>
            <p:cNvSpPr/>
            <p:nvPr/>
          </p:nvSpPr>
          <p:spPr>
            <a:xfrm rot="20601600">
              <a:off x="3036960" y="29811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ed337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aed337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8" name="组合 79904"/>
          <p:cNvGrpSpPr/>
          <p:nvPr/>
        </p:nvGrpSpPr>
        <p:grpSpPr>
          <a:xfrm>
            <a:off x="914400" y="1447920"/>
            <a:ext cx="7391520" cy="4724280"/>
            <a:chOff x="914400" y="1447920"/>
            <a:chExt cx="7391520" cy="4724280"/>
          </a:xfrm>
        </p:grpSpPr>
        <p:sp>
          <p:nvSpPr>
            <p:cNvPr id="669" name="上箭头 79874"/>
            <p:cNvSpPr/>
            <p:nvPr/>
          </p:nvSpPr>
          <p:spPr>
            <a:xfrm>
              <a:off x="1905120" y="2209680"/>
              <a:ext cx="5530680" cy="2743200"/>
            </a:xfrm>
            <a:prstGeom prst="upArrow">
              <a:avLst>
                <a:gd name="adj1" fmla="val 57824"/>
                <a:gd name="adj2" fmla="val 543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圆角矩形 79875"/>
            <p:cNvSpPr/>
            <p:nvPr/>
          </p:nvSpPr>
          <p:spPr>
            <a:xfrm>
              <a:off x="243828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81a45"/>
                </a:gs>
                <a:gs pos="50000">
                  <a:srgbClr val="143da2"/>
                </a:gs>
                <a:gs pos="100000">
                  <a:srgbClr val="081a45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文本框 79876"/>
            <p:cNvSpPr/>
            <p:nvPr/>
          </p:nvSpPr>
          <p:spPr>
            <a:xfrm>
              <a:off x="373392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2" name="组合 79900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673" name="组合 79877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674" name="组合 79878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675" name="椭圆 79879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ebaad"/>
                      </a:gs>
                      <a:gs pos="100000">
                        <a:srgbClr val="1d766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任意多边形 79880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2ebaa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" name="文本框 79881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8" name="椭圆 79882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9" name="组合 79903"/>
            <p:cNvGrpSpPr/>
            <p:nvPr/>
          </p:nvGrpSpPr>
          <p:grpSpPr>
            <a:xfrm>
              <a:off x="6781680" y="4038480"/>
              <a:ext cx="1524240" cy="2067120"/>
              <a:chOff x="6781680" y="4038480"/>
              <a:chExt cx="1524240" cy="2067120"/>
            </a:xfrm>
          </p:grpSpPr>
          <p:grpSp>
            <p:nvGrpSpPr>
              <p:cNvPr id="680" name="组合 79883"/>
              <p:cNvGrpSpPr/>
              <p:nvPr/>
            </p:nvGrpSpPr>
            <p:grpSpPr>
              <a:xfrm>
                <a:off x="6781680" y="4038480"/>
                <a:ext cx="1524240" cy="1532160"/>
                <a:chOff x="6781680" y="4038480"/>
                <a:chExt cx="1524240" cy="1532160"/>
              </a:xfrm>
            </p:grpSpPr>
            <p:grpSp>
              <p:nvGrpSpPr>
                <p:cNvPr id="681" name="组合 79884"/>
                <p:cNvGrpSpPr/>
                <p:nvPr/>
              </p:nvGrpSpPr>
              <p:grpSpPr>
                <a:xfrm>
                  <a:off x="6781680" y="4038480"/>
                  <a:ext cx="1524240" cy="1532160"/>
                  <a:chOff x="6781680" y="4038480"/>
                  <a:chExt cx="1524240" cy="1532160"/>
                </a:xfrm>
              </p:grpSpPr>
              <p:sp>
                <p:nvSpPr>
                  <p:cNvPr id="682" name="椭圆 79885"/>
                  <p:cNvSpPr/>
                  <p:nvPr/>
                </p:nvSpPr>
                <p:spPr>
                  <a:xfrm>
                    <a:off x="6781680" y="4038480"/>
                    <a:ext cx="1524240" cy="153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ab7ea"/>
                      </a:gs>
                      <a:gs pos="100000">
                        <a:srgbClr val="162c3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任意多边形 79886"/>
                  <p:cNvSpPr/>
                  <p:nvPr/>
                </p:nvSpPr>
                <p:spPr>
                  <a:xfrm>
                    <a:off x="6955920" y="4063680"/>
                    <a:ext cx="117576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ab7e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" name="文本框 79887"/>
                <p:cNvSpPr/>
                <p:nvPr/>
              </p:nvSpPr>
              <p:spPr>
                <a:xfrm>
                  <a:off x="6924960" y="475236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椭圆 79888"/>
              <p:cNvSpPr/>
              <p:nvPr/>
            </p:nvSpPr>
            <p:spPr>
              <a:xfrm>
                <a:off x="6824520" y="5618160"/>
                <a:ext cx="1455840" cy="48744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" name="组合 79901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687" name="组合 79889"/>
              <p:cNvGrpSpPr/>
              <p:nvPr/>
            </p:nvGrpSpPr>
            <p:grpSpPr>
              <a:xfrm>
                <a:off x="2819520" y="4083120"/>
                <a:ext cx="1523880" cy="1520640"/>
                <a:chOff x="2819520" y="4083120"/>
                <a:chExt cx="1523880" cy="1520640"/>
              </a:xfrm>
            </p:grpSpPr>
            <p:sp>
              <p:nvSpPr>
                <p:cNvPr id="688" name="椭圆 79890"/>
                <p:cNvSpPr/>
                <p:nvPr/>
              </p:nvSpPr>
              <p:spPr>
                <a:xfrm>
                  <a:off x="2819520" y="408312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ed337"/>
                    </a:gs>
                    <a:gs pos="100000">
                      <a:srgbClr val="596c1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任意多边形 79891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ed33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0" name="文本框 79892"/>
              <p:cNvSpPr/>
              <p:nvPr/>
            </p:nvSpPr>
            <p:spPr>
              <a:xfrm>
                <a:off x="289548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椭圆 79893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组合 79902"/>
            <p:cNvGrpSpPr/>
            <p:nvPr/>
          </p:nvGrpSpPr>
          <p:grpSpPr>
            <a:xfrm>
              <a:off x="4876920" y="4038480"/>
              <a:ext cx="1523880" cy="2089440"/>
              <a:chOff x="4876920" y="4038480"/>
              <a:chExt cx="1523880" cy="2089440"/>
            </a:xfrm>
          </p:grpSpPr>
          <p:grpSp>
            <p:nvGrpSpPr>
              <p:cNvPr id="693" name="组合 79894"/>
              <p:cNvGrpSpPr/>
              <p:nvPr/>
            </p:nvGrpSpPr>
            <p:grpSpPr>
              <a:xfrm>
                <a:off x="4876920" y="4038480"/>
                <a:ext cx="1523880" cy="1521000"/>
                <a:chOff x="4876920" y="4038480"/>
                <a:chExt cx="1523880" cy="1521000"/>
              </a:xfrm>
            </p:grpSpPr>
            <p:grpSp>
              <p:nvGrpSpPr>
                <p:cNvPr id="694" name="组合 79895"/>
                <p:cNvGrpSpPr/>
                <p:nvPr/>
              </p:nvGrpSpPr>
              <p:grpSpPr>
                <a:xfrm>
                  <a:off x="4876920" y="4038480"/>
                  <a:ext cx="1523880" cy="1521000"/>
                  <a:chOff x="4876920" y="4038480"/>
                  <a:chExt cx="1523880" cy="1521000"/>
                </a:xfrm>
              </p:grpSpPr>
              <p:sp>
                <p:nvSpPr>
                  <p:cNvPr id="695" name="椭圆 79896"/>
                  <p:cNvSpPr/>
                  <p:nvPr/>
                </p:nvSpPr>
                <p:spPr>
                  <a:xfrm>
                    <a:off x="4876920" y="403848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b592b"/>
                      </a:gs>
                      <a:gs pos="100000">
                        <a:srgbClr val="792e1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任意多边形 79897"/>
                  <p:cNvSpPr/>
                  <p:nvPr/>
                </p:nvSpPr>
                <p:spPr>
                  <a:xfrm>
                    <a:off x="5051160" y="406368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b592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7" name="文本框 79898"/>
                <p:cNvSpPr/>
                <p:nvPr/>
              </p:nvSpPr>
              <p:spPr>
                <a:xfrm>
                  <a:off x="495288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8" name="椭圆 79899"/>
              <p:cNvSpPr/>
              <p:nvPr/>
            </p:nvSpPr>
            <p:spPr>
              <a:xfrm>
                <a:off x="4876920" y="5638680"/>
                <a:ext cx="1454040" cy="48924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组合 61475"/>
          <p:cNvGrpSpPr/>
          <p:nvPr/>
        </p:nvGrpSpPr>
        <p:grpSpPr>
          <a:xfrm>
            <a:off x="1981080" y="1905120"/>
            <a:ext cx="5410440" cy="664920"/>
            <a:chOff x="1981080" y="1905120"/>
            <a:chExt cx="5410440" cy="664920"/>
          </a:xfrm>
        </p:grpSpPr>
        <p:grpSp>
          <p:nvGrpSpPr>
            <p:cNvPr id="148" name="组合 61447"/>
            <p:cNvGrpSpPr/>
            <p:nvPr/>
          </p:nvGrpSpPr>
          <p:grpSpPr>
            <a:xfrm>
              <a:off x="1981080" y="1905120"/>
              <a:ext cx="762120" cy="664920"/>
              <a:chOff x="1981080" y="1905120"/>
              <a:chExt cx="762120" cy="664920"/>
            </a:xfrm>
          </p:grpSpPr>
          <p:sp>
            <p:nvSpPr>
              <p:cNvPr id="149" name="六边形 61448"/>
              <p:cNvSpPr/>
              <p:nvPr/>
            </p:nvSpPr>
            <p:spPr>
              <a:xfrm>
                <a:off x="1987200" y="19162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六边形 61449"/>
              <p:cNvSpPr/>
              <p:nvPr/>
            </p:nvSpPr>
            <p:spPr>
              <a:xfrm>
                <a:off x="1981080" y="1905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六边形 61450"/>
              <p:cNvSpPr/>
              <p:nvPr/>
            </p:nvSpPr>
            <p:spPr>
              <a:xfrm>
                <a:off x="2025360" y="19443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91c4b"/>
                  </a:gs>
                  <a:gs pos="100000">
                    <a:srgbClr val="143da2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590920" y="2514600"/>
              <a:ext cx="4800600" cy="360"/>
              <a:chOff x="2590920" y="2514600"/>
              <a:chExt cx="4800600" cy="360"/>
            </a:xfrm>
          </p:grpSpPr>
          <p:sp>
            <p:nvSpPr>
              <p:cNvPr id="153" name="直接连接符 61455"/>
              <p:cNvSpPr/>
              <p:nvPr/>
            </p:nvSpPr>
            <p:spPr>
              <a:xfrm>
                <a:off x="2590920" y="2514600"/>
                <a:ext cx="4800600" cy="0"/>
              </a:xfrm>
              <a:prstGeom prst="line">
                <a:avLst/>
              </a:prstGeom>
              <a:ln w="25560">
                <a:solidFill>
                  <a:srgbClr val="5ab7ea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 txBox="1"/>
              <p:nvPr/>
            </p:nvSpPr>
            <p:spPr>
              <a:xfrm>
                <a:off x="2590920" y="251460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文本框 61456"/>
            <p:cNvSpPr/>
            <p:nvPr/>
          </p:nvSpPr>
          <p:spPr>
            <a:xfrm>
              <a:off x="3584520" y="19810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61457"/>
            <p:cNvSpPr/>
            <p:nvPr/>
          </p:nvSpPr>
          <p:spPr>
            <a:xfrm>
              <a:off x="218016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61476"/>
          <p:cNvGrpSpPr/>
          <p:nvPr/>
        </p:nvGrpSpPr>
        <p:grpSpPr>
          <a:xfrm>
            <a:off x="1981080" y="2819520"/>
            <a:ext cx="5410440" cy="664920"/>
            <a:chOff x="1981080" y="2819520"/>
            <a:chExt cx="5410440" cy="664920"/>
          </a:xfrm>
        </p:grpSpPr>
        <p:grpSp>
          <p:nvGrpSpPr>
            <p:cNvPr id="158" name="组合 61451"/>
            <p:cNvGrpSpPr/>
            <p:nvPr/>
          </p:nvGrpSpPr>
          <p:grpSpPr>
            <a:xfrm>
              <a:off x="1981080" y="2819520"/>
              <a:ext cx="761760" cy="664920"/>
              <a:chOff x="1981080" y="2819520"/>
              <a:chExt cx="761760" cy="664920"/>
            </a:xfrm>
          </p:grpSpPr>
          <p:sp>
            <p:nvSpPr>
              <p:cNvPr id="159" name="六边形 61452"/>
              <p:cNvSpPr/>
              <p:nvPr/>
            </p:nvSpPr>
            <p:spPr>
              <a:xfrm>
                <a:off x="1987200" y="2830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六边形 61453"/>
              <p:cNvSpPr/>
              <p:nvPr/>
            </p:nvSpPr>
            <p:spPr>
              <a:xfrm>
                <a:off x="1981080" y="28195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六边形 61454"/>
              <p:cNvSpPr/>
              <p:nvPr/>
            </p:nvSpPr>
            <p:spPr>
              <a:xfrm>
                <a:off x="2025360" y="28587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55650"/>
                  </a:gs>
                  <a:gs pos="100000">
                    <a:srgbClr val="2ebaad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590920" y="3429000"/>
              <a:ext cx="4800600" cy="360"/>
              <a:chOff x="2590920" y="3429000"/>
              <a:chExt cx="4800600" cy="360"/>
            </a:xfrm>
          </p:grpSpPr>
          <p:sp>
            <p:nvSpPr>
              <p:cNvPr id="163" name="直接连接符 61458"/>
              <p:cNvSpPr/>
              <p:nvPr/>
            </p:nvSpPr>
            <p:spPr>
              <a:xfrm>
                <a:off x="2590920" y="3429000"/>
                <a:ext cx="4800600" cy="0"/>
              </a:xfrm>
              <a:prstGeom prst="line">
                <a:avLst/>
              </a:prstGeom>
              <a:ln w="25560">
                <a:solidFill>
                  <a:srgbClr val="5ab7ea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>
                <a:off x="2590920" y="342900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文本框 61459"/>
            <p:cNvSpPr/>
            <p:nvPr/>
          </p:nvSpPr>
          <p:spPr>
            <a:xfrm>
              <a:off x="3584520" y="28954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61460"/>
            <p:cNvSpPr/>
            <p:nvPr/>
          </p:nvSpPr>
          <p:spPr>
            <a:xfrm>
              <a:off x="2180160" y="291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61477"/>
          <p:cNvGrpSpPr/>
          <p:nvPr/>
        </p:nvGrpSpPr>
        <p:grpSpPr>
          <a:xfrm>
            <a:off x="1981080" y="3711600"/>
            <a:ext cx="5410440" cy="665280"/>
            <a:chOff x="1981080" y="3711600"/>
            <a:chExt cx="5410440" cy="665280"/>
          </a:xfrm>
        </p:grpSpPr>
        <p:grpSp>
          <p:nvGrpSpPr>
            <p:cNvPr id="168" name="组合 61461"/>
            <p:cNvGrpSpPr/>
            <p:nvPr/>
          </p:nvGrpSpPr>
          <p:grpSpPr>
            <a:xfrm>
              <a:off x="1981080" y="3711600"/>
              <a:ext cx="762120" cy="665280"/>
              <a:chOff x="1981080" y="3711600"/>
              <a:chExt cx="762120" cy="665280"/>
            </a:xfrm>
          </p:grpSpPr>
          <p:sp>
            <p:nvSpPr>
              <p:cNvPr id="169" name="六边形 61462"/>
              <p:cNvSpPr/>
              <p:nvPr/>
            </p:nvSpPr>
            <p:spPr>
              <a:xfrm>
                <a:off x="1987200" y="37227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六边形 61463"/>
              <p:cNvSpPr/>
              <p:nvPr/>
            </p:nvSpPr>
            <p:spPr>
              <a:xfrm>
                <a:off x="1981080" y="3711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六边形 61464"/>
              <p:cNvSpPr/>
              <p:nvPr/>
            </p:nvSpPr>
            <p:spPr>
              <a:xfrm>
                <a:off x="2025360" y="375084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091c4b"/>
                  </a:gs>
                  <a:gs pos="100000">
                    <a:srgbClr val="143da2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590920" y="4321080"/>
              <a:ext cx="4800600" cy="360"/>
              <a:chOff x="2590920" y="4321080"/>
              <a:chExt cx="4800600" cy="360"/>
            </a:xfrm>
          </p:grpSpPr>
          <p:sp>
            <p:nvSpPr>
              <p:cNvPr id="173" name="直接连接符 61469"/>
              <p:cNvSpPr/>
              <p:nvPr/>
            </p:nvSpPr>
            <p:spPr>
              <a:xfrm>
                <a:off x="2590920" y="4321080"/>
                <a:ext cx="4800600" cy="0"/>
              </a:xfrm>
              <a:prstGeom prst="line">
                <a:avLst/>
              </a:prstGeom>
              <a:ln w="25560">
                <a:solidFill>
                  <a:srgbClr val="5ab7ea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2590920" y="432108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文本框 61470"/>
            <p:cNvSpPr/>
            <p:nvPr/>
          </p:nvSpPr>
          <p:spPr>
            <a:xfrm>
              <a:off x="3584520" y="3787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61471"/>
            <p:cNvSpPr/>
            <p:nvPr/>
          </p:nvSpPr>
          <p:spPr>
            <a:xfrm>
              <a:off x="218016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61478"/>
          <p:cNvGrpSpPr/>
          <p:nvPr/>
        </p:nvGrpSpPr>
        <p:grpSpPr>
          <a:xfrm>
            <a:off x="1981080" y="4626000"/>
            <a:ext cx="5410440" cy="665280"/>
            <a:chOff x="1981080" y="4626000"/>
            <a:chExt cx="5410440" cy="665280"/>
          </a:xfrm>
        </p:grpSpPr>
        <p:grpSp>
          <p:nvGrpSpPr>
            <p:cNvPr id="178" name="组合 61465"/>
            <p:cNvGrpSpPr/>
            <p:nvPr/>
          </p:nvGrpSpPr>
          <p:grpSpPr>
            <a:xfrm>
              <a:off x="1981080" y="4626000"/>
              <a:ext cx="761760" cy="665280"/>
              <a:chOff x="1981080" y="4626000"/>
              <a:chExt cx="761760" cy="665280"/>
            </a:xfrm>
          </p:grpSpPr>
          <p:sp>
            <p:nvSpPr>
              <p:cNvPr id="179" name="六边形 61466"/>
              <p:cNvSpPr/>
              <p:nvPr/>
            </p:nvSpPr>
            <p:spPr>
              <a:xfrm>
                <a:off x="1987200" y="4637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六边形 61467"/>
              <p:cNvSpPr/>
              <p:nvPr/>
            </p:nvSpPr>
            <p:spPr>
              <a:xfrm>
                <a:off x="1981080" y="4626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六边形 61468"/>
              <p:cNvSpPr/>
              <p:nvPr/>
            </p:nvSpPr>
            <p:spPr>
              <a:xfrm>
                <a:off x="2025360" y="466524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155650"/>
                  </a:gs>
                  <a:gs pos="100000">
                    <a:srgbClr val="2ebaad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2590920" y="5235480"/>
              <a:ext cx="4800600" cy="360"/>
              <a:chOff x="2590920" y="5235480"/>
              <a:chExt cx="4800600" cy="360"/>
            </a:xfrm>
          </p:grpSpPr>
          <p:sp>
            <p:nvSpPr>
              <p:cNvPr id="183" name="直接连接符 61472"/>
              <p:cNvSpPr/>
              <p:nvPr/>
            </p:nvSpPr>
            <p:spPr>
              <a:xfrm>
                <a:off x="2590920" y="5235480"/>
                <a:ext cx="4800600" cy="0"/>
              </a:xfrm>
              <a:prstGeom prst="line">
                <a:avLst/>
              </a:prstGeom>
              <a:ln w="25560">
                <a:solidFill>
                  <a:srgbClr val="5ab7ea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>
                <a:off x="2590920" y="523548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文本框 61473"/>
            <p:cNvSpPr/>
            <p:nvPr/>
          </p:nvSpPr>
          <p:spPr>
            <a:xfrm>
              <a:off x="3584520" y="47023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61474"/>
            <p:cNvSpPr/>
            <p:nvPr/>
          </p:nvSpPr>
          <p:spPr>
            <a:xfrm>
              <a:off x="2180160" y="4724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6484-95F5-405E-BDB6-083FF40F70B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矩形 80897"/>
          <p:cNvSpPr txBox="1"/>
          <p:nvPr/>
        </p:nvSpPr>
        <p:spPr>
          <a:xfrm>
            <a:off x="4800600" y="3200400"/>
            <a:ext cx="4191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143da2"/>
                    </a:gs>
                    <a:gs pos="100000">
                      <a:srgbClr val="aed337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143da2"/>
                  </a:gs>
                  <a:gs pos="100000">
                    <a:srgbClr val="aed337"/>
                  </a:gs>
                </a:gsLst>
                <a:lin ang="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440" y="12949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aed33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3da2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143da2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143da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ed33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3da2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eb59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da2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eb592b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143da2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eb592b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143da2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eb592b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143da2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eb592b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143da2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143da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eb59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3d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组合 64530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91" name="圆角矩形 64515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64516"/>
            <p:cNvSpPr/>
            <p:nvPr/>
          </p:nvSpPr>
          <p:spPr>
            <a:xfrm>
              <a:off x="12384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任意多边形 64517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ebaad"/>
              </a:gs>
              <a:gs pos="100000">
                <a:srgbClr val="7ad3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6451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64532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96" name="组合 64520"/>
            <p:cNvGrpSpPr/>
            <p:nvPr/>
          </p:nvGrpSpPr>
          <p:grpSpPr>
            <a:xfrm>
              <a:off x="3048120" y="1447920"/>
              <a:ext cx="2998440" cy="1600920"/>
              <a:chOff x="3048120" y="1447920"/>
              <a:chExt cx="2998440" cy="1600920"/>
            </a:xfrm>
          </p:grpSpPr>
          <p:grpSp>
            <p:nvGrpSpPr>
              <p:cNvPr id="197" name="组合 64521"/>
              <p:cNvGrpSpPr/>
              <p:nvPr/>
            </p:nvGrpSpPr>
            <p:grpSpPr>
              <a:xfrm>
                <a:off x="3048120" y="1590480"/>
                <a:ext cx="2998440" cy="1458360"/>
                <a:chOff x="3048120" y="1590480"/>
                <a:chExt cx="2998440" cy="1458360"/>
              </a:xfrm>
            </p:grpSpPr>
            <p:sp>
              <p:nvSpPr>
                <p:cNvPr id="198" name="椭圆 64522"/>
                <p:cNvSpPr/>
                <p:nvPr/>
              </p:nvSpPr>
              <p:spPr>
                <a:xfrm>
                  <a:off x="3080880" y="16369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ed337"/>
                    </a:gs>
                    <a:gs pos="100000">
                      <a:srgbClr val="55671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椭圆 64523"/>
                <p:cNvSpPr/>
                <p:nvPr/>
              </p:nvSpPr>
              <p:spPr>
                <a:xfrm>
                  <a:off x="3048120" y="159048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beca6"/>
                    </a:gs>
                    <a:gs pos="100000">
                      <a:srgbClr val="aed33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椭圆 64524"/>
              <p:cNvSpPr/>
              <p:nvPr/>
            </p:nvSpPr>
            <p:spPr>
              <a:xfrm>
                <a:off x="318960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d2914"/>
                  </a:gs>
                  <a:gs pos="100000">
                    <a:srgbClr val="eb592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椭圆 64525"/>
              <p:cNvSpPr/>
              <p:nvPr/>
            </p:nvSpPr>
            <p:spPr>
              <a:xfrm>
                <a:off x="3224520" y="145548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b592b">
                      <a:alpha val="0"/>
                    </a:srgbClr>
                  </a:gs>
                  <a:gs pos="100000">
                    <a:srgbClr val="f8c5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椭圆 64526"/>
              <p:cNvSpPr/>
              <p:nvPr/>
            </p:nvSpPr>
            <p:spPr>
              <a:xfrm>
                <a:off x="3251520" y="146844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a4722"/>
                  </a:gs>
                  <a:gs pos="100000">
                    <a:srgbClr val="eb592b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椭圆 64527"/>
              <p:cNvSpPr/>
              <p:nvPr/>
            </p:nvSpPr>
            <p:spPr>
              <a:xfrm>
                <a:off x="3383280" y="149544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b592b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文本框 64528"/>
            <p:cNvSpPr/>
            <p:nvPr/>
          </p:nvSpPr>
          <p:spPr>
            <a:xfrm>
              <a:off x="3882960" y="16477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64531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206" name="圆角矩形 64514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64529"/>
            <p:cNvSpPr/>
            <p:nvPr/>
          </p:nvSpPr>
          <p:spPr>
            <a:xfrm>
              <a:off x="57150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任意多边形 64519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ed337"/>
              </a:gs>
              <a:gs pos="100000">
                <a:srgbClr val="e5f1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组合 65538"/>
          <p:cNvGrpSpPr/>
          <p:nvPr/>
        </p:nvGrpSpPr>
        <p:grpSpPr>
          <a:xfrm>
            <a:off x="762120" y="1722240"/>
            <a:ext cx="6956280" cy="4583520"/>
            <a:chOff x="762120" y="1722240"/>
            <a:chExt cx="6956280" cy="4583520"/>
          </a:xfrm>
        </p:grpSpPr>
        <p:sp>
          <p:nvSpPr>
            <p:cNvPr id="211" name="任意多边形 65539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6554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aed337"/>
                </a:gs>
                <a:gs pos="100000">
                  <a:srgbClr val="3c491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椭圆 6554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eb592b"/>
                </a:gs>
                <a:gs pos="100000">
                  <a:srgbClr val="4a1c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椭圆 6554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2ebaad"/>
                </a:gs>
                <a:gs pos="100000">
                  <a:srgbClr val="1042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椭圆 6554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椭圆 6554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5ab7ea"/>
                </a:gs>
                <a:gs pos="100000">
                  <a:srgbClr val="1f3f5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文本框 65545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文本框 65546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文本框 65547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文本框 65548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文本框 65549"/>
            <p:cNvSpPr/>
            <p:nvPr/>
          </p:nvSpPr>
          <p:spPr>
            <a:xfrm>
              <a:off x="257724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文本框 6555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224" name="直接连接符 65551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26" name="直接箭头连接符 6555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27" name="文本框 6555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组合 66562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30" name="圆柱形 66563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a556c"/>
                </a:gs>
                <a:gs pos="50000">
                  <a:srgbClr val="5ab7ea"/>
                </a:gs>
                <a:gs pos="100000">
                  <a:srgbClr val="2a55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圆柱形 66564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a556c"/>
                </a:gs>
                <a:gs pos="50000">
                  <a:srgbClr val="5ab7ea"/>
                </a:gs>
                <a:gs pos="100000">
                  <a:srgbClr val="2a55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圆柱形 66565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a556c"/>
                </a:gs>
                <a:gs pos="50000">
                  <a:srgbClr val="5ab7ea"/>
                </a:gs>
                <a:gs pos="100000">
                  <a:srgbClr val="2a55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66566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66567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66568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左箭头 66569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圆角矩形 66570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66571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圆角矩形 66572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66573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右箭头 66574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5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圆柱形 66575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d2914"/>
                </a:gs>
                <a:gs pos="50000">
                  <a:srgbClr val="eb592b"/>
                </a:gs>
                <a:gs pos="100000">
                  <a:srgbClr val="6d291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上箭头 66576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24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66577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圆柱形 66578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516219"/>
                </a:gs>
                <a:gs pos="50000">
                  <a:srgbClr val="aed337"/>
                </a:gs>
                <a:gs pos="100000">
                  <a:srgbClr val="5162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66579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下箭头 66580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42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ed337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aed337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组合 67586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51" name="组合 67587"/>
            <p:cNvGrpSpPr/>
            <p:nvPr/>
          </p:nvGrpSpPr>
          <p:grpSpPr>
            <a:xfrm>
              <a:off x="3009240" y="2209680"/>
              <a:ext cx="2899800" cy="2705400"/>
              <a:chOff x="3009240" y="2209680"/>
              <a:chExt cx="2899800" cy="2705400"/>
            </a:xfrm>
          </p:grpSpPr>
          <p:sp>
            <p:nvSpPr>
              <p:cNvPr id="252" name="上箭头 67588"/>
              <p:cNvSpPr/>
              <p:nvPr/>
            </p:nvSpPr>
            <p:spPr>
              <a:xfrm flipH="1" rot="16200000">
                <a:off x="2928240" y="325656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43da2"/>
                  </a:gs>
                  <a:gs pos="100000">
                    <a:srgbClr val="a3b3d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上箭头 67589"/>
              <p:cNvSpPr/>
              <p:nvPr/>
            </p:nvSpPr>
            <p:spPr>
              <a:xfrm flipH="1" rot="5400000">
                <a:off x="5531040" y="320616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43da2"/>
                  </a:gs>
                  <a:gs pos="100000">
                    <a:srgbClr val="a3b3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上箭头 67590"/>
              <p:cNvSpPr/>
              <p:nvPr/>
            </p:nvSpPr>
            <p:spPr>
              <a:xfrm flipH="1" rot="10800000">
                <a:off x="42404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43da2"/>
                  </a:gs>
                  <a:gs pos="100000">
                    <a:srgbClr val="a3b3d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椭圆 67591"/>
              <p:cNvSpPr/>
              <p:nvPr/>
            </p:nvSpPr>
            <p:spPr>
              <a:xfrm>
                <a:off x="330840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椭圆 67592"/>
              <p:cNvSpPr/>
              <p:nvPr/>
            </p:nvSpPr>
            <p:spPr>
              <a:xfrm>
                <a:off x="344124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椭圆 67593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ed33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椭圆 67594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椭圆 67595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5e721e"/>
                  </a:gs>
                  <a:gs pos="50000">
                    <a:srgbClr val="aed337"/>
                  </a:gs>
                  <a:gs pos="100000">
                    <a:srgbClr val="5e721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椭圆 67596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圆柱形 67597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a556c"/>
                </a:gs>
                <a:gs pos="50000">
                  <a:srgbClr val="5ab7ea"/>
                </a:gs>
                <a:gs pos="100000">
                  <a:srgbClr val="2a55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圆柱形 67598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a556c"/>
                </a:gs>
                <a:gs pos="50000">
                  <a:srgbClr val="5ab7ea"/>
                </a:gs>
                <a:gs pos="100000">
                  <a:srgbClr val="2a55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圆柱形 67599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a556c"/>
                </a:gs>
                <a:gs pos="50000">
                  <a:srgbClr val="5ab7ea"/>
                </a:gs>
                <a:gs pos="100000">
                  <a:srgbClr val="2a55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圆柱形 67600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d2914"/>
                </a:gs>
                <a:gs pos="50000">
                  <a:srgbClr val="eb592b"/>
                </a:gs>
                <a:gs pos="100000">
                  <a:srgbClr val="6d291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圆柱形 67601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d2914"/>
                </a:gs>
                <a:gs pos="50000">
                  <a:srgbClr val="eb592b"/>
                </a:gs>
                <a:gs pos="100000">
                  <a:srgbClr val="6d291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圆柱形 67602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d2914"/>
                </a:gs>
                <a:gs pos="50000">
                  <a:srgbClr val="eb592b"/>
                </a:gs>
                <a:gs pos="100000">
                  <a:srgbClr val="6d291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67603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圆角矩形 67604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文本框 67605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67606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67607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文本框 67608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文本框 67609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文本框 67610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组合 68637"/>
          <p:cNvGrpSpPr/>
          <p:nvPr/>
        </p:nvGrpSpPr>
        <p:grpSpPr>
          <a:xfrm>
            <a:off x="872640" y="2276640"/>
            <a:ext cx="7543800" cy="3352680"/>
            <a:chOff x="872640" y="2276640"/>
            <a:chExt cx="7543800" cy="3352680"/>
          </a:xfrm>
        </p:grpSpPr>
        <p:grpSp>
          <p:nvGrpSpPr>
            <p:cNvPr id="277" name=""/>
            <p:cNvGrpSpPr/>
            <p:nvPr/>
          </p:nvGrpSpPr>
          <p:grpSpPr>
            <a:xfrm>
              <a:off x="873000" y="5621400"/>
              <a:ext cx="1657440" cy="1440"/>
              <a:chOff x="873000" y="5621400"/>
              <a:chExt cx="1657440" cy="1440"/>
            </a:xfrm>
          </p:grpSpPr>
          <p:sp>
            <p:nvSpPr>
              <p:cNvPr id="278" name="直接连接符 68610"/>
              <p:cNvSpPr/>
              <p:nvPr/>
            </p:nvSpPr>
            <p:spPr>
              <a:xfrm flipH="1">
                <a:off x="873000" y="5621400"/>
                <a:ext cx="1657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>
                <a:off x="873000" y="5621400"/>
                <a:ext cx="1657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873000" y="4782960"/>
              <a:ext cx="2438640" cy="360"/>
              <a:chOff x="873000" y="4782960"/>
              <a:chExt cx="2438640" cy="360"/>
            </a:xfrm>
          </p:grpSpPr>
          <p:sp>
            <p:nvSpPr>
              <p:cNvPr id="281" name="直接连接符 68611"/>
              <p:cNvSpPr/>
              <p:nvPr/>
            </p:nvSpPr>
            <p:spPr>
              <a:xfrm flipH="1">
                <a:off x="873000" y="4782960"/>
                <a:ext cx="24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873000" y="478296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873000" y="3952800"/>
              <a:ext cx="3353040" cy="360"/>
              <a:chOff x="873000" y="3952800"/>
              <a:chExt cx="3353040" cy="360"/>
            </a:xfrm>
          </p:grpSpPr>
          <p:sp>
            <p:nvSpPr>
              <p:cNvPr id="284" name="直接连接符 68612"/>
              <p:cNvSpPr/>
              <p:nvPr/>
            </p:nvSpPr>
            <p:spPr>
              <a:xfrm flipH="1">
                <a:off x="873000" y="39528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873000" y="3952800"/>
                <a:ext cx="335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872640" y="3124080"/>
              <a:ext cx="4165920" cy="360"/>
              <a:chOff x="872640" y="3124080"/>
              <a:chExt cx="4165920" cy="360"/>
            </a:xfrm>
          </p:grpSpPr>
          <p:sp>
            <p:nvSpPr>
              <p:cNvPr id="287" name="直接连接符 68613"/>
              <p:cNvSpPr/>
              <p:nvPr/>
            </p:nvSpPr>
            <p:spPr>
              <a:xfrm flipH="1">
                <a:off x="872640" y="3124080"/>
                <a:ext cx="416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873000" y="312408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873000" y="2282400"/>
              <a:ext cx="5034240" cy="360"/>
              <a:chOff x="873000" y="2282400"/>
              <a:chExt cx="5034240" cy="360"/>
            </a:xfrm>
          </p:grpSpPr>
          <p:sp>
            <p:nvSpPr>
              <p:cNvPr id="290" name="直接连接符 68614"/>
              <p:cNvSpPr/>
              <p:nvPr/>
            </p:nvSpPr>
            <p:spPr>
              <a:xfrm flipH="1">
                <a:off x="873000" y="2282760"/>
                <a:ext cx="503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 rot="10800000">
                <a:off x="873000" y="2282040"/>
                <a:ext cx="503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025640" y="2276640"/>
              <a:ext cx="360" cy="871200"/>
              <a:chOff x="1025640" y="2276640"/>
              <a:chExt cx="360" cy="871200"/>
            </a:xfrm>
          </p:grpSpPr>
          <p:sp>
            <p:nvSpPr>
              <p:cNvPr id="293" name="直接连接符 68615"/>
              <p:cNvSpPr/>
              <p:nvPr/>
            </p:nvSpPr>
            <p:spPr>
              <a:xfrm>
                <a:off x="1025640" y="2276640"/>
                <a:ext cx="0" cy="87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1025640" y="2276640"/>
                <a:ext cx="360" cy="87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1025640" y="3147840"/>
              <a:ext cx="360" cy="817560"/>
              <a:chOff x="1025640" y="3147840"/>
              <a:chExt cx="360" cy="817560"/>
            </a:xfrm>
          </p:grpSpPr>
          <p:sp>
            <p:nvSpPr>
              <p:cNvPr id="296" name="直接连接符 68616"/>
              <p:cNvSpPr/>
              <p:nvPr/>
            </p:nvSpPr>
            <p:spPr>
              <a:xfrm>
                <a:off x="1025640" y="3147840"/>
                <a:ext cx="0" cy="81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1025640" y="314784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1025640" y="3965400"/>
              <a:ext cx="360" cy="816120"/>
              <a:chOff x="1025640" y="3965400"/>
              <a:chExt cx="360" cy="816120"/>
            </a:xfrm>
          </p:grpSpPr>
          <p:sp>
            <p:nvSpPr>
              <p:cNvPr id="299" name="直接连接符 68617"/>
              <p:cNvSpPr/>
              <p:nvPr/>
            </p:nvSpPr>
            <p:spPr>
              <a:xfrm>
                <a:off x="1025640" y="396540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 txBox="1"/>
              <p:nvPr/>
            </p:nvSpPr>
            <p:spPr>
              <a:xfrm>
                <a:off x="1025640" y="396540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1025640" y="4782960"/>
              <a:ext cx="360" cy="816120"/>
              <a:chOff x="1025640" y="4782960"/>
              <a:chExt cx="360" cy="816120"/>
            </a:xfrm>
          </p:grpSpPr>
          <p:sp>
            <p:nvSpPr>
              <p:cNvPr id="302" name="直接连接符 68618"/>
              <p:cNvSpPr/>
              <p:nvPr/>
            </p:nvSpPr>
            <p:spPr>
              <a:xfrm>
                <a:off x="1025640" y="478296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 txBox="1"/>
              <p:nvPr/>
            </p:nvSpPr>
            <p:spPr>
              <a:xfrm>
                <a:off x="1025640" y="47829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文本框 68619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文本框 68620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文本框 68621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文本框 68622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组合 68623"/>
            <p:cNvGrpSpPr/>
            <p:nvPr/>
          </p:nvGrpSpPr>
          <p:grpSpPr>
            <a:xfrm>
              <a:off x="2590920" y="2286000"/>
              <a:ext cx="5825520" cy="3343320"/>
              <a:chOff x="2590920" y="2286000"/>
              <a:chExt cx="5825520" cy="3343320"/>
            </a:xfrm>
          </p:grpSpPr>
          <p:sp>
            <p:nvSpPr>
              <p:cNvPr id="309" name="任意多边形 68624"/>
              <p:cNvSpPr/>
              <p:nvPr/>
            </p:nvSpPr>
            <p:spPr>
              <a:xfrm>
                <a:off x="7834320" y="228600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55650"/>
                  </a:gs>
                  <a:gs pos="50000">
                    <a:srgbClr val="2ebaad"/>
                  </a:gs>
                  <a:gs pos="100000">
                    <a:srgbClr val="15565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任意多边形 68625"/>
              <p:cNvSpPr/>
              <p:nvPr/>
            </p:nvSpPr>
            <p:spPr>
              <a:xfrm>
                <a:off x="5073480" y="228600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2eb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任意多边形 68626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6219"/>
                  </a:gs>
                  <a:gs pos="50000">
                    <a:srgbClr val="aed337"/>
                  </a:gs>
                  <a:gs pos="100000">
                    <a:srgbClr val="51621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任意多边形 68627"/>
              <p:cNvSpPr/>
              <p:nvPr/>
            </p:nvSpPr>
            <p:spPr>
              <a:xfrm>
                <a:off x="4243320" y="311796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aed3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 68628"/>
              <p:cNvSpPr/>
              <p:nvPr/>
            </p:nvSpPr>
            <p:spPr>
              <a:xfrm>
                <a:off x="6673680" y="394992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56c"/>
                  </a:gs>
                  <a:gs pos="50000">
                    <a:srgbClr val="5ab7ea"/>
                  </a:gs>
                  <a:gs pos="100000">
                    <a:srgbClr val="2a556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 68629"/>
              <p:cNvSpPr/>
              <p:nvPr/>
            </p:nvSpPr>
            <p:spPr>
              <a:xfrm>
                <a:off x="6095880" y="478332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d2914"/>
                  </a:gs>
                  <a:gs pos="50000">
                    <a:srgbClr val="eb592b"/>
                  </a:gs>
                  <a:gs pos="100000">
                    <a:srgbClr val="6d29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 68630"/>
              <p:cNvSpPr/>
              <p:nvPr/>
            </p:nvSpPr>
            <p:spPr>
              <a:xfrm>
                <a:off x="2592360" y="478800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eb59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 68631"/>
              <p:cNvSpPr/>
              <p:nvPr/>
            </p:nvSpPr>
            <p:spPr>
              <a:xfrm>
                <a:off x="3184560" y="244008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矩形 68632"/>
              <p:cNvSpPr/>
              <p:nvPr/>
            </p:nvSpPr>
            <p:spPr>
              <a:xfrm>
                <a:off x="5079960" y="282744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21877e"/>
                  </a:gs>
                  <a:gs pos="50000">
                    <a:srgbClr val="2ebaad"/>
                  </a:gs>
                  <a:gs pos="100000">
                    <a:srgbClr val="21877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矩形 68633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7e9928"/>
                  </a:gs>
                  <a:gs pos="50000">
                    <a:srgbClr val="aed337"/>
                  </a:gs>
                  <a:gs pos="100000">
                    <a:srgbClr val="7e992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 68634"/>
              <p:cNvSpPr/>
              <p:nvPr/>
            </p:nvSpPr>
            <p:spPr>
              <a:xfrm>
                <a:off x="3419280" y="394992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5ab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矩形 68635"/>
              <p:cNvSpPr/>
              <p:nvPr/>
            </p:nvSpPr>
            <p:spPr>
              <a:xfrm>
                <a:off x="3422520" y="449280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4185aa"/>
                  </a:gs>
                  <a:gs pos="50000">
                    <a:srgbClr val="5ab7ea"/>
                  </a:gs>
                  <a:gs pos="100000">
                    <a:srgbClr val="4185a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矩形 68636"/>
              <p:cNvSpPr/>
              <p:nvPr/>
            </p:nvSpPr>
            <p:spPr>
              <a:xfrm>
                <a:off x="2590920" y="532944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aa411f"/>
                  </a:gs>
                  <a:gs pos="50000">
                    <a:srgbClr val="eb592b"/>
                  </a:gs>
                  <a:gs pos="100000">
                    <a:srgbClr val="aa41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组合 69655"/>
          <p:cNvGrpSpPr/>
          <p:nvPr/>
        </p:nvGrpSpPr>
        <p:grpSpPr>
          <a:xfrm>
            <a:off x="914400" y="1219320"/>
            <a:ext cx="7315200" cy="5019480"/>
            <a:chOff x="914400" y="1219320"/>
            <a:chExt cx="7315200" cy="5019480"/>
          </a:xfrm>
        </p:grpSpPr>
        <p:sp>
          <p:nvSpPr>
            <p:cNvPr id="324" name="任意多边形 69634"/>
            <p:cNvSpPr/>
            <p:nvPr/>
          </p:nvSpPr>
          <p:spPr>
            <a:xfrm>
              <a:off x="5073480" y="1219320"/>
              <a:ext cx="1467000" cy="11556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5d749">
                    <a:alpha val="32156"/>
                  </a:srgbClr>
                </a:gs>
                <a:gs pos="100000">
                  <a:srgbClr val="aed33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圆角矩形 69635"/>
            <p:cNvSpPr/>
            <p:nvPr/>
          </p:nvSpPr>
          <p:spPr>
            <a:xfrm>
              <a:off x="3424320" y="26528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2eba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圆角矩形 69636"/>
            <p:cNvSpPr/>
            <p:nvPr/>
          </p:nvSpPr>
          <p:spPr>
            <a:xfrm>
              <a:off x="3657600" y="251460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5650"/>
                </a:gs>
                <a:gs pos="50000">
                  <a:srgbClr val="2ebaad"/>
                </a:gs>
                <a:gs pos="100000">
                  <a:srgbClr val="1556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八边形 69637"/>
            <p:cNvSpPr/>
            <p:nvPr/>
          </p:nvSpPr>
          <p:spPr>
            <a:xfrm flipH="1">
              <a:off x="5333400" y="259092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八边形 69638"/>
            <p:cNvSpPr/>
            <p:nvPr/>
          </p:nvSpPr>
          <p:spPr>
            <a:xfrm flipH="1">
              <a:off x="3742560" y="25812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圆角矩形 69639"/>
            <p:cNvSpPr/>
            <p:nvPr/>
          </p:nvSpPr>
          <p:spPr>
            <a:xfrm>
              <a:off x="5934240" y="215100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aed3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圆角矩形 69640"/>
            <p:cNvSpPr/>
            <p:nvPr/>
          </p:nvSpPr>
          <p:spPr>
            <a:xfrm>
              <a:off x="6149880" y="200808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6219"/>
                </a:gs>
                <a:gs pos="50000">
                  <a:srgbClr val="aed337"/>
                </a:gs>
                <a:gs pos="100000">
                  <a:srgbClr val="5162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八边形 69641"/>
            <p:cNvSpPr/>
            <p:nvPr/>
          </p:nvSpPr>
          <p:spPr>
            <a:xfrm flipH="1">
              <a:off x="7835040" y="2079720"/>
              <a:ext cx="7164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八边形 69642"/>
            <p:cNvSpPr/>
            <p:nvPr/>
          </p:nvSpPr>
          <p:spPr>
            <a:xfrm flipH="1">
              <a:off x="6253200" y="2079720"/>
              <a:ext cx="7128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69643"/>
            <p:cNvSpPr/>
            <p:nvPr/>
          </p:nvSpPr>
          <p:spPr>
            <a:xfrm>
              <a:off x="2492280" y="1720800"/>
              <a:ext cx="1467000" cy="11574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a0d5f3">
                    <a:alpha val="32156"/>
                  </a:srgbClr>
                </a:gs>
                <a:gs pos="100000">
                  <a:srgbClr val="5ab7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文本框 69644"/>
            <p:cNvSpPr/>
            <p:nvPr/>
          </p:nvSpPr>
          <p:spPr>
            <a:xfrm>
              <a:off x="3913200" y="24861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文本框 69645"/>
            <p:cNvSpPr/>
            <p:nvPr/>
          </p:nvSpPr>
          <p:spPr>
            <a:xfrm>
              <a:off x="6427800" y="1990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组合 69646"/>
            <p:cNvGrpSpPr/>
            <p:nvPr/>
          </p:nvGrpSpPr>
          <p:grpSpPr>
            <a:xfrm>
              <a:off x="914400" y="2914560"/>
              <a:ext cx="2295360" cy="3324240"/>
              <a:chOff x="914400" y="2914560"/>
              <a:chExt cx="2295360" cy="3324240"/>
            </a:xfrm>
          </p:grpSpPr>
          <p:sp>
            <p:nvSpPr>
              <p:cNvPr id="337" name="圆角矩形 69647"/>
              <p:cNvSpPr/>
              <p:nvPr/>
            </p:nvSpPr>
            <p:spPr>
              <a:xfrm>
                <a:off x="914400" y="308304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5ab7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圆角矩形 69648"/>
              <p:cNvSpPr/>
              <p:nvPr/>
            </p:nvSpPr>
            <p:spPr>
              <a:xfrm>
                <a:off x="1130400" y="2940120"/>
                <a:ext cx="1863720" cy="28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3475b"/>
                  </a:gs>
                  <a:gs pos="50000">
                    <a:srgbClr val="5ab7ea"/>
                  </a:gs>
                  <a:gs pos="100000">
                    <a:srgbClr val="2347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八边形 69649"/>
              <p:cNvSpPr/>
              <p:nvPr/>
            </p:nvSpPr>
            <p:spPr>
              <a:xfrm flipH="1">
                <a:off x="2813760" y="3011400"/>
                <a:ext cx="7164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八边形 69650"/>
              <p:cNvSpPr/>
              <p:nvPr/>
            </p:nvSpPr>
            <p:spPr>
              <a:xfrm flipH="1">
                <a:off x="1231200" y="3011400"/>
                <a:ext cx="7308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文本框 69651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dd Your Tit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文本框 69652"/>
              <p:cNvSpPr/>
              <p:nvPr/>
            </p:nvSpPr>
            <p:spPr>
              <a:xfrm>
                <a:off x="990720" y="334332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文本框 69653"/>
            <p:cNvSpPr/>
            <p:nvPr/>
          </p:nvSpPr>
          <p:spPr>
            <a:xfrm>
              <a:off x="3505320" y="28861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文本框 69654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48Z</dcterms:modified>
  <cp:revision>5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