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BE618-0FDB-4892-BEE5-AB02C021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B14DE-D7A1-4734-8881-135C476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EC89A-3DDA-455C-AB82-B3974B4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5C01A-C8AC-4563-ABFE-5302AA55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2BD13-40D9-442B-AB14-A8543FA0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3C186-35A4-4B69-B6C2-B0F2CB89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F0F60-815B-4554-B62B-8C53F6E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CB865-F752-43CA-92E8-CB1BEE1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B02DE-46E4-41A6-8A8D-9D795C7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65206-9623-46E0-B9EC-FEDFC5D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DB102-A3DC-4BA5-B5AE-363F40FD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71C99-BDB8-4C3D-B6CD-BBD539BB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644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8960" y="101736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1428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644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8960" y="3310920"/>
            <a:ext cx="274464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520" y="331092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520" y="1017360"/>
            <a:ext cx="4159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310920"/>
            <a:ext cx="852480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B5CFC8A5-5594-47E0-80EE-21DAE0C9F951}" type="slidenum">
              <a:rPr b="0" lang="de-DE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0C37-DDA5-4188-B85B-3B18C0AF18D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FA3B-0F44-47F8-933F-25C7DB5EDB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47448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fld id="{14515FF7-6812-4CE4-A4B4-AE1B311E6176}" type="slidenum">
              <a:rPr b="0" lang="de-DE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4840" y="2070000"/>
            <a:ext cx="47592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4840" y="3176640"/>
            <a:ext cx="47750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your subtitle or main author‘s name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895040" y="525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聚会酒会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굴림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7AD-C9B6-402B-A86A-7731F1D27D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4280" y="101736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placeholder it is possible to replace it by selecting different op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the placeholder tex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069920" y="587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afae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eafae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8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