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E55-FFF1-4E6B-A6BC-0E681C30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B57-505E-486E-A852-55C30F79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AAD1-9833-4A5E-A440-DE9CAF74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C1F-42B2-4602-8C69-C0D4C5C9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18F-92BB-4C72-8A64-E2792043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773-CE8D-42DC-AD8F-02B6A4B1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5B58-FA9D-4775-A1EB-841F29E1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E2AB-2FCC-464A-85BD-28474B3C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1B54-1C48-4E21-B496-82A5F01E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F30-2122-40A5-BCBB-20FD4288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70F6-72FE-441D-AA3F-01AC1293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F332-8BE3-406A-AB96-10132785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F3FD-513D-430F-A1A7-AD9C877B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1297-08D5-45F4-8471-A11108A5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3CF3-91D5-477F-AEAA-F601176C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B19D-844A-440A-AC33-E5568E0C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837E-314A-4CD6-B55F-73CCB019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6283-05A2-4705-B42B-654DB485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A133-3023-47DC-AC6A-74A95878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71243-BCF7-4E1A-B818-04B43222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4DC-343F-4D64-8FF9-54749960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2A99F-6877-40EA-9716-D5391E3F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C5246-C6A3-4DBD-B688-AA1C574D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5FBE8-0B23-4731-B4EB-B2063015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830F-D25E-4724-90EE-0E596E37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96015-C9CC-4E71-B3BA-641DB234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49EB2-2ACA-44CA-90DC-A2472529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B5AA4-1E15-49C0-925A-059750DF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8724A-EB3D-4A36-8B68-0F3236A4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F9EB0-09EB-4BB4-AF28-63468118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700B9-3553-4AD4-8F0C-8E718E7B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4E3-2A51-44F9-B34E-DF143BD0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53CF2-B5EC-4BB7-A066-E49B1E77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662-F0E4-434A-83CC-0003817E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E2C-764C-4964-89FA-6B1EE930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70F-2417-4BF9-AC6E-DA1808C8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5865-0457-4C84-972D-61B31938413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50BB-96CB-4F40-B91A-03C57E08CB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81755639482398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81755639552399655654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7" descr="valentines_day_mm_112106754757.jpg"/>
          <p:cNvPicPr/>
          <p:nvPr/>
        </p:nvPicPr>
        <p:blipFill>
          <a:blip r:embed="rId3"/>
          <a:stretch/>
        </p:blipFill>
        <p:spPr>
          <a:xfrm>
            <a:off x="6858000" y="457200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6" descr="81755639552399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8B19-FCAB-471B-8777-A7992DBEEC0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F56E-5CA3-4E11-AA98-391B7D8E9FC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F271-D05F-48BC-81B5-8A2888B49F5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2830-6334-4B4C-B0E1-3A97C0CE7D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"/>
          <p:cNvSpPr/>
          <p:nvPr/>
        </p:nvSpPr>
        <p:spPr>
          <a:xfrm>
            <a:off x="682560" y="117360"/>
            <a:ext cx="803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结婚纪念日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9638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69638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E0E8-B6A4-4649-9D7F-E93D412513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2" descr="unique_valentines_day_gifts23324.jpg"/>
          <p:cNvPicPr/>
          <p:nvPr/>
        </p:nvPicPr>
        <p:blipFill>
          <a:blip r:embed="rId1"/>
          <a:stretch/>
        </p:blipFill>
        <p:spPr>
          <a:xfrm>
            <a:off x="71280" y="0"/>
            <a:ext cx="1571760" cy="157176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6"/>
          <p:cNvSpPr/>
          <p:nvPr/>
        </p:nvSpPr>
        <p:spPr>
          <a:xfrm>
            <a:off x="1708200" y="1165320"/>
            <a:ext cx="1915920" cy="52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ov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4027320" y="1165320"/>
            <a:ext cx="1916280" cy="52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54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ov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6356520" y="1165320"/>
            <a:ext cx="1915920" cy="52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9360">
            <a:solidFill>
              <a:srgbClr val="7d60a0"/>
            </a:solidFill>
            <a:round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ov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圆角矩形 6" descr=""/>
          <p:cNvPicPr/>
          <p:nvPr/>
        </p:nvPicPr>
        <p:blipFill>
          <a:blip r:embed="rId2"/>
          <a:stretch/>
        </p:blipFill>
        <p:spPr>
          <a:xfrm>
            <a:off x="1646280" y="1889280"/>
            <a:ext cx="2066760" cy="4566960"/>
          </a:xfrm>
          <a:prstGeom prst="rect">
            <a:avLst/>
          </a:prstGeom>
          <a:ln w="0">
            <a:noFill/>
          </a:ln>
        </p:spPr>
      </p:pic>
      <p:pic>
        <p:nvPicPr>
          <p:cNvPr id="217" name="圆角矩形 7" descr=""/>
          <p:cNvPicPr/>
          <p:nvPr/>
        </p:nvPicPr>
        <p:blipFill>
          <a:blip r:embed="rId3"/>
          <a:stretch/>
        </p:blipFill>
        <p:spPr>
          <a:xfrm>
            <a:off x="4005360" y="1889280"/>
            <a:ext cx="2060640" cy="4566960"/>
          </a:xfrm>
          <a:prstGeom prst="rect">
            <a:avLst/>
          </a:prstGeom>
          <a:ln w="0">
            <a:noFill/>
          </a:ln>
        </p:spPr>
      </p:pic>
      <p:pic>
        <p:nvPicPr>
          <p:cNvPr id="218" name="圆角矩形 8" descr=""/>
          <p:cNvPicPr/>
          <p:nvPr/>
        </p:nvPicPr>
        <p:blipFill>
          <a:blip r:embed="rId4"/>
          <a:stretch/>
        </p:blipFill>
        <p:spPr>
          <a:xfrm>
            <a:off x="6291360" y="1889280"/>
            <a:ext cx="2060640" cy="4566960"/>
          </a:xfrm>
          <a:prstGeom prst="rect">
            <a:avLst/>
          </a:prstGeom>
          <a:ln w="0">
            <a:noFill/>
          </a:ln>
        </p:spPr>
      </p:pic>
      <p:sp>
        <p:nvSpPr>
          <p:cNvPr id="219" name="流程图: 摘录 9"/>
          <p:cNvSpPr/>
          <p:nvPr/>
        </p:nvSpPr>
        <p:spPr>
          <a:xfrm rot="5400000">
            <a:off x="3581280" y="3517920"/>
            <a:ext cx="298440" cy="257040"/>
          </a:xfrm>
          <a:prstGeom prst="flowChartExtra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流程图: 摘录 10"/>
          <p:cNvSpPr/>
          <p:nvPr/>
        </p:nvSpPr>
        <p:spPr>
          <a:xfrm rot="5400000">
            <a:off x="5938200" y="3543120"/>
            <a:ext cx="300240" cy="258840"/>
          </a:xfrm>
          <a:prstGeom prst="flowChartExtra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8:28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53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