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9B0-2BE3-4D54-827C-01B64578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346-C18B-4B99-98E8-BEC9CB60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F0061-E0A1-4A5B-88EA-6A8281C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E5438-7A3C-47FF-B233-6F715FA84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C1D7-81DF-4E43-9836-186789C4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1A404-DFAD-41F6-9AE4-B82277AC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3CE51-6974-4B29-84FC-C75A136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9682-E173-412C-993F-62BB9977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7F383-FD9C-42F1-AC4C-D1E1E183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76B3D-9A1A-43C5-B04F-F3467272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77DAE-D531-43B2-A8CD-7D52D0A4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C747C-BC20-4A4A-A9F0-69B92819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DE7-37EF-47F2-8B09-FC2E5531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05CD1-0083-4884-87C1-EB5DB51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10270-C3C2-4FDE-8299-C74EF389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1F9C7-9E87-45CE-B1BA-E9EF7E59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E0B6A-712D-4C1E-B4EC-EF3089B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FDE51-66CB-439D-A324-CE3CA4A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F9BD3-6A6E-43EE-83AA-32C80DF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4B41D-98B3-446A-8CE8-901851B8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2360B-0534-4300-AB1B-AEBCFAB8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57916-8DA8-437E-8B4F-0B5DA4F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E6D62-BE9D-4A94-8B42-4E02E802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C98-0015-40E1-A2BB-F70A9A19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B563A-0FBE-464A-BAEB-A08AC290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39DDE-44DB-43E2-B9D6-ECC2F7C0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D5EA1-AB63-400D-B1A9-72AEBFFC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1AD4F-2A32-47ED-85C4-CB519856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F1BCF-1CF9-4493-99A1-BA27D82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C0C45-D111-49A4-A323-7E75169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3F29-051F-44A4-8A8F-1E433F32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C1CA4-65C8-44E3-91CD-C7EE897D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BFE0C-EA4B-44FA-9689-B7C32F2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3EE54-A59E-48D4-92DB-577AFC6F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12FE-C92C-40A6-BB42-8E75AA34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92445-FCA0-4C24-A5FD-700B990C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24D8-35E7-4CB5-8E9D-F597E2B5B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023FA-A6BE-415E-8676-37C5E87D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E500F-9875-4B2D-9233-18F6EABE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D89D5-9422-437A-9FA8-D4CE3FA2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AFFE7-0B19-4D08-A89F-ED76BECF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3285E-BE4F-4C62-BF17-FD1E3398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68D1-3C84-46A9-9E8E-51CA2C9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906AF-EADC-4430-922A-A9167301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77DD-63F7-4F8A-883E-8D46E86C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E87D-E335-43B9-9283-972D80F6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5066F-EC95-4E0B-B6AC-F7EAFD06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485999-3779-408C-8B44-EF64434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16F6F-48FB-478A-B31D-FCD5943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4FA1C-215A-4446-9554-D7B78BDA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DDF3F-6049-4956-9B8E-68FC275A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343C1E-E17F-4D9F-85E4-2583F0AC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88D31-5C68-4C6B-9A9D-BE832DA9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3B5D0-A623-46EC-AC1E-34D56700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E7EF3-BC8C-4F77-8307-5ECE57F9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AF2E7-F0EE-4631-8C3F-60F1C44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4F20-A201-4FA1-9CEB-648E9FAB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95710-79BE-4212-AE5E-76F29661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6F30E-1074-47A3-9017-9B4D110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5E6E0-8796-46AD-99C1-D258DF8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6EF78-7F93-4D3C-B060-E83F7160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49A40-96BC-47DF-B611-7C6C7CC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BFB2C-7D9F-44BC-8116-06AB5EA4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2E2D9-CBA5-41DD-9860-2CEF8A39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89DD-DE4F-4F89-91AC-B502D44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FBBD-DCD3-48BA-BE4A-256D0AB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17C-1077-4B25-B23F-F5E3B7BC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16D5-B343-47B1-94A1-F179415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9EF-B628-4000-9064-4426DE2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0040-A18D-46B0-97C8-A9DCC780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6F36-AB52-43E4-A746-6BF0938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722F-B40C-4472-AE84-8C973193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75C-CEEA-4CE0-B012-D287A7F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219D-96CA-4D69-8305-37D7C2D2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EF55-BC83-4454-ADB0-3521F4AAD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3BD3F-013C-469C-B710-6662BF2D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B46B-5FE9-4875-8F16-A042BDE1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F4A1-7409-4E9F-9E88-8C95BB6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9F2CA-68A1-4B85-A50E-5DE9746A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CD2-9213-4401-8766-84A1DD7A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481B-579E-45E1-A858-5320B4CF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7765-3243-47BB-B233-54F39643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B105-B49A-44EA-BB02-1F0B3C06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5C3A-0EFC-4FE5-AAD4-D83FC3CE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FA799-DF17-4B29-B0FD-C2A5A309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61DF-7783-4D66-9FB0-F12D36C0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16812-2E8E-4021-9ECA-C70A7296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B8836-03DB-40F1-8321-A6FF1967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C651-0CED-4175-90B4-7FFD1C6D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3229-77D7-40F1-B765-024E92BB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5C3-DE98-495C-8CEA-88C1482C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7CDB1-4388-46B2-9CF6-5903B8C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0E0F6-306D-492A-871C-67141400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AAF2-604B-4DD5-A012-397FCC0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9230F-0553-434E-86BC-BE94C5B7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9C13-7379-415D-93E0-748E7F57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6C954-2C02-47D5-B6E4-749673BE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1AC5-0972-41F9-BD1E-DECF1281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B3A3-E001-4757-8881-D215D7A8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B4A89-07D1-4C0C-9B0F-BDA9C9A2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B4B9-7156-4CB3-9AE7-90E73EDB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3AF-F624-4FC1-B339-AC81BA6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B982-E0EF-4754-8002-C419AC54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5D99E-4EE3-42C0-9F7B-179FEF47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B0956-F877-4DC7-9764-A5056608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AEEB-6267-43F5-AF59-692849AD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9240E-C199-45DD-8F6C-440024C3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A72E-5DC2-4E92-99D4-BE364337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4CB7-0253-4453-ADF6-A243EA13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E9C6-9A65-4C06-A169-C8E90905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1BCC3-5C2F-42C4-9374-F5D5AED1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CF5C-1935-4A8A-9DAA-54E90084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8F9-ADCE-4A94-990B-7B0AA126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3E769-5467-4B8A-93A9-A62D5D31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98FD-91ED-4A7E-957A-36F61A7D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6D541-7814-402C-9A9D-3D934A87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835D3-27F2-4E63-A67B-B769347A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66BF4-F127-4191-A5DD-A218DE7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6DBB-0E41-423D-97E3-69CAEE6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F6CF1-073B-4626-A2DE-EFE8B30B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D09E4-A53D-45F1-BAA9-F02F7787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F366D-61BF-44A5-AB17-09F7CD0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216D6-4C21-44FD-9EAD-3AA3099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C7F-2062-44E9-A1AA-0C68B84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ABF2E-9134-4BAD-8806-2AA0387F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AD48-81EC-40F8-8A39-1298FBEF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767CE-FF7B-422C-9461-5C22CC43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4E6DD-EF9B-4F1E-B045-C230604A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3054C-EE5C-4B43-BFFE-666827C6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2920A-4E98-420A-81A5-3A786837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C5811-E2B6-4B97-8302-3750620A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3C52D-C44D-48EF-B977-8936976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8887-0CC7-448E-83E9-D0624B96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86DAA-C430-4AF0-B540-EA5C3304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7D5-2C3E-4CEA-922C-1D12547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4C68-C94D-47E6-80EF-33A72D28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E0DC2-1512-4421-8FFD-5C28DD6E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14C7A-90BF-4226-99D1-71FA3243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FA308-823B-40ED-B235-7CD1FB16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D445F-4241-46FD-A5DF-B87DB08F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C301-3377-44C9-9215-737BE0B2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2322B-4351-412F-96A7-9D3B79A2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BB2FA-4673-43AE-8C0F-0FBB7C13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931F-74D3-4D84-9AAA-9BD9F99B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5C4D-DB1A-4AF1-B3FD-8309E6D7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FD6-8CE4-4CCE-8841-A9903D2C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4382A-09AC-4FD3-9504-C93924DC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DC02C-0CCF-458F-9D97-35DC6B88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1AD7-B72C-4BD8-BD76-0A8A8E97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9B6E1-CE9E-4541-8394-F25EC41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3FC13-5A58-45CD-A6E8-1BC3FABF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EB772-10E1-4AAB-AB16-B4574DED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59B2-3352-4E0D-A44D-BD393608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1933F-4E10-499F-B1D7-08B917B6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C469C-49E5-4245-B438-D1CC50B1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EE5DA-B287-4A47-BAAC-D9A380CE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271A-72CF-40FC-A5A8-5A5459A1B9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7AFF-8BFD-46D5-B827-F02EBB2384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8C1A-16A0-468F-A39B-18224C52477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F99-65CA-4109-8679-50DBCECB38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0C9-AB7D-484C-9045-7DAB82AB206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5EF-B371-4A88-9763-12E95BF4A81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5813-494B-4C1E-AA9B-B68B0EB40A1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A6D8-A0AD-49FB-B5E1-3D4AF0637D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202B-6539-45FA-A87D-D76B8B7B6B1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2BFF-34E6-4348-A2D5-0978ECE8B05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4E0-E849-41D3-8FC2-A31867A36E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35B8-85C4-469A-A4A3-A27643D3F6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C9D-DA39-49D5-ADAF-0125E3D23A4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DD5D-0041-4B02-A4B3-D456DDC2B93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ff44"/>
            </a:gs>
            <a:gs pos="100000">
              <a:srgbClr val="bdef5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35" name="梯形 3"/>
          <p:cNvSpPr/>
          <p:nvPr/>
        </p:nvSpPr>
        <p:spPr>
          <a:xfrm flipV="1">
            <a:off x="2365200" y="2735640"/>
            <a:ext cx="4211640" cy="360360"/>
          </a:xfrm>
          <a:custGeom>
            <a:avLst/>
            <a:gdLst/>
            <a:ahLst/>
            <a:rect l="l" t="t" r="r" b="b"/>
            <a:pathLst>
              <a:path w="4211637" h="360362">
                <a:moveTo>
                  <a:pt x="0" y="360362"/>
                </a:moveTo>
                <a:lnTo>
                  <a:pt x="239154" y="0"/>
                </a:lnTo>
                <a:lnTo>
                  <a:pt x="3972482" y="0"/>
                </a:lnTo>
                <a:lnTo>
                  <a:pt x="4211637" y="360362"/>
                </a:lnTo>
                <a:close/>
              </a:path>
            </a:pathLst>
          </a:custGeom>
          <a:solidFill>
            <a:srgbClr val="aaea25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梯形 4"/>
          <p:cNvSpPr/>
          <p:nvPr/>
        </p:nvSpPr>
        <p:spPr>
          <a:xfrm>
            <a:off x="2346480" y="1959120"/>
            <a:ext cx="4248000" cy="801720"/>
          </a:xfrm>
          <a:prstGeom prst="pi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5"/>
          <p:cNvSpPr/>
          <p:nvPr/>
        </p:nvSpPr>
        <p:spPr>
          <a:xfrm>
            <a:off x="2709720" y="2776680"/>
            <a:ext cx="35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D PPT DESIG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http://ekko.ekkomediagroup.com/~custom/wheels_images/AF128/1224012188-AF128ChromeWheel.png"/>
          <p:cNvPicPr/>
          <p:nvPr/>
        </p:nvPicPr>
        <p:blipFill>
          <a:blip r:embed="rId1"/>
          <a:srcRect l="0" t="0" r="0" b="64663"/>
          <a:stretch/>
        </p:blipFill>
        <p:spPr>
          <a:xfrm>
            <a:off x="2674800" y="5589720"/>
            <a:ext cx="3589560" cy="1268280"/>
          </a:xfrm>
          <a:prstGeom prst="rect">
            <a:avLst/>
          </a:prstGeom>
          <a:ln w="0">
            <a:noFill/>
          </a:ln>
        </p:spPr>
      </p:pic>
      <p:sp>
        <p:nvSpPr>
          <p:cNvPr id="539" name="矩形 2"/>
          <p:cNvSpPr/>
          <p:nvPr/>
        </p:nvSpPr>
        <p:spPr>
          <a:xfrm>
            <a:off x="305928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6"/>
          <p:cNvSpPr/>
          <p:nvPr/>
        </p:nvSpPr>
        <p:spPr>
          <a:xfrm>
            <a:off x="250920" y="765000"/>
            <a:ext cx="873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的公司简介产品介绍幻灯片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梯形 4"/>
          <p:cNvSpPr/>
          <p:nvPr/>
        </p:nvSpPr>
        <p:spPr>
          <a:xfrm rot="16200000">
            <a:off x="6468120" y="4539240"/>
            <a:ext cx="1536480" cy="1871640"/>
          </a:xfrm>
          <a:custGeom>
            <a:avLst/>
            <a:gdLst/>
            <a:ahLst/>
            <a:rect l="l" t="t" r="r" b="b"/>
            <a:pathLst>
              <a:path w="1536700" h="1871662">
                <a:moveTo>
                  <a:pt x="0" y="1871662"/>
                </a:moveTo>
                <a:lnTo>
                  <a:pt x="365119" y="0"/>
                </a:lnTo>
                <a:lnTo>
                  <a:pt x="1171580" y="0"/>
                </a:lnTo>
                <a:lnTo>
                  <a:pt x="1536700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梯形 5"/>
          <p:cNvSpPr/>
          <p:nvPr/>
        </p:nvSpPr>
        <p:spPr>
          <a:xfrm rot="16200000">
            <a:off x="6379920" y="772920"/>
            <a:ext cx="1712880" cy="1871640"/>
          </a:xfrm>
          <a:custGeom>
            <a:avLst/>
            <a:gdLst/>
            <a:ahLst/>
            <a:rect l="l" t="t" r="r" b="b"/>
            <a:pathLst>
              <a:path w="1712912" h="1871662">
                <a:moveTo>
                  <a:pt x="0" y="1871662"/>
                </a:moveTo>
                <a:lnTo>
                  <a:pt x="428228" y="0"/>
                </a:lnTo>
                <a:lnTo>
                  <a:pt x="1284684" y="0"/>
                </a:lnTo>
                <a:lnTo>
                  <a:pt x="1712912" y="1871662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梯形 6"/>
          <p:cNvSpPr/>
          <p:nvPr/>
        </p:nvSpPr>
        <p:spPr>
          <a:xfrm flipH="1" rot="5400000">
            <a:off x="674280" y="2624040"/>
            <a:ext cx="3740400" cy="1749600"/>
          </a:xfrm>
          <a:custGeom>
            <a:avLst/>
            <a:gdLst/>
            <a:ahLst/>
            <a:rect l="l" t="t" r="r" b="b"/>
            <a:pathLst>
              <a:path w="3740150" h="1749425">
                <a:moveTo>
                  <a:pt x="0" y="1749425"/>
                </a:moveTo>
                <a:lnTo>
                  <a:pt x="475458" y="0"/>
                </a:lnTo>
                <a:lnTo>
                  <a:pt x="3264691" y="0"/>
                </a:lnTo>
                <a:lnTo>
                  <a:pt x="3740150" y="1749425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7"/>
          <p:cNvSpPr/>
          <p:nvPr/>
        </p:nvSpPr>
        <p:spPr>
          <a:xfrm>
            <a:off x="-795240" y="2852640"/>
            <a:ext cx="48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f7f7f"/>
                </a:solidFill>
                <a:latin typeface="Haettenschweiler"/>
                <a:ea typeface="宋体"/>
              </a:rPr>
              <a:t>CONT</a:t>
            </a:r>
            <a:r>
              <a:rPr b="0" lang="en-US" sz="7200" spc="-1" strike="noStrike">
                <a:solidFill>
                  <a:srgbClr val="ffffff"/>
                </a:solidFill>
                <a:latin typeface="Haettenschweiler"/>
                <a:ea typeface="宋体"/>
              </a:rPr>
              <a:t>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TextBox 8"/>
          <p:cNvSpPr/>
          <p:nvPr/>
        </p:nvSpPr>
        <p:spPr>
          <a:xfrm>
            <a:off x="3236040" y="10508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2d050"/>
                </a:solidFill>
                <a:latin typeface="Haettenschweiler"/>
              </a:rPr>
              <a:t>0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11"/>
          <p:cNvSpPr/>
          <p:nvPr/>
        </p:nvSpPr>
        <p:spPr>
          <a:xfrm>
            <a:off x="4159080" y="285264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f7f7f"/>
                </a:solidFill>
                <a:latin typeface="Haettenschweiler"/>
                <a:ea typeface="宋体"/>
              </a:rPr>
              <a:t>0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3303360" y="47070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c600"/>
                </a:solidFill>
                <a:latin typeface="Haettenschweiler"/>
              </a:rPr>
              <a:t>0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1"/>
          <p:cNvSpPr/>
          <p:nvPr/>
        </p:nvSpPr>
        <p:spPr>
          <a:xfrm>
            <a:off x="4693680" y="1465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微软雅黑"/>
                <a:ea typeface="微软雅黑"/>
              </a:rPr>
              <a:t>企业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0"/>
          <p:cNvSpPr/>
          <p:nvPr/>
        </p:nvSpPr>
        <p:spPr>
          <a:xfrm>
            <a:off x="5547960" y="327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介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13"/>
          <p:cNvSpPr/>
          <p:nvPr/>
        </p:nvSpPr>
        <p:spPr>
          <a:xfrm>
            <a:off x="4693680" y="508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4c600"/>
                </a:solidFill>
                <a:latin typeface="微软雅黑"/>
                <a:ea typeface="微软雅黑"/>
              </a:rPr>
              <a:t>销售渠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"/>
          <p:cNvSpPr/>
          <p:nvPr/>
        </p:nvSpPr>
        <p:spPr>
          <a:xfrm>
            <a:off x="4406760" y="1908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About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5261400" y="37227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15"/>
          <p:cNvSpPr/>
          <p:nvPr/>
        </p:nvSpPr>
        <p:spPr>
          <a:xfrm>
            <a:off x="4407840" y="559260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4c600"/>
                </a:solidFill>
                <a:latin typeface="Arial"/>
                <a:ea typeface="Arial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9"/>
          <p:cNvSpPr/>
          <p:nvPr/>
        </p:nvSpPr>
        <p:spPr>
          <a:xfrm>
            <a:off x="234360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梯形 6"/>
          <p:cNvSpPr/>
          <p:nvPr/>
        </p:nvSpPr>
        <p:spPr>
          <a:xfrm flipV="1" rot="5400000">
            <a:off x="4524840" y="2918880"/>
            <a:ext cx="4248360" cy="218304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983728" y="0"/>
                </a:lnTo>
                <a:lnTo>
                  <a:pt x="3264421" y="0"/>
                </a:lnTo>
                <a:lnTo>
                  <a:pt x="424815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梯形 5"/>
          <p:cNvSpPr/>
          <p:nvPr/>
        </p:nvSpPr>
        <p:spPr>
          <a:xfrm rot="5400000">
            <a:off x="1583280" y="2486520"/>
            <a:ext cx="424836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2" y="0"/>
                </a:lnTo>
                <a:lnTo>
                  <a:pt x="424815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梯形 3"/>
          <p:cNvSpPr/>
          <p:nvPr/>
        </p:nvSpPr>
        <p:spPr>
          <a:xfrm rot="5400000">
            <a:off x="1258560" y="2852640"/>
            <a:ext cx="4465440" cy="2160720"/>
          </a:xfrm>
          <a:custGeom>
            <a:avLst/>
            <a:gdLst/>
            <a:ahLst/>
            <a:rect l="l" t="t" r="r" b="b"/>
            <a:pathLst>
              <a:path w="4465637" h="2160587">
                <a:moveTo>
                  <a:pt x="0" y="2160587"/>
                </a:moveTo>
                <a:lnTo>
                  <a:pt x="782024" y="0"/>
                </a:lnTo>
                <a:lnTo>
                  <a:pt x="3683612" y="0"/>
                </a:lnTo>
                <a:lnTo>
                  <a:pt x="4465637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梯形 4"/>
          <p:cNvSpPr/>
          <p:nvPr/>
        </p:nvSpPr>
        <p:spPr>
          <a:xfrm rot="16200000">
            <a:off x="421236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7"/>
          <p:cNvSpPr/>
          <p:nvPr/>
        </p:nvSpPr>
        <p:spPr>
          <a:xfrm>
            <a:off x="3072240" y="252252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8"/>
          <p:cNvSpPr/>
          <p:nvPr/>
        </p:nvSpPr>
        <p:spPr>
          <a:xfrm>
            <a:off x="597024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9"/>
          <p:cNvSpPr/>
          <p:nvPr/>
        </p:nvSpPr>
        <p:spPr>
          <a:xfrm>
            <a:off x="2846880" y="38894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Box 10"/>
          <p:cNvSpPr/>
          <p:nvPr/>
        </p:nvSpPr>
        <p:spPr>
          <a:xfrm>
            <a:off x="579960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梯形 3"/>
          <p:cNvSpPr/>
          <p:nvPr/>
        </p:nvSpPr>
        <p:spPr>
          <a:xfrm flipV="1" rot="5400000">
            <a:off x="3996360" y="2030040"/>
            <a:ext cx="4248360" cy="3960720"/>
          </a:xfrm>
          <a:custGeom>
            <a:avLst/>
            <a:gdLst/>
            <a:ahLst/>
            <a:rect l="l" t="t" r="r" b="b"/>
            <a:pathLst>
              <a:path w="4248150" h="3960812">
                <a:moveTo>
                  <a:pt x="0" y="3960812"/>
                </a:moveTo>
                <a:lnTo>
                  <a:pt x="1571254" y="0"/>
                </a:lnTo>
                <a:lnTo>
                  <a:pt x="2676895" y="0"/>
                </a:lnTo>
                <a:lnTo>
                  <a:pt x="4248150" y="3960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梯形 4"/>
          <p:cNvSpPr/>
          <p:nvPr/>
        </p:nvSpPr>
        <p:spPr>
          <a:xfrm rot="16200000">
            <a:off x="4572720" y="220428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Box 5"/>
          <p:cNvSpPr/>
          <p:nvPr/>
        </p:nvSpPr>
        <p:spPr>
          <a:xfrm>
            <a:off x="6330600" y="1889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6159240" y="314964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梯形 7"/>
          <p:cNvSpPr/>
          <p:nvPr/>
        </p:nvSpPr>
        <p:spPr>
          <a:xfrm rot="16200000">
            <a:off x="2316960" y="273924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838372" y="0"/>
                </a:lnTo>
                <a:lnTo>
                  <a:pt x="3625677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Box 8"/>
          <p:cNvSpPr/>
          <p:nvPr/>
        </p:nvSpPr>
        <p:spPr>
          <a:xfrm>
            <a:off x="4076280" y="24224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Box 9"/>
          <p:cNvSpPr/>
          <p:nvPr/>
        </p:nvSpPr>
        <p:spPr>
          <a:xfrm>
            <a:off x="3904200" y="36846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梯形 10"/>
          <p:cNvSpPr/>
          <p:nvPr/>
        </p:nvSpPr>
        <p:spPr>
          <a:xfrm rot="5400000">
            <a:off x="143640" y="2456640"/>
            <a:ext cx="4248000" cy="2160720"/>
          </a:xfrm>
          <a:custGeom>
            <a:avLst/>
            <a:gdLst/>
            <a:ahLst/>
            <a:rect l="l" t="t" r="r" b="b"/>
            <a:pathLst>
              <a:path w="4248150" h="2160587">
                <a:moveTo>
                  <a:pt x="0" y="2160587"/>
                </a:moveTo>
                <a:lnTo>
                  <a:pt x="724877" y="0"/>
                </a:lnTo>
                <a:lnTo>
                  <a:pt x="3523272" y="0"/>
                </a:lnTo>
                <a:lnTo>
                  <a:pt x="4248150" y="216058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梯形 11"/>
          <p:cNvSpPr/>
          <p:nvPr/>
        </p:nvSpPr>
        <p:spPr>
          <a:xfrm rot="5400000">
            <a:off x="-180720" y="2823480"/>
            <a:ext cx="446436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782024" y="0"/>
                </a:lnTo>
                <a:lnTo>
                  <a:pt x="3682025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Box 12"/>
          <p:cNvSpPr/>
          <p:nvPr/>
        </p:nvSpPr>
        <p:spPr>
          <a:xfrm>
            <a:off x="1631520" y="249228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Box 13"/>
          <p:cNvSpPr/>
          <p:nvPr/>
        </p:nvSpPr>
        <p:spPr>
          <a:xfrm>
            <a:off x="1406880" y="385920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梯形 3"/>
          <p:cNvSpPr/>
          <p:nvPr/>
        </p:nvSpPr>
        <p:spPr>
          <a:xfrm flipV="1" rot="5400000">
            <a:off x="4923720" y="2800080"/>
            <a:ext cx="3917880" cy="2462040"/>
          </a:xfrm>
          <a:custGeom>
            <a:avLst/>
            <a:gdLst/>
            <a:ahLst/>
            <a:rect l="l" t="t" r="r" b="b"/>
            <a:pathLst>
              <a:path w="3917950" h="2462212">
                <a:moveTo>
                  <a:pt x="0" y="2462212"/>
                </a:moveTo>
                <a:lnTo>
                  <a:pt x="398952" y="0"/>
                </a:lnTo>
                <a:lnTo>
                  <a:pt x="3518997" y="0"/>
                </a:lnTo>
                <a:lnTo>
                  <a:pt x="3917950" y="24622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梯形 4"/>
          <p:cNvSpPr/>
          <p:nvPr/>
        </p:nvSpPr>
        <p:spPr>
          <a:xfrm rot="16200000">
            <a:off x="5352120" y="2307240"/>
            <a:ext cx="4465440" cy="2327400"/>
          </a:xfrm>
          <a:custGeom>
            <a:avLst/>
            <a:gdLst/>
            <a:ahLst/>
            <a:rect l="l" t="t" r="r" b="b"/>
            <a:pathLst>
              <a:path w="4465637" h="2327275">
                <a:moveTo>
                  <a:pt x="0" y="2327275"/>
                </a:moveTo>
                <a:lnTo>
                  <a:pt x="450769" y="0"/>
                </a:lnTo>
                <a:lnTo>
                  <a:pt x="4014867" y="0"/>
                </a:lnTo>
                <a:lnTo>
                  <a:pt x="4465637" y="2327275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5"/>
          <p:cNvSpPr/>
          <p:nvPr/>
        </p:nvSpPr>
        <p:spPr>
          <a:xfrm>
            <a:off x="7194240" y="207504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6659640" y="3335400"/>
            <a:ext cx="19382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梯形 7"/>
          <p:cNvSpPr/>
          <p:nvPr/>
        </p:nvSpPr>
        <p:spPr>
          <a:xfrm rot="16200000">
            <a:off x="2699640" y="2925000"/>
            <a:ext cx="446400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590683" y="0"/>
                </a:lnTo>
                <a:lnTo>
                  <a:pt x="3873366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8"/>
          <p:cNvSpPr/>
          <p:nvPr/>
        </p:nvSpPr>
        <p:spPr>
          <a:xfrm>
            <a:off x="4458960" y="26082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9"/>
          <p:cNvSpPr/>
          <p:nvPr/>
        </p:nvSpPr>
        <p:spPr>
          <a:xfrm>
            <a:off x="4287600" y="387036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图表 14" descr=""/>
          <p:cNvPicPr/>
          <p:nvPr/>
        </p:nvPicPr>
        <p:blipFill>
          <a:blip r:embed="rId1"/>
          <a:stretch/>
        </p:blipFill>
        <p:spPr>
          <a:xfrm>
            <a:off x="284040" y="2577960"/>
            <a:ext cx="3089520" cy="2459160"/>
          </a:xfrm>
          <a:prstGeom prst="rect">
            <a:avLst/>
          </a:prstGeom>
          <a:ln w="0">
            <a:noFill/>
          </a:ln>
        </p:spPr>
      </p:pic>
      <p:sp>
        <p:nvSpPr>
          <p:cNvPr id="586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6" descr=""/>
          <p:cNvPicPr/>
          <p:nvPr/>
        </p:nvPicPr>
        <p:blipFill>
          <a:blip r:embed="rId1"/>
          <a:stretch/>
        </p:blipFill>
        <p:spPr>
          <a:xfrm>
            <a:off x="3193920" y="1641600"/>
            <a:ext cx="2035440" cy="78930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8" descr=""/>
          <p:cNvPicPr/>
          <p:nvPr/>
        </p:nvPicPr>
        <p:blipFill>
          <a:blip r:embed="rId2"/>
          <a:stretch/>
        </p:blipFill>
        <p:spPr>
          <a:xfrm>
            <a:off x="479520" y="1676520"/>
            <a:ext cx="2314440" cy="7597800"/>
          </a:xfrm>
          <a:prstGeom prst="rect">
            <a:avLst/>
          </a:prstGeom>
          <a:ln w="0">
            <a:noFill/>
          </a:ln>
        </p:spPr>
      </p:pic>
      <p:sp>
        <p:nvSpPr>
          <p:cNvPr id="589" name="梯形 9"/>
          <p:cNvSpPr/>
          <p:nvPr/>
        </p:nvSpPr>
        <p:spPr>
          <a:xfrm flipV="1" rot="5400000">
            <a:off x="4983840" y="3128040"/>
            <a:ext cx="4248000" cy="2182680"/>
          </a:xfrm>
          <a:custGeom>
            <a:avLst/>
            <a:gdLst/>
            <a:ahLst/>
            <a:rect l="l" t="t" r="r" b="b"/>
            <a:pathLst>
              <a:path w="4248150" h="2182812">
                <a:moveTo>
                  <a:pt x="0" y="2182812"/>
                </a:moveTo>
                <a:lnTo>
                  <a:pt x="716944" y="0"/>
                </a:lnTo>
                <a:lnTo>
                  <a:pt x="3531205" y="0"/>
                </a:lnTo>
                <a:lnTo>
                  <a:pt x="4248150" y="2182812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梯形 10"/>
          <p:cNvSpPr/>
          <p:nvPr/>
        </p:nvSpPr>
        <p:spPr>
          <a:xfrm rot="16200000">
            <a:off x="4539240" y="2599560"/>
            <a:ext cx="4464000" cy="216036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609739" y="0"/>
                </a:lnTo>
                <a:lnTo>
                  <a:pt x="3854310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11"/>
          <p:cNvSpPr/>
          <p:nvPr/>
        </p:nvSpPr>
        <p:spPr>
          <a:xfrm>
            <a:off x="6298920" y="228456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9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2"/>
          <p:cNvSpPr/>
          <p:nvPr/>
        </p:nvSpPr>
        <p:spPr>
          <a:xfrm>
            <a:off x="6127560" y="35449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9600" y="388440"/>
            <a:ext cx="432612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梯形 7"/>
          <p:cNvSpPr/>
          <p:nvPr/>
        </p:nvSpPr>
        <p:spPr>
          <a:xfrm rot="5400000">
            <a:off x="1434240" y="1632600"/>
            <a:ext cx="4249800" cy="3743280"/>
          </a:xfrm>
          <a:custGeom>
            <a:avLst/>
            <a:gdLst/>
            <a:ahLst/>
            <a:rect l="l" t="t" r="r" b="b"/>
            <a:pathLst>
              <a:path w="4249737" h="3743325">
                <a:moveTo>
                  <a:pt x="0" y="3743325"/>
                </a:moveTo>
                <a:lnTo>
                  <a:pt x="1255885" y="0"/>
                </a:lnTo>
                <a:lnTo>
                  <a:pt x="2993851" y="0"/>
                </a:lnTo>
                <a:lnTo>
                  <a:pt x="4249737" y="3743325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梯形 8"/>
          <p:cNvSpPr/>
          <p:nvPr/>
        </p:nvSpPr>
        <p:spPr>
          <a:xfrm rot="5400000">
            <a:off x="4086720" y="2656440"/>
            <a:ext cx="4464360" cy="2160720"/>
          </a:xfrm>
          <a:custGeom>
            <a:avLst/>
            <a:gdLst/>
            <a:ahLst/>
            <a:rect l="l" t="t" r="r" b="b"/>
            <a:pathLst>
              <a:path w="4464050" h="2160587">
                <a:moveTo>
                  <a:pt x="0" y="2160587"/>
                </a:moveTo>
                <a:lnTo>
                  <a:pt x="782024" y="0"/>
                </a:lnTo>
                <a:lnTo>
                  <a:pt x="3682025" y="0"/>
                </a:lnTo>
                <a:lnTo>
                  <a:pt x="4464050" y="2160587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9"/>
          <p:cNvSpPr/>
          <p:nvPr/>
        </p:nvSpPr>
        <p:spPr>
          <a:xfrm>
            <a:off x="5900400" y="2325600"/>
            <a:ext cx="18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ettenschweiler"/>
              </a:rPr>
              <a:t>5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0"/>
          <p:cNvSpPr/>
          <p:nvPr/>
        </p:nvSpPr>
        <p:spPr>
          <a:xfrm>
            <a:off x="5674320" y="3692520"/>
            <a:ext cx="128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梯形 11"/>
          <p:cNvSpPr/>
          <p:nvPr/>
        </p:nvSpPr>
        <p:spPr>
          <a:xfrm rot="5400000">
            <a:off x="786960" y="1919160"/>
            <a:ext cx="4464000" cy="3816360"/>
          </a:xfrm>
          <a:custGeom>
            <a:avLst/>
            <a:gdLst/>
            <a:ahLst/>
            <a:rect l="l" t="t" r="r" b="b"/>
            <a:pathLst>
              <a:path w="4464050" h="3816350">
                <a:moveTo>
                  <a:pt x="0" y="3816350"/>
                </a:moveTo>
                <a:lnTo>
                  <a:pt x="1076516" y="0"/>
                </a:lnTo>
                <a:lnTo>
                  <a:pt x="3387533" y="0"/>
                </a:lnTo>
                <a:lnTo>
                  <a:pt x="4464050" y="3816350"/>
                </a:lnTo>
                <a:close/>
              </a:path>
            </a:pathLst>
          </a:cu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1446120" y="2489040"/>
            <a:ext cx="2784600" cy="36212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4"/>
          <p:cNvSpPr/>
          <p:nvPr/>
        </p:nvSpPr>
        <p:spPr>
          <a:xfrm>
            <a:off x="2009880" y="2544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数据说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标题 1"/>
          <p:cNvSpPr/>
          <p:nvPr/>
        </p:nvSpPr>
        <p:spPr>
          <a:xfrm>
            <a:off x="399960" y="388800"/>
            <a:ext cx="43261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09465"/>
                </a:solidFill>
                <a:latin typeface="微软雅黑"/>
                <a:ea typeface="微软雅黑"/>
              </a:rPr>
              <a:t>在此录入文字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文本框 8199"/>
          <p:cNvSpPr/>
          <p:nvPr/>
        </p:nvSpPr>
        <p:spPr>
          <a:xfrm>
            <a:off x="1619280" y="260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682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E224-818C-4B19-9694-258170607B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梯形 9"/>
          <p:cNvSpPr/>
          <p:nvPr/>
        </p:nvSpPr>
        <p:spPr>
          <a:xfrm flipV="1" rot="5400000">
            <a:off x="2795760" y="1662480"/>
            <a:ext cx="3678120" cy="3475080"/>
          </a:xfrm>
          <a:custGeom>
            <a:avLst/>
            <a:gdLst/>
            <a:ahLst/>
            <a:rect l="l" t="t" r="r" b="b"/>
            <a:pathLst>
              <a:path w="3678237" h="3475037">
                <a:moveTo>
                  <a:pt x="0" y="3475037"/>
                </a:moveTo>
                <a:lnTo>
                  <a:pt x="978952" y="0"/>
                </a:lnTo>
                <a:lnTo>
                  <a:pt x="2699284" y="0"/>
                </a:lnTo>
                <a:lnTo>
                  <a:pt x="3678237" y="3475037"/>
                </a:lnTo>
                <a:close/>
              </a:path>
            </a:pathLst>
          </a:custGeom>
          <a:solidFill>
            <a:srgbClr val="4a6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梯形 3"/>
          <p:cNvSpPr/>
          <p:nvPr/>
        </p:nvSpPr>
        <p:spPr>
          <a:xfrm flipV="1" rot="5400000">
            <a:off x="2746080" y="1412640"/>
            <a:ext cx="3291120" cy="3529080"/>
          </a:xfrm>
          <a:custGeom>
            <a:avLst/>
            <a:gdLst/>
            <a:ahLst/>
            <a:rect l="l" t="t" r="r" b="b"/>
            <a:pathLst>
              <a:path w="3290887" h="3529012">
                <a:moveTo>
                  <a:pt x="0" y="3529012"/>
                </a:moveTo>
                <a:lnTo>
                  <a:pt x="906869" y="0"/>
                </a:lnTo>
                <a:lnTo>
                  <a:pt x="2384017" y="0"/>
                </a:lnTo>
                <a:lnTo>
                  <a:pt x="3290887" y="3529012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marL="285840" indent="-285840" algn="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2712240" y="275436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e883"/>
                </a:solidFill>
                <a:latin typeface="Haettenschweiler"/>
              </a:rPr>
              <a:t>ONE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同侧圆角矩形 10"/>
          <p:cNvSpPr/>
          <p:nvPr/>
        </p:nvSpPr>
        <p:spPr>
          <a:xfrm>
            <a:off x="4861080" y="2906640"/>
            <a:ext cx="811080" cy="406440"/>
          </a:xfrm>
          <a:custGeom>
            <a:avLst/>
            <a:gdLst/>
            <a:ahLst/>
            <a:rect l="l" t="t" r="r" b="b"/>
            <a:pathLst>
              <a:path w="1008112" h="504056">
                <a:moveTo>
                  <a:pt x="297916" y="0"/>
                </a:moveTo>
                <a:lnTo>
                  <a:pt x="413473" y="0"/>
                </a:lnTo>
                <a:cubicBezTo>
                  <a:pt x="395124" y="19992"/>
                  <a:pt x="380823" y="47352"/>
                  <a:pt x="371503" y="78619"/>
                </a:cubicBezTo>
                <a:cubicBezTo>
                  <a:pt x="346705" y="161807"/>
                  <a:pt x="366554" y="241155"/>
                  <a:pt x="415835" y="255845"/>
                </a:cubicBezTo>
                <a:cubicBezTo>
                  <a:pt x="398348" y="211914"/>
                  <a:pt x="398453" y="151182"/>
                  <a:pt x="416119" y="91918"/>
                </a:cubicBezTo>
                <a:cubicBezTo>
                  <a:pt x="426458" y="57231"/>
                  <a:pt x="442107" y="25417"/>
                  <a:pt x="461688" y="0"/>
                </a:cubicBezTo>
                <a:lnTo>
                  <a:pt x="551488" y="0"/>
                </a:lnTo>
                <a:cubicBezTo>
                  <a:pt x="533139" y="19992"/>
                  <a:pt x="518838" y="47352"/>
                  <a:pt x="509518" y="78619"/>
                </a:cubicBezTo>
                <a:cubicBezTo>
                  <a:pt x="484720" y="161807"/>
                  <a:pt x="504569" y="241155"/>
                  <a:pt x="553850" y="255845"/>
                </a:cubicBezTo>
                <a:cubicBezTo>
                  <a:pt x="536363" y="211914"/>
                  <a:pt x="536468" y="151182"/>
                  <a:pt x="554134" y="91918"/>
                </a:cubicBezTo>
                <a:cubicBezTo>
                  <a:pt x="564473" y="57231"/>
                  <a:pt x="580122" y="25417"/>
                  <a:pt x="599703" y="0"/>
                </a:cubicBezTo>
                <a:lnTo>
                  <a:pt x="671045" y="0"/>
                </a:lnTo>
                <a:cubicBezTo>
                  <a:pt x="656870" y="18370"/>
                  <a:pt x="645856" y="41413"/>
                  <a:pt x="638202" y="67092"/>
                </a:cubicBezTo>
                <a:cubicBezTo>
                  <a:pt x="613404" y="150280"/>
                  <a:pt x="633253" y="229628"/>
                  <a:pt x="682534" y="244318"/>
                </a:cubicBezTo>
                <a:cubicBezTo>
                  <a:pt x="665047" y="200387"/>
                  <a:pt x="665152" y="139655"/>
                  <a:pt x="682818" y="80391"/>
                </a:cubicBezTo>
                <a:cubicBezTo>
                  <a:pt x="691616" y="50875"/>
                  <a:pt x="704259" y="23438"/>
                  <a:pt x="719555" y="0"/>
                </a:cubicBezTo>
                <a:lnTo>
                  <a:pt x="756084" y="0"/>
                </a:lnTo>
                <a:cubicBezTo>
                  <a:pt x="780542" y="0"/>
                  <a:pt x="804185" y="3484"/>
                  <a:pt x="826214" y="11123"/>
                </a:cubicBezTo>
                <a:lnTo>
                  <a:pt x="801973" y="67092"/>
                </a:lnTo>
                <a:cubicBezTo>
                  <a:pt x="777175" y="150280"/>
                  <a:pt x="797024" y="229628"/>
                  <a:pt x="846305" y="244318"/>
                </a:cubicBezTo>
                <a:cubicBezTo>
                  <a:pt x="828818" y="200387"/>
                  <a:pt x="828923" y="139655"/>
                  <a:pt x="846589" y="80391"/>
                </a:cubicBezTo>
                <a:cubicBezTo>
                  <a:pt x="852169" y="61669"/>
                  <a:pt x="859297" y="43784"/>
                  <a:pt x="870282" y="28543"/>
                </a:cubicBezTo>
                <a:cubicBezTo>
                  <a:pt x="952313" y="69297"/>
                  <a:pt x="1008112" y="154146"/>
                  <a:pt x="1008112" y="252028"/>
                </a:cubicBezTo>
                <a:lnTo>
                  <a:pt x="1008112" y="504056"/>
                </a:lnTo>
                <a:lnTo>
                  <a:pt x="0" y="504056"/>
                </a:lnTo>
                <a:lnTo>
                  <a:pt x="0" y="252028"/>
                </a:lnTo>
                <a:cubicBezTo>
                  <a:pt x="0" y="113682"/>
                  <a:pt x="111472" y="1371"/>
                  <a:pt x="249499" y="255"/>
                </a:cubicBezTo>
                <a:cubicBezTo>
                  <a:pt x="231237" y="20213"/>
                  <a:pt x="217014" y="47478"/>
                  <a:pt x="207731" y="78619"/>
                </a:cubicBezTo>
                <a:cubicBezTo>
                  <a:pt x="182934" y="161807"/>
                  <a:pt x="202782" y="241155"/>
                  <a:pt x="252063" y="255845"/>
                </a:cubicBezTo>
                <a:cubicBezTo>
                  <a:pt x="234576" y="211914"/>
                  <a:pt x="234681" y="151182"/>
                  <a:pt x="252347" y="91918"/>
                </a:cubicBezTo>
                <a:cubicBezTo>
                  <a:pt x="262687" y="57231"/>
                  <a:pt x="278336" y="25417"/>
                  <a:pt x="29791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5602680" y="27766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9T11:18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17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