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B2E-D082-4F38-9981-CB77B9BC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120E-9F7D-44D7-810B-D2EBD7E9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B2EA-664D-4603-97B9-F61CE58A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92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744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92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606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373A-447E-4FA7-99D4-A4DFD107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DD3B-0C0A-42C0-8D53-AE98052E7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4AAE-7E37-49BA-8093-1519646A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F8AE-3A54-4E6C-A46B-A9256CDF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218D-D065-4026-86AF-1BD3681F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4924-E97A-489A-B93A-D5811BBD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96680" y="47592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D654-F50D-4E8E-8973-24C0E6AF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F18F-2D0C-42BA-B8C7-2E8CC74A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C7F1-2C8A-4DC2-BEBE-FC98F742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6B6C-4D94-4AAE-9D57-0AEE4699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BCF6-C681-46A2-AB66-70135BAA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2902-0C49-4C00-9E69-7E5BE409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F149-FD85-4163-B33B-31363E3F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3192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744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3192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606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3111-30DC-42CF-8A69-1212E369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170FB-65FE-4F08-A8E7-FB2AA7B2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B34DD-8941-4D64-95D8-F7394625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B6845-8641-49FE-ADF2-1BA4F57D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AAB72-E268-445E-BF25-BA4755FE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FCA77-A760-4B9D-9B6C-F3F46BC2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4BC-15A8-44ED-B976-91D7DB4B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696680" y="47592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CE86A-AB13-4C21-9A61-11037C8B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0EC53-9524-4E1B-803B-06CBF803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89333-4250-4CEB-AF19-BEE56D43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C00E9-9A7F-49ED-81D0-1765ABC6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18371-5575-4151-842D-7824609D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2208F-2787-4E21-B2C3-83FEC3DE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92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7744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92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606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9A0FC-CD37-46BE-9C98-8930BE46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6E6EE-49C1-4121-A244-EAC67398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74845-CF56-44EB-93D7-400D37B1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B58AA-D7B8-47CD-A0A2-AB8821DC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EC42-00B8-4BF1-AF8D-B299DB91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01E92-9B34-4274-B285-BEB5F96A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ACCD2-1AA3-4CFD-95EB-7E734F6D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696680" y="47592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39EF3-5EBD-4A2B-B8A3-DC41A038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D0705-07E8-4A57-A9E4-2C069268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FCAAD-0861-4675-AC4D-332CBF96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E347B-9F9F-4524-BC45-70A9D553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349FC-2098-438E-9C7D-A6E0B3E0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01D73-C949-4D6E-95C5-F9192B2F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92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7744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92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606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F1877-048F-4FAE-AF42-D298FD09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6DB77-F861-4728-8E76-5C656C90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BE3-B26F-41E4-9219-52CD92A6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FE284-06A3-4AAC-903B-C69260E6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53202-C4DA-4CA7-AE37-E1BEE7F3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B6A14-5F9F-4717-A8C6-514149BA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DE22F-444E-4CB8-BBEE-9160AD67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696680" y="47592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5A953-3E3E-4C13-90AF-329E875C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96A8D-64E2-41D4-BF41-8230A0B7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796E9-E7DF-431C-BA81-1BCA9B52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AAB0B-0580-44DA-99D5-C34D2B9C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A7773-532D-4ED3-9745-47D0DCF6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9ED3B-0ECF-4A4F-AEA3-50866931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96680" y="47592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A65E-95D4-45A3-AE0B-E5F3E381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92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7744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92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606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F0338-2305-4CD6-AAEE-AFD711C7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2CC9B-8853-4EA4-864E-AF8B5DC0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818C6-C032-4E7C-BCB1-5C60755D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79268-FC6F-4C13-A29A-3B682EA2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9E642-3F61-4BC8-805E-1184C840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BE077-DB8C-48F8-89D5-A5F6FAEE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696680" y="47592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6068A-6C0A-4D17-9954-2E46B7DE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D4CF7-45FE-4E35-B872-8871D558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EE731-2BD1-4CBE-9F7C-2874E98B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CC97B-C4EC-478F-92B0-7BC7A64A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364-7B75-439E-B0E1-C022DE15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BC84B-0545-48E2-AB0F-9699EDA7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6C2F2-0EA1-412A-8AC3-54417E1C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192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7744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3192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606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FE2C2-F441-4D0B-B2EA-68F5E4B6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F8D86-9C8B-4CBE-9B47-F06CBB35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1CCA8-0593-43CA-AC3E-869D6853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94CC9-3C6E-4BA2-B548-D8E73681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8EE47-0843-47D6-8D01-58108B14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CD944-6EC1-4381-A60D-1E68B585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696680" y="47592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60E6C-60B0-49C4-9FD9-B4CA988D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5E1C8-3E41-44A6-97C0-3DBABE20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F40-6D82-4FB7-8CA3-31D9B481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910E7-2E6F-43A4-9640-B794627E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62C50-2F0E-4C6D-90B7-EA8175CD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1A559-01CF-42BC-8809-ABD0B355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732920" y="401220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FCC9F-E8D5-46C2-B547-7BA9C6E6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192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7744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192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60600" y="4012200"/>
            <a:ext cx="26107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B1E27-0B9D-4188-B5DF-B6072581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744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2920" y="1700280"/>
            <a:ext cx="39571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7440" y="4012200"/>
            <a:ext cx="81090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340-397E-44BA-AE6A-99009A92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5"/>
          <p:cNvGrpSpPr/>
          <p:nvPr/>
        </p:nvGrpSpPr>
        <p:grpSpPr>
          <a:xfrm>
            <a:off x="0" y="5979960"/>
            <a:ext cx="9144000" cy="878040"/>
            <a:chOff x="0" y="5979960"/>
            <a:chExt cx="9144000" cy="878040"/>
          </a:xfrm>
        </p:grpSpPr>
        <p:sp>
          <p:nvSpPr>
            <p:cNvPr id="1" name="矩形​​ 14"/>
            <p:cNvSpPr/>
            <p:nvPr/>
          </p:nvSpPr>
          <p:spPr>
            <a:xfrm>
              <a:off x="0" y="6566040"/>
              <a:ext cx="9144000" cy="2919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矩形​​ 14"/>
            <p:cNvSpPr/>
            <p:nvPr/>
          </p:nvSpPr>
          <p:spPr>
            <a:xfrm>
              <a:off x="0" y="6271920"/>
              <a:ext cx="9144000" cy="290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矩形​​ 14"/>
            <p:cNvSpPr/>
            <p:nvPr/>
          </p:nvSpPr>
          <p:spPr>
            <a:xfrm>
              <a:off x="0" y="5979960"/>
              <a:ext cx="9144000" cy="291960"/>
            </a:xfrm>
            <a:prstGeom prst="rect">
              <a:avLst/>
            </a:prstGeom>
            <a:solidFill>
              <a:srgbClr val="1c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DC71-D8F7-4AFE-B162-E4CA39B229D2}" type="datetime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3B0B-6C60-49E8-A7F5-742C22E1A1BB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直接连接符​​ 5"/>
          <p:cNvSpPr/>
          <p:nvPr/>
        </p:nvSpPr>
        <p:spPr>
          <a:xfrm>
            <a:off x="1908000" y="1446120"/>
            <a:ext cx="67075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​​ 14"/>
          <p:cNvSpPr/>
          <p:nvPr/>
        </p:nvSpPr>
        <p:spPr>
          <a:xfrm>
            <a:off x="3240" y="5950080"/>
            <a:ext cx="9140760" cy="907920"/>
          </a:xfrm>
          <a:prstGeom prst="rect">
            <a:avLst/>
          </a:prstGeom>
          <a:solidFill>
            <a:srgbClr val="9dcf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2050"/>
          <p:cNvGrpSpPr/>
          <p:nvPr/>
        </p:nvGrpSpPr>
        <p:grpSpPr>
          <a:xfrm>
            <a:off x="1065240" y="4584600"/>
            <a:ext cx="1125360" cy="1123920"/>
            <a:chOff x="1065240" y="4584600"/>
            <a:chExt cx="1125360" cy="1123920"/>
          </a:xfrm>
        </p:grpSpPr>
        <p:sp>
          <p:nvSpPr>
            <p:cNvPr id="48" name="椭圆​​ 26"/>
            <p:cNvSpPr/>
            <p:nvPr/>
          </p:nvSpPr>
          <p:spPr>
            <a:xfrm>
              <a:off x="1065240" y="4584600"/>
              <a:ext cx="1125360" cy="1123920"/>
            </a:xfrm>
            <a:prstGeom prst="ellipse">
              <a:avLst/>
            </a:prstGeom>
            <a:solidFill>
              <a:srgbClr val="57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​​ 27"/>
            <p:cNvSpPr/>
            <p:nvPr/>
          </p:nvSpPr>
          <p:spPr>
            <a:xfrm>
              <a:off x="1171440" y="4690800"/>
              <a:ext cx="893880" cy="89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2053"/>
          <p:cNvGrpSpPr/>
          <p:nvPr/>
        </p:nvGrpSpPr>
        <p:grpSpPr>
          <a:xfrm>
            <a:off x="6348240" y="447840"/>
            <a:ext cx="581040" cy="581040"/>
            <a:chOff x="6348240" y="447840"/>
            <a:chExt cx="581040" cy="581040"/>
          </a:xfrm>
        </p:grpSpPr>
        <p:sp>
          <p:nvSpPr>
            <p:cNvPr id="51" name="椭圆​​ 29"/>
            <p:cNvSpPr/>
            <p:nvPr/>
          </p:nvSpPr>
          <p:spPr>
            <a:xfrm>
              <a:off x="6348240" y="447840"/>
              <a:ext cx="581040" cy="581040"/>
            </a:xfrm>
            <a:prstGeom prst="ellipse">
              <a:avLst/>
            </a:prstGeom>
            <a:solidFill>
              <a:srgbClr val="57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​​ 30"/>
            <p:cNvSpPr/>
            <p:nvPr/>
          </p:nvSpPr>
          <p:spPr>
            <a:xfrm>
              <a:off x="6402240" y="501840"/>
              <a:ext cx="462240" cy="46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2056"/>
          <p:cNvGrpSpPr/>
          <p:nvPr/>
        </p:nvGrpSpPr>
        <p:grpSpPr>
          <a:xfrm>
            <a:off x="5794200" y="725400"/>
            <a:ext cx="1076400" cy="1077840"/>
            <a:chOff x="5794200" y="725400"/>
            <a:chExt cx="1076400" cy="1077840"/>
          </a:xfrm>
        </p:grpSpPr>
        <p:sp>
          <p:nvSpPr>
            <p:cNvPr id="54" name="椭圆​​ 16"/>
            <p:cNvSpPr/>
            <p:nvPr/>
          </p:nvSpPr>
          <p:spPr>
            <a:xfrm>
              <a:off x="5794200" y="725400"/>
              <a:ext cx="1076400" cy="107784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​​ 17"/>
            <p:cNvSpPr/>
            <p:nvPr/>
          </p:nvSpPr>
          <p:spPr>
            <a:xfrm>
              <a:off x="5895720" y="826920"/>
              <a:ext cx="854280" cy="85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2059"/>
          <p:cNvGrpSpPr/>
          <p:nvPr/>
        </p:nvGrpSpPr>
        <p:grpSpPr>
          <a:xfrm>
            <a:off x="6500880" y="568440"/>
            <a:ext cx="1454040" cy="1454040"/>
            <a:chOff x="6500880" y="568440"/>
            <a:chExt cx="1454040" cy="1454040"/>
          </a:xfrm>
        </p:grpSpPr>
        <p:sp>
          <p:nvSpPr>
            <p:cNvPr id="57" name="椭圆​​ 20"/>
            <p:cNvSpPr/>
            <p:nvPr/>
          </p:nvSpPr>
          <p:spPr>
            <a:xfrm>
              <a:off x="6500880" y="568440"/>
              <a:ext cx="1454040" cy="1454040"/>
            </a:xfrm>
            <a:prstGeom prst="ellipse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​​ 21"/>
            <p:cNvSpPr/>
            <p:nvPr/>
          </p:nvSpPr>
          <p:spPr>
            <a:xfrm>
              <a:off x="6637320" y="704880"/>
              <a:ext cx="1155600" cy="1155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矩形​​ 12"/>
          <p:cNvSpPr/>
          <p:nvPr/>
        </p:nvSpPr>
        <p:spPr>
          <a:xfrm>
            <a:off x="781200" y="1295280"/>
            <a:ext cx="7561080" cy="3748320"/>
          </a:xfrm>
          <a:prstGeom prst="rect">
            <a:avLst/>
          </a:prstGeom>
          <a:solidFill>
            <a:srgbClr val="ffffff"/>
          </a:solidFill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​​ 15"/>
          <p:cNvSpPr/>
          <p:nvPr/>
        </p:nvSpPr>
        <p:spPr>
          <a:xfrm>
            <a:off x="4284720" y="4862520"/>
            <a:ext cx="3887640" cy="360360"/>
          </a:xfrm>
          <a:prstGeom prst="rect">
            <a:avLst/>
          </a:prstGeom>
          <a:solidFill>
            <a:srgbClr val="1cd0ff"/>
          </a:solidFill>
          <a:ln w="25560">
            <a:solidFill>
              <a:srgbClr val="1cd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2064"/>
          <p:cNvGrpSpPr/>
          <p:nvPr/>
        </p:nvGrpSpPr>
        <p:grpSpPr>
          <a:xfrm>
            <a:off x="2847960" y="447840"/>
            <a:ext cx="244440" cy="244440"/>
            <a:chOff x="2847960" y="447840"/>
            <a:chExt cx="244440" cy="244440"/>
          </a:xfrm>
        </p:grpSpPr>
        <p:sp>
          <p:nvSpPr>
            <p:cNvPr id="62" name="椭圆​​ 40"/>
            <p:cNvSpPr/>
            <p:nvPr/>
          </p:nvSpPr>
          <p:spPr>
            <a:xfrm>
              <a:off x="2847960" y="447840"/>
              <a:ext cx="244440" cy="244440"/>
            </a:xfrm>
            <a:prstGeom prst="ellipse">
              <a:avLst/>
            </a:prstGeom>
            <a:solidFill>
              <a:srgbClr val="57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​​ 41"/>
            <p:cNvSpPr/>
            <p:nvPr/>
          </p:nvSpPr>
          <p:spPr>
            <a:xfrm>
              <a:off x="2869920" y="469800"/>
              <a:ext cx="195480" cy="19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​​ 13"/>
          <p:cNvSpPr/>
          <p:nvPr/>
        </p:nvSpPr>
        <p:spPr>
          <a:xfrm>
            <a:off x="996840" y="1197000"/>
            <a:ext cx="4438800" cy="360360"/>
          </a:xfrm>
          <a:prstGeom prst="rect">
            <a:avLst/>
          </a:prstGeom>
          <a:solidFill>
            <a:srgbClr val="ffd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D63D-3059-4DAA-AA13-C25D04CBF6B6}" type="datetime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F150-91FE-4BD8-9446-10D055B2557C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3073"/>
          <p:cNvGrpSpPr/>
          <p:nvPr/>
        </p:nvGrpSpPr>
        <p:grpSpPr>
          <a:xfrm>
            <a:off x="0" y="5979960"/>
            <a:ext cx="9144000" cy="878040"/>
            <a:chOff x="0" y="5979960"/>
            <a:chExt cx="9144000" cy="878040"/>
          </a:xfrm>
        </p:grpSpPr>
        <p:sp>
          <p:nvSpPr>
            <p:cNvPr id="107" name="矩形​​ 14"/>
            <p:cNvSpPr/>
            <p:nvPr/>
          </p:nvSpPr>
          <p:spPr>
            <a:xfrm>
              <a:off x="0" y="6566040"/>
              <a:ext cx="9144000" cy="2919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​​ 14"/>
            <p:cNvSpPr/>
            <p:nvPr/>
          </p:nvSpPr>
          <p:spPr>
            <a:xfrm>
              <a:off x="0" y="6271920"/>
              <a:ext cx="9144000" cy="290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​​ 14"/>
            <p:cNvSpPr/>
            <p:nvPr/>
          </p:nvSpPr>
          <p:spPr>
            <a:xfrm>
              <a:off x="0" y="5979960"/>
              <a:ext cx="9144000" cy="291960"/>
            </a:xfrm>
            <a:prstGeom prst="rect">
              <a:avLst/>
            </a:prstGeom>
            <a:solidFill>
              <a:srgbClr val="1c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直接连接符​​ 5"/>
          <p:cNvSpPr/>
          <p:nvPr/>
        </p:nvSpPr>
        <p:spPr>
          <a:xfrm>
            <a:off x="1908000" y="1446120"/>
            <a:ext cx="67075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3078"/>
          <p:cNvGrpSpPr/>
          <p:nvPr/>
        </p:nvGrpSpPr>
        <p:grpSpPr>
          <a:xfrm>
            <a:off x="571680" y="407880"/>
            <a:ext cx="477720" cy="478080"/>
            <a:chOff x="571680" y="407880"/>
            <a:chExt cx="477720" cy="478080"/>
          </a:xfrm>
        </p:grpSpPr>
        <p:sp>
          <p:nvSpPr>
            <p:cNvPr id="112" name="椭圆​​ 29"/>
            <p:cNvSpPr/>
            <p:nvPr/>
          </p:nvSpPr>
          <p:spPr>
            <a:xfrm>
              <a:off x="571680" y="407880"/>
              <a:ext cx="477720" cy="478080"/>
            </a:xfrm>
            <a:prstGeom prst="ellipse">
              <a:avLst/>
            </a:prstGeom>
            <a:solidFill>
              <a:srgbClr val="57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​​ 30"/>
            <p:cNvSpPr/>
            <p:nvPr/>
          </p:nvSpPr>
          <p:spPr>
            <a:xfrm>
              <a:off x="615960" y="452160"/>
              <a:ext cx="379440" cy="379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3081"/>
          <p:cNvGrpSpPr/>
          <p:nvPr/>
        </p:nvGrpSpPr>
        <p:grpSpPr>
          <a:xfrm>
            <a:off x="152280" y="692280"/>
            <a:ext cx="885960" cy="887400"/>
            <a:chOff x="152280" y="692280"/>
            <a:chExt cx="885960" cy="887400"/>
          </a:xfrm>
        </p:grpSpPr>
        <p:sp>
          <p:nvSpPr>
            <p:cNvPr id="115" name="椭圆​​ 16"/>
            <p:cNvSpPr/>
            <p:nvPr/>
          </p:nvSpPr>
          <p:spPr>
            <a:xfrm>
              <a:off x="152280" y="692280"/>
              <a:ext cx="885960" cy="8874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​​ 17"/>
            <p:cNvSpPr/>
            <p:nvPr/>
          </p:nvSpPr>
          <p:spPr>
            <a:xfrm>
              <a:off x="236160" y="776160"/>
              <a:ext cx="702000" cy="703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3084"/>
          <p:cNvGrpSpPr/>
          <p:nvPr/>
        </p:nvGrpSpPr>
        <p:grpSpPr>
          <a:xfrm>
            <a:off x="723960" y="498600"/>
            <a:ext cx="1197000" cy="1197000"/>
            <a:chOff x="723960" y="498600"/>
            <a:chExt cx="1197000" cy="1197000"/>
          </a:xfrm>
        </p:grpSpPr>
        <p:sp>
          <p:nvSpPr>
            <p:cNvPr id="118" name="椭圆​​ 20"/>
            <p:cNvSpPr/>
            <p:nvPr/>
          </p:nvSpPr>
          <p:spPr>
            <a:xfrm>
              <a:off x="723960" y="498600"/>
              <a:ext cx="1197000" cy="1197000"/>
            </a:xfrm>
            <a:prstGeom prst="ellipse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​​ 21"/>
            <p:cNvSpPr/>
            <p:nvPr/>
          </p:nvSpPr>
          <p:spPr>
            <a:xfrm>
              <a:off x="836640" y="611280"/>
              <a:ext cx="951120" cy="9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DAFE-F414-40ED-A716-4EB65DE62DC3}" type="datetime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A9C6-FB71-4DA9-B5FA-33CB95FAFA1F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组合 4097"/>
          <p:cNvGrpSpPr/>
          <p:nvPr/>
        </p:nvGrpSpPr>
        <p:grpSpPr>
          <a:xfrm>
            <a:off x="0" y="5979960"/>
            <a:ext cx="9144000" cy="878040"/>
            <a:chOff x="0" y="5979960"/>
            <a:chExt cx="9144000" cy="878040"/>
          </a:xfrm>
        </p:grpSpPr>
        <p:sp>
          <p:nvSpPr>
            <p:cNvPr id="162" name="矩形​​ 14"/>
            <p:cNvSpPr/>
            <p:nvPr/>
          </p:nvSpPr>
          <p:spPr>
            <a:xfrm>
              <a:off x="0" y="6566040"/>
              <a:ext cx="9144000" cy="2919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​​ 14"/>
            <p:cNvSpPr/>
            <p:nvPr/>
          </p:nvSpPr>
          <p:spPr>
            <a:xfrm>
              <a:off x="0" y="6271920"/>
              <a:ext cx="9144000" cy="290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​​ 14"/>
            <p:cNvSpPr/>
            <p:nvPr/>
          </p:nvSpPr>
          <p:spPr>
            <a:xfrm>
              <a:off x="0" y="5979960"/>
              <a:ext cx="9144000" cy="291960"/>
            </a:xfrm>
            <a:prstGeom prst="rect">
              <a:avLst/>
            </a:prstGeom>
            <a:solidFill>
              <a:srgbClr val="1c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直接连接符​​ 5"/>
          <p:cNvSpPr/>
          <p:nvPr/>
        </p:nvSpPr>
        <p:spPr>
          <a:xfrm>
            <a:off x="1908000" y="1446120"/>
            <a:ext cx="67075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4102"/>
          <p:cNvGrpSpPr/>
          <p:nvPr/>
        </p:nvGrpSpPr>
        <p:grpSpPr>
          <a:xfrm>
            <a:off x="138240" y="115920"/>
            <a:ext cx="1569600" cy="1647720"/>
            <a:chOff x="138240" y="115920"/>
            <a:chExt cx="1569600" cy="1647720"/>
          </a:xfrm>
        </p:grpSpPr>
        <p:sp>
          <p:nvSpPr>
            <p:cNvPr id="167" name="圆角矩形​​ 2"/>
            <p:cNvSpPr/>
            <p:nvPr/>
          </p:nvSpPr>
          <p:spPr>
            <a:xfrm rot="21283200">
              <a:off x="179280" y="735120"/>
              <a:ext cx="1487520" cy="961920"/>
            </a:xfrm>
            <a:prstGeom prst="roundRect">
              <a:avLst>
                <a:gd name="adj" fmla="val 10407"/>
              </a:avLst>
            </a:prstGeom>
            <a:gradFill rotWithShape="0">
              <a:gsLst>
                <a:gs pos="0">
                  <a:srgbClr val="a6a6a6"/>
                </a:gs>
                <a:gs pos="100000">
                  <a:srgbClr val="bfbfbf"/>
                </a:gs>
              </a:gsLst>
              <a:lin ang="5718000"/>
            </a:gradFill>
            <a:ln w="3240">
              <a:solidFill>
                <a:srgbClr val="bfbfbf"/>
              </a:solidFill>
              <a:round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​​ 11"/>
            <p:cNvSpPr/>
            <p:nvPr/>
          </p:nvSpPr>
          <p:spPr>
            <a:xfrm flipV="1">
              <a:off x="401400" y="212400"/>
              <a:ext cx="608040" cy="592200"/>
            </a:xfrm>
            <a:prstGeom prst="line">
              <a:avLst/>
            </a:prstGeom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​​ 13"/>
            <p:cNvSpPr/>
            <p:nvPr/>
          </p:nvSpPr>
          <p:spPr>
            <a:xfrm>
              <a:off x="1179360" y="212760"/>
              <a:ext cx="231480" cy="487440"/>
            </a:xfrm>
            <a:prstGeom prst="line">
              <a:avLst/>
            </a:prstGeom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​​ 4"/>
            <p:cNvSpPr/>
            <p:nvPr/>
          </p:nvSpPr>
          <p:spPr>
            <a:xfrm>
              <a:off x="1009800" y="115920"/>
              <a:ext cx="169560" cy="191880"/>
            </a:xfrm>
            <a:prstGeom prst="ellipse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bfbfbf"/>
                </a:gs>
              </a:gsLst>
              <a:lin ang="5400000"/>
            </a:gra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组合 4107"/>
            <p:cNvGrpSpPr/>
            <p:nvPr/>
          </p:nvGrpSpPr>
          <p:grpSpPr>
            <a:xfrm>
              <a:off x="1042560" y="152280"/>
              <a:ext cx="109440" cy="127800"/>
              <a:chOff x="1042560" y="152280"/>
              <a:chExt cx="109440" cy="127800"/>
            </a:xfrm>
          </p:grpSpPr>
          <p:pic>
            <p:nvPicPr>
              <p:cNvPr id="172" name="椭圆​​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042560" y="152280"/>
                <a:ext cx="10944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文本框 4109"/>
              <p:cNvSpPr/>
              <p:nvPr/>
            </p:nvSpPr>
            <p:spPr>
              <a:xfrm>
                <a:off x="1059840" y="172440"/>
                <a:ext cx="68760" cy="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同侧圆角矩形 11"/>
            <p:cNvSpPr/>
            <p:nvPr/>
          </p:nvSpPr>
          <p:spPr>
            <a:xfrm rot="21294600">
              <a:off x="158760" y="740880"/>
              <a:ext cx="1481400" cy="466560"/>
            </a:xfrm>
            <a:custGeom>
              <a:avLst/>
              <a:gdLst/>
              <a:ahLst/>
              <a:rect l="l" t="t" r="r" b="b"/>
              <a:pathLst>
                <a:path w="2853993" h="792139">
                  <a:moveTo>
                    <a:pt x="132026" y="0"/>
                  </a:moveTo>
                  <a:lnTo>
                    <a:pt x="2721967" y="0"/>
                  </a:lnTo>
                  <a:cubicBezTo>
                    <a:pt x="2794883" y="0"/>
                    <a:pt x="2853993" y="59110"/>
                    <a:pt x="2853993" y="132026"/>
                  </a:cubicBezTo>
                  <a:lnTo>
                    <a:pt x="2853993" y="792139"/>
                  </a:lnTo>
                  <a:lnTo>
                    <a:pt x="0" y="792139"/>
                  </a:lnTo>
                  <a:lnTo>
                    <a:pt x="0" y="132026"/>
                  </a:lnTo>
                  <a:cubicBezTo>
                    <a:pt x="0" y="59110"/>
                    <a:pt x="59110" y="0"/>
                    <a:pt x="1320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9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圆角矩形​​ 3"/>
            <p:cNvSpPr/>
            <p:nvPr/>
          </p:nvSpPr>
          <p:spPr>
            <a:xfrm rot="21283200">
              <a:off x="245880" y="828720"/>
              <a:ext cx="1360440" cy="793800"/>
            </a:xfrm>
            <a:prstGeom prst="roundRect">
              <a:avLst>
                <a:gd name="adj" fmla="val 7417"/>
              </a:avLst>
            </a:prstGeom>
            <a:solidFill>
              <a:srgbClr val="57d3ff"/>
            </a:solidFill>
            <a:ln w="1908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组合 4112"/>
            <p:cNvGrpSpPr/>
            <p:nvPr/>
          </p:nvGrpSpPr>
          <p:grpSpPr>
            <a:xfrm>
              <a:off x="365760" y="798480"/>
              <a:ext cx="79200" cy="85320"/>
              <a:chOff x="365760" y="798480"/>
              <a:chExt cx="79200" cy="85320"/>
            </a:xfrm>
          </p:grpSpPr>
          <p:pic>
            <p:nvPicPr>
              <p:cNvPr id="177" name="椭圆​​ 8" descr=""/>
              <p:cNvPicPr/>
              <p:nvPr/>
            </p:nvPicPr>
            <p:blipFill>
              <a:blip r:embed="rId3"/>
              <a:stretch/>
            </p:blipFill>
            <p:spPr>
              <a:xfrm>
                <a:off x="365760" y="798480"/>
                <a:ext cx="79200" cy="8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文本框 4114"/>
              <p:cNvSpPr/>
              <p:nvPr/>
            </p:nvSpPr>
            <p:spPr>
              <a:xfrm rot="21283200">
                <a:off x="382320" y="815400"/>
                <a:ext cx="4392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组合 4115"/>
            <p:cNvGrpSpPr/>
            <p:nvPr/>
          </p:nvGrpSpPr>
          <p:grpSpPr>
            <a:xfrm>
              <a:off x="1371600" y="688680"/>
              <a:ext cx="85320" cy="91440"/>
              <a:chOff x="1371600" y="688680"/>
              <a:chExt cx="85320" cy="91440"/>
            </a:xfrm>
          </p:grpSpPr>
          <p:pic>
            <p:nvPicPr>
              <p:cNvPr id="180" name="椭圆​​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688680"/>
                <a:ext cx="8532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文本框 4117"/>
              <p:cNvSpPr/>
              <p:nvPr/>
            </p:nvSpPr>
            <p:spPr>
              <a:xfrm rot="21283200">
                <a:off x="1392120" y="709560"/>
                <a:ext cx="4392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组合 4118"/>
          <p:cNvGrpSpPr/>
          <p:nvPr/>
        </p:nvGrpSpPr>
        <p:grpSpPr>
          <a:xfrm>
            <a:off x="7956720" y="5300640"/>
            <a:ext cx="652320" cy="654120"/>
            <a:chOff x="7956720" y="5300640"/>
            <a:chExt cx="652320" cy="654120"/>
          </a:xfrm>
        </p:grpSpPr>
        <p:sp>
          <p:nvSpPr>
            <p:cNvPr id="183" name="椭圆​​ 16"/>
            <p:cNvSpPr/>
            <p:nvPr/>
          </p:nvSpPr>
          <p:spPr>
            <a:xfrm>
              <a:off x="7956720" y="5300640"/>
              <a:ext cx="652320" cy="6541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​​ 17"/>
            <p:cNvSpPr/>
            <p:nvPr/>
          </p:nvSpPr>
          <p:spPr>
            <a:xfrm>
              <a:off x="8018640" y="5362560"/>
              <a:ext cx="517680" cy="51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4121"/>
          <p:cNvGrpSpPr/>
          <p:nvPr/>
        </p:nvGrpSpPr>
        <p:grpSpPr>
          <a:xfrm>
            <a:off x="8277120" y="4867200"/>
            <a:ext cx="831960" cy="865440"/>
            <a:chOff x="8277120" y="4867200"/>
            <a:chExt cx="831960" cy="865440"/>
          </a:xfrm>
        </p:grpSpPr>
        <p:sp>
          <p:nvSpPr>
            <p:cNvPr id="186" name="椭圆​​ 20"/>
            <p:cNvSpPr/>
            <p:nvPr/>
          </p:nvSpPr>
          <p:spPr>
            <a:xfrm>
              <a:off x="8277120" y="4867200"/>
              <a:ext cx="831960" cy="865440"/>
            </a:xfrm>
            <a:prstGeom prst="ellipse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​​ 21"/>
            <p:cNvSpPr/>
            <p:nvPr/>
          </p:nvSpPr>
          <p:spPr>
            <a:xfrm>
              <a:off x="8354880" y="4948200"/>
              <a:ext cx="662040" cy="68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4124"/>
          <p:cNvGrpSpPr/>
          <p:nvPr/>
        </p:nvGrpSpPr>
        <p:grpSpPr>
          <a:xfrm>
            <a:off x="7607160" y="4869000"/>
            <a:ext cx="493920" cy="492120"/>
            <a:chOff x="7607160" y="4869000"/>
            <a:chExt cx="493920" cy="492120"/>
          </a:xfrm>
        </p:grpSpPr>
        <p:sp>
          <p:nvSpPr>
            <p:cNvPr id="189" name="椭圆​​ 29"/>
            <p:cNvSpPr/>
            <p:nvPr/>
          </p:nvSpPr>
          <p:spPr>
            <a:xfrm>
              <a:off x="7607160" y="4869000"/>
              <a:ext cx="493920" cy="492120"/>
            </a:xfrm>
            <a:prstGeom prst="ellipse">
              <a:avLst/>
            </a:prstGeom>
            <a:solidFill>
              <a:srgbClr val="57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​​ 30"/>
            <p:cNvSpPr/>
            <p:nvPr/>
          </p:nvSpPr>
          <p:spPr>
            <a:xfrm>
              <a:off x="7653240" y="4914720"/>
              <a:ext cx="392400" cy="39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E520-8706-482C-9B60-A00D20FFDD86}" type="datetime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07AA-747B-412A-97FC-09E320C99400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组合 5121"/>
          <p:cNvGrpSpPr/>
          <p:nvPr/>
        </p:nvGrpSpPr>
        <p:grpSpPr>
          <a:xfrm>
            <a:off x="0" y="5979960"/>
            <a:ext cx="9144000" cy="878040"/>
            <a:chOff x="0" y="5979960"/>
            <a:chExt cx="9144000" cy="878040"/>
          </a:xfrm>
        </p:grpSpPr>
        <p:sp>
          <p:nvSpPr>
            <p:cNvPr id="233" name="矩形​​ 14"/>
            <p:cNvSpPr/>
            <p:nvPr/>
          </p:nvSpPr>
          <p:spPr>
            <a:xfrm>
              <a:off x="0" y="6566040"/>
              <a:ext cx="9144000" cy="2919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​​ 14"/>
            <p:cNvSpPr/>
            <p:nvPr/>
          </p:nvSpPr>
          <p:spPr>
            <a:xfrm>
              <a:off x="0" y="6271920"/>
              <a:ext cx="9144000" cy="290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​​ 14"/>
            <p:cNvSpPr/>
            <p:nvPr/>
          </p:nvSpPr>
          <p:spPr>
            <a:xfrm>
              <a:off x="0" y="5979960"/>
              <a:ext cx="9144000" cy="291960"/>
            </a:xfrm>
            <a:prstGeom prst="rect">
              <a:avLst/>
            </a:prstGeom>
            <a:solidFill>
              <a:srgbClr val="1c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​​ 5"/>
          <p:cNvSpPr/>
          <p:nvPr/>
        </p:nvSpPr>
        <p:spPr>
          <a:xfrm>
            <a:off x="1908000" y="1446120"/>
            <a:ext cx="67075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5126"/>
          <p:cNvGrpSpPr/>
          <p:nvPr/>
        </p:nvGrpSpPr>
        <p:grpSpPr>
          <a:xfrm>
            <a:off x="138240" y="115920"/>
            <a:ext cx="1569600" cy="1647720"/>
            <a:chOff x="138240" y="115920"/>
            <a:chExt cx="1569600" cy="1647720"/>
          </a:xfrm>
        </p:grpSpPr>
        <p:sp>
          <p:nvSpPr>
            <p:cNvPr id="238" name="圆角矩形​​ 2"/>
            <p:cNvSpPr/>
            <p:nvPr/>
          </p:nvSpPr>
          <p:spPr>
            <a:xfrm rot="21283200">
              <a:off x="179280" y="735120"/>
              <a:ext cx="1487520" cy="961920"/>
            </a:xfrm>
            <a:prstGeom prst="roundRect">
              <a:avLst>
                <a:gd name="adj" fmla="val 10407"/>
              </a:avLst>
            </a:prstGeom>
            <a:gradFill rotWithShape="0">
              <a:gsLst>
                <a:gs pos="0">
                  <a:srgbClr val="a6a6a6"/>
                </a:gs>
                <a:gs pos="100000">
                  <a:srgbClr val="bfbfbf"/>
                </a:gs>
              </a:gsLst>
              <a:lin ang="5718000"/>
            </a:gradFill>
            <a:ln w="3240">
              <a:solidFill>
                <a:srgbClr val="bfbfbf"/>
              </a:solidFill>
              <a:round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​​ 11"/>
            <p:cNvSpPr/>
            <p:nvPr/>
          </p:nvSpPr>
          <p:spPr>
            <a:xfrm flipV="1">
              <a:off x="401400" y="212400"/>
              <a:ext cx="608040" cy="592200"/>
            </a:xfrm>
            <a:prstGeom prst="line">
              <a:avLst/>
            </a:prstGeom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​​ 13"/>
            <p:cNvSpPr/>
            <p:nvPr/>
          </p:nvSpPr>
          <p:spPr>
            <a:xfrm>
              <a:off x="1179360" y="212760"/>
              <a:ext cx="231480" cy="487440"/>
            </a:xfrm>
            <a:prstGeom prst="line">
              <a:avLst/>
            </a:prstGeom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椭圆​​ 4"/>
            <p:cNvSpPr/>
            <p:nvPr/>
          </p:nvSpPr>
          <p:spPr>
            <a:xfrm>
              <a:off x="1009800" y="115920"/>
              <a:ext cx="169560" cy="191880"/>
            </a:xfrm>
            <a:prstGeom prst="ellipse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bfbfbf"/>
                </a:gs>
              </a:gsLst>
              <a:lin ang="5400000"/>
            </a:gra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组合 5131"/>
            <p:cNvGrpSpPr/>
            <p:nvPr/>
          </p:nvGrpSpPr>
          <p:grpSpPr>
            <a:xfrm>
              <a:off x="1042560" y="152280"/>
              <a:ext cx="109440" cy="127800"/>
              <a:chOff x="1042560" y="152280"/>
              <a:chExt cx="109440" cy="127800"/>
            </a:xfrm>
          </p:grpSpPr>
          <p:pic>
            <p:nvPicPr>
              <p:cNvPr id="243" name="椭圆​​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042560" y="152280"/>
                <a:ext cx="10944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文本框 5133"/>
              <p:cNvSpPr/>
              <p:nvPr/>
            </p:nvSpPr>
            <p:spPr>
              <a:xfrm>
                <a:off x="1059840" y="172440"/>
                <a:ext cx="68760" cy="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同侧圆角矩形 11"/>
            <p:cNvSpPr/>
            <p:nvPr/>
          </p:nvSpPr>
          <p:spPr>
            <a:xfrm rot="21294600">
              <a:off x="158760" y="740880"/>
              <a:ext cx="1481400" cy="466560"/>
            </a:xfrm>
            <a:custGeom>
              <a:avLst/>
              <a:gdLst/>
              <a:ahLst/>
              <a:rect l="l" t="t" r="r" b="b"/>
              <a:pathLst>
                <a:path w="2853993" h="792139">
                  <a:moveTo>
                    <a:pt x="132026" y="0"/>
                  </a:moveTo>
                  <a:lnTo>
                    <a:pt x="2721967" y="0"/>
                  </a:lnTo>
                  <a:cubicBezTo>
                    <a:pt x="2794883" y="0"/>
                    <a:pt x="2853993" y="59110"/>
                    <a:pt x="2853993" y="132026"/>
                  </a:cubicBezTo>
                  <a:lnTo>
                    <a:pt x="2853993" y="792139"/>
                  </a:lnTo>
                  <a:lnTo>
                    <a:pt x="0" y="792139"/>
                  </a:lnTo>
                  <a:lnTo>
                    <a:pt x="0" y="132026"/>
                  </a:lnTo>
                  <a:cubicBezTo>
                    <a:pt x="0" y="59110"/>
                    <a:pt x="59110" y="0"/>
                    <a:pt x="1320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9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圆角矩形​​ 3"/>
            <p:cNvSpPr/>
            <p:nvPr/>
          </p:nvSpPr>
          <p:spPr>
            <a:xfrm rot="21283200">
              <a:off x="245880" y="828720"/>
              <a:ext cx="1360440" cy="793800"/>
            </a:xfrm>
            <a:prstGeom prst="roundRect">
              <a:avLst>
                <a:gd name="adj" fmla="val 7417"/>
              </a:avLst>
            </a:prstGeom>
            <a:solidFill>
              <a:srgbClr val="9dcf65"/>
            </a:solidFill>
            <a:ln w="1908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组合 5136"/>
            <p:cNvGrpSpPr/>
            <p:nvPr/>
          </p:nvGrpSpPr>
          <p:grpSpPr>
            <a:xfrm>
              <a:off x="365760" y="798480"/>
              <a:ext cx="79200" cy="85320"/>
              <a:chOff x="365760" y="798480"/>
              <a:chExt cx="79200" cy="85320"/>
            </a:xfrm>
          </p:grpSpPr>
          <p:pic>
            <p:nvPicPr>
              <p:cNvPr id="248" name="椭圆​​ 8" descr=""/>
              <p:cNvPicPr/>
              <p:nvPr/>
            </p:nvPicPr>
            <p:blipFill>
              <a:blip r:embed="rId3"/>
              <a:stretch/>
            </p:blipFill>
            <p:spPr>
              <a:xfrm>
                <a:off x="365760" y="798480"/>
                <a:ext cx="79200" cy="8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文本框 5138"/>
              <p:cNvSpPr/>
              <p:nvPr/>
            </p:nvSpPr>
            <p:spPr>
              <a:xfrm rot="21283200">
                <a:off x="382320" y="815400"/>
                <a:ext cx="4392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组合 5139"/>
            <p:cNvGrpSpPr/>
            <p:nvPr/>
          </p:nvGrpSpPr>
          <p:grpSpPr>
            <a:xfrm>
              <a:off x="1371600" y="688680"/>
              <a:ext cx="85320" cy="91440"/>
              <a:chOff x="1371600" y="688680"/>
              <a:chExt cx="85320" cy="91440"/>
            </a:xfrm>
          </p:grpSpPr>
          <p:pic>
            <p:nvPicPr>
              <p:cNvPr id="251" name="椭圆​​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688680"/>
                <a:ext cx="8532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文本框 5141"/>
              <p:cNvSpPr/>
              <p:nvPr/>
            </p:nvSpPr>
            <p:spPr>
              <a:xfrm rot="21283200">
                <a:off x="1392120" y="709560"/>
                <a:ext cx="4392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组合 5142"/>
          <p:cNvGrpSpPr/>
          <p:nvPr/>
        </p:nvGrpSpPr>
        <p:grpSpPr>
          <a:xfrm>
            <a:off x="7956720" y="5300640"/>
            <a:ext cx="652320" cy="654120"/>
            <a:chOff x="7956720" y="5300640"/>
            <a:chExt cx="652320" cy="654120"/>
          </a:xfrm>
        </p:grpSpPr>
        <p:sp>
          <p:nvSpPr>
            <p:cNvPr id="254" name="椭圆​​ 16"/>
            <p:cNvSpPr/>
            <p:nvPr/>
          </p:nvSpPr>
          <p:spPr>
            <a:xfrm>
              <a:off x="7956720" y="5300640"/>
              <a:ext cx="652320" cy="6541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​​ 17"/>
            <p:cNvSpPr/>
            <p:nvPr/>
          </p:nvSpPr>
          <p:spPr>
            <a:xfrm>
              <a:off x="8018640" y="5362560"/>
              <a:ext cx="517680" cy="51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5145"/>
          <p:cNvGrpSpPr/>
          <p:nvPr/>
        </p:nvGrpSpPr>
        <p:grpSpPr>
          <a:xfrm>
            <a:off x="8277120" y="4867200"/>
            <a:ext cx="831960" cy="865440"/>
            <a:chOff x="8277120" y="4867200"/>
            <a:chExt cx="831960" cy="865440"/>
          </a:xfrm>
        </p:grpSpPr>
        <p:sp>
          <p:nvSpPr>
            <p:cNvPr id="257" name="椭圆​​ 20"/>
            <p:cNvSpPr/>
            <p:nvPr/>
          </p:nvSpPr>
          <p:spPr>
            <a:xfrm>
              <a:off x="8277120" y="4867200"/>
              <a:ext cx="831960" cy="865440"/>
            </a:xfrm>
            <a:prstGeom prst="ellipse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​​ 21"/>
            <p:cNvSpPr/>
            <p:nvPr/>
          </p:nvSpPr>
          <p:spPr>
            <a:xfrm>
              <a:off x="8354880" y="4948200"/>
              <a:ext cx="662040" cy="68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5148"/>
          <p:cNvGrpSpPr/>
          <p:nvPr/>
        </p:nvGrpSpPr>
        <p:grpSpPr>
          <a:xfrm>
            <a:off x="7607160" y="4869000"/>
            <a:ext cx="493920" cy="492120"/>
            <a:chOff x="7607160" y="4869000"/>
            <a:chExt cx="493920" cy="492120"/>
          </a:xfrm>
        </p:grpSpPr>
        <p:sp>
          <p:nvSpPr>
            <p:cNvPr id="260" name="椭圆​​ 29"/>
            <p:cNvSpPr/>
            <p:nvPr/>
          </p:nvSpPr>
          <p:spPr>
            <a:xfrm>
              <a:off x="7607160" y="4869000"/>
              <a:ext cx="493920" cy="492120"/>
            </a:xfrm>
            <a:prstGeom prst="ellipse">
              <a:avLst/>
            </a:prstGeom>
            <a:solidFill>
              <a:srgbClr val="57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​​ 30"/>
            <p:cNvSpPr/>
            <p:nvPr/>
          </p:nvSpPr>
          <p:spPr>
            <a:xfrm>
              <a:off x="7653240" y="4914720"/>
              <a:ext cx="392400" cy="39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E47D-39C2-4298-A702-D3FA40275ABB}" type="datetime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C877-60AD-4DCC-A0EC-D927B011CEC9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组合 6145"/>
          <p:cNvGrpSpPr/>
          <p:nvPr/>
        </p:nvGrpSpPr>
        <p:grpSpPr>
          <a:xfrm>
            <a:off x="0" y="5979960"/>
            <a:ext cx="9144000" cy="878040"/>
            <a:chOff x="0" y="5979960"/>
            <a:chExt cx="9144000" cy="878040"/>
          </a:xfrm>
        </p:grpSpPr>
        <p:sp>
          <p:nvSpPr>
            <p:cNvPr id="304" name="矩形​​ 14"/>
            <p:cNvSpPr/>
            <p:nvPr/>
          </p:nvSpPr>
          <p:spPr>
            <a:xfrm>
              <a:off x="0" y="6566040"/>
              <a:ext cx="9144000" cy="2919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​​ 14"/>
            <p:cNvSpPr/>
            <p:nvPr/>
          </p:nvSpPr>
          <p:spPr>
            <a:xfrm>
              <a:off x="0" y="6271920"/>
              <a:ext cx="9144000" cy="290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​​ 14"/>
            <p:cNvSpPr/>
            <p:nvPr/>
          </p:nvSpPr>
          <p:spPr>
            <a:xfrm>
              <a:off x="0" y="5979960"/>
              <a:ext cx="9144000" cy="291960"/>
            </a:xfrm>
            <a:prstGeom prst="rect">
              <a:avLst/>
            </a:prstGeom>
            <a:solidFill>
              <a:srgbClr val="1cd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直接连接符​​ 5"/>
          <p:cNvSpPr/>
          <p:nvPr/>
        </p:nvSpPr>
        <p:spPr>
          <a:xfrm>
            <a:off x="1908000" y="1446120"/>
            <a:ext cx="67075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6150"/>
          <p:cNvGrpSpPr/>
          <p:nvPr/>
        </p:nvGrpSpPr>
        <p:grpSpPr>
          <a:xfrm>
            <a:off x="138240" y="115920"/>
            <a:ext cx="1569600" cy="1647720"/>
            <a:chOff x="138240" y="115920"/>
            <a:chExt cx="1569600" cy="1647720"/>
          </a:xfrm>
        </p:grpSpPr>
        <p:sp>
          <p:nvSpPr>
            <p:cNvPr id="309" name="圆角矩形​​ 2"/>
            <p:cNvSpPr/>
            <p:nvPr/>
          </p:nvSpPr>
          <p:spPr>
            <a:xfrm rot="21283200">
              <a:off x="179280" y="735120"/>
              <a:ext cx="1487520" cy="961920"/>
            </a:xfrm>
            <a:prstGeom prst="roundRect">
              <a:avLst>
                <a:gd name="adj" fmla="val 10407"/>
              </a:avLst>
            </a:prstGeom>
            <a:gradFill rotWithShape="0">
              <a:gsLst>
                <a:gs pos="0">
                  <a:srgbClr val="a6a6a6"/>
                </a:gs>
                <a:gs pos="100000">
                  <a:srgbClr val="bfbfbf"/>
                </a:gs>
              </a:gsLst>
              <a:lin ang="5718000"/>
            </a:gradFill>
            <a:ln w="3240">
              <a:solidFill>
                <a:srgbClr val="bfbfbf"/>
              </a:solidFill>
              <a:round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​​ 11"/>
            <p:cNvSpPr/>
            <p:nvPr/>
          </p:nvSpPr>
          <p:spPr>
            <a:xfrm flipV="1">
              <a:off x="401400" y="212400"/>
              <a:ext cx="608040" cy="592200"/>
            </a:xfrm>
            <a:prstGeom prst="line">
              <a:avLst/>
            </a:prstGeom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​​ 13"/>
            <p:cNvSpPr/>
            <p:nvPr/>
          </p:nvSpPr>
          <p:spPr>
            <a:xfrm>
              <a:off x="1179360" y="212760"/>
              <a:ext cx="231480" cy="487440"/>
            </a:xfrm>
            <a:prstGeom prst="line">
              <a:avLst/>
            </a:prstGeom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椭圆​​ 4"/>
            <p:cNvSpPr/>
            <p:nvPr/>
          </p:nvSpPr>
          <p:spPr>
            <a:xfrm>
              <a:off x="1009800" y="115920"/>
              <a:ext cx="169560" cy="191880"/>
            </a:xfrm>
            <a:prstGeom prst="ellipse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bfbfbf"/>
                </a:gs>
              </a:gsLst>
              <a:lin ang="5400000"/>
            </a:gra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组合 6155"/>
            <p:cNvGrpSpPr/>
            <p:nvPr/>
          </p:nvGrpSpPr>
          <p:grpSpPr>
            <a:xfrm>
              <a:off x="1042560" y="152280"/>
              <a:ext cx="109440" cy="127800"/>
              <a:chOff x="1042560" y="152280"/>
              <a:chExt cx="109440" cy="127800"/>
            </a:xfrm>
          </p:grpSpPr>
          <p:pic>
            <p:nvPicPr>
              <p:cNvPr id="314" name="椭圆​​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042560" y="152280"/>
                <a:ext cx="10944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文本框 6157"/>
              <p:cNvSpPr/>
              <p:nvPr/>
            </p:nvSpPr>
            <p:spPr>
              <a:xfrm>
                <a:off x="1059840" y="172440"/>
                <a:ext cx="68760" cy="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同侧圆角矩形 11"/>
            <p:cNvSpPr/>
            <p:nvPr/>
          </p:nvSpPr>
          <p:spPr>
            <a:xfrm rot="21294600">
              <a:off x="158760" y="740880"/>
              <a:ext cx="1481400" cy="466560"/>
            </a:xfrm>
            <a:custGeom>
              <a:avLst/>
              <a:gdLst/>
              <a:ahLst/>
              <a:rect l="l" t="t" r="r" b="b"/>
              <a:pathLst>
                <a:path w="2853993" h="792139">
                  <a:moveTo>
                    <a:pt x="132026" y="0"/>
                  </a:moveTo>
                  <a:lnTo>
                    <a:pt x="2721967" y="0"/>
                  </a:lnTo>
                  <a:cubicBezTo>
                    <a:pt x="2794883" y="0"/>
                    <a:pt x="2853993" y="59110"/>
                    <a:pt x="2853993" y="132026"/>
                  </a:cubicBezTo>
                  <a:lnTo>
                    <a:pt x="2853993" y="792139"/>
                  </a:lnTo>
                  <a:lnTo>
                    <a:pt x="0" y="792139"/>
                  </a:lnTo>
                  <a:lnTo>
                    <a:pt x="0" y="132026"/>
                  </a:lnTo>
                  <a:cubicBezTo>
                    <a:pt x="0" y="59110"/>
                    <a:pt x="59110" y="0"/>
                    <a:pt x="1320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49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圆角矩形​​ 3"/>
            <p:cNvSpPr/>
            <p:nvPr/>
          </p:nvSpPr>
          <p:spPr>
            <a:xfrm rot="21283200">
              <a:off x="245880" y="828720"/>
              <a:ext cx="1360440" cy="793800"/>
            </a:xfrm>
            <a:prstGeom prst="roundRect">
              <a:avLst>
                <a:gd name="adj" fmla="val 7417"/>
              </a:avLst>
            </a:prstGeom>
            <a:solidFill>
              <a:srgbClr val="ffc000"/>
            </a:solidFill>
            <a:ln w="1908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组合 6160"/>
            <p:cNvGrpSpPr/>
            <p:nvPr/>
          </p:nvGrpSpPr>
          <p:grpSpPr>
            <a:xfrm>
              <a:off x="365760" y="798480"/>
              <a:ext cx="79200" cy="85320"/>
              <a:chOff x="365760" y="798480"/>
              <a:chExt cx="79200" cy="85320"/>
            </a:xfrm>
          </p:grpSpPr>
          <p:pic>
            <p:nvPicPr>
              <p:cNvPr id="319" name="椭圆​​ 8" descr=""/>
              <p:cNvPicPr/>
              <p:nvPr/>
            </p:nvPicPr>
            <p:blipFill>
              <a:blip r:embed="rId3"/>
              <a:stretch/>
            </p:blipFill>
            <p:spPr>
              <a:xfrm>
                <a:off x="365760" y="798480"/>
                <a:ext cx="79200" cy="8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文本框 6162"/>
              <p:cNvSpPr/>
              <p:nvPr/>
            </p:nvSpPr>
            <p:spPr>
              <a:xfrm rot="21283200">
                <a:off x="382320" y="815400"/>
                <a:ext cx="4392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组合 6163"/>
            <p:cNvGrpSpPr/>
            <p:nvPr/>
          </p:nvGrpSpPr>
          <p:grpSpPr>
            <a:xfrm>
              <a:off x="1371600" y="688680"/>
              <a:ext cx="85320" cy="91440"/>
              <a:chOff x="1371600" y="688680"/>
              <a:chExt cx="85320" cy="91440"/>
            </a:xfrm>
          </p:grpSpPr>
          <p:pic>
            <p:nvPicPr>
              <p:cNvPr id="322" name="椭圆​​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688680"/>
                <a:ext cx="8532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文本框 6165"/>
              <p:cNvSpPr/>
              <p:nvPr/>
            </p:nvSpPr>
            <p:spPr>
              <a:xfrm rot="21283200">
                <a:off x="1392120" y="709560"/>
                <a:ext cx="43920" cy="4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组合 6166"/>
          <p:cNvGrpSpPr/>
          <p:nvPr/>
        </p:nvGrpSpPr>
        <p:grpSpPr>
          <a:xfrm>
            <a:off x="7956720" y="5300640"/>
            <a:ext cx="652320" cy="654120"/>
            <a:chOff x="7956720" y="5300640"/>
            <a:chExt cx="652320" cy="654120"/>
          </a:xfrm>
        </p:grpSpPr>
        <p:sp>
          <p:nvSpPr>
            <p:cNvPr id="325" name="椭圆​​ 16"/>
            <p:cNvSpPr/>
            <p:nvPr/>
          </p:nvSpPr>
          <p:spPr>
            <a:xfrm>
              <a:off x="7956720" y="5300640"/>
              <a:ext cx="652320" cy="65412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椭圆​​ 17"/>
            <p:cNvSpPr/>
            <p:nvPr/>
          </p:nvSpPr>
          <p:spPr>
            <a:xfrm>
              <a:off x="8018640" y="5362560"/>
              <a:ext cx="517680" cy="51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组合 6169"/>
          <p:cNvGrpSpPr/>
          <p:nvPr/>
        </p:nvGrpSpPr>
        <p:grpSpPr>
          <a:xfrm>
            <a:off x="8277120" y="4867200"/>
            <a:ext cx="831960" cy="865440"/>
            <a:chOff x="8277120" y="4867200"/>
            <a:chExt cx="831960" cy="865440"/>
          </a:xfrm>
        </p:grpSpPr>
        <p:sp>
          <p:nvSpPr>
            <p:cNvPr id="328" name="椭圆​​ 20"/>
            <p:cNvSpPr/>
            <p:nvPr/>
          </p:nvSpPr>
          <p:spPr>
            <a:xfrm>
              <a:off x="8277120" y="4867200"/>
              <a:ext cx="831960" cy="865440"/>
            </a:xfrm>
            <a:prstGeom prst="ellipse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椭圆​​ 21"/>
            <p:cNvSpPr/>
            <p:nvPr/>
          </p:nvSpPr>
          <p:spPr>
            <a:xfrm>
              <a:off x="8354880" y="4948200"/>
              <a:ext cx="662040" cy="68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6172"/>
          <p:cNvGrpSpPr/>
          <p:nvPr/>
        </p:nvGrpSpPr>
        <p:grpSpPr>
          <a:xfrm>
            <a:off x="7607160" y="4869000"/>
            <a:ext cx="493920" cy="492120"/>
            <a:chOff x="7607160" y="4869000"/>
            <a:chExt cx="493920" cy="492120"/>
          </a:xfrm>
        </p:grpSpPr>
        <p:sp>
          <p:nvSpPr>
            <p:cNvPr id="331" name="椭圆​​ 29"/>
            <p:cNvSpPr/>
            <p:nvPr/>
          </p:nvSpPr>
          <p:spPr>
            <a:xfrm>
              <a:off x="7607160" y="4869000"/>
              <a:ext cx="493920" cy="492120"/>
            </a:xfrm>
            <a:prstGeom prst="ellipse">
              <a:avLst/>
            </a:prstGeom>
            <a:solidFill>
              <a:srgbClr val="57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椭圆​​ 30"/>
            <p:cNvSpPr/>
            <p:nvPr/>
          </p:nvSpPr>
          <p:spPr>
            <a:xfrm>
              <a:off x="7653240" y="4914720"/>
              <a:ext cx="392400" cy="39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0921-931D-45F7-8B76-6D2BAA086B52}" type="datetime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F7EF-EF86-49FF-8359-32001CE74AAE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4851-3A13-4969-A484-40A5E1AEFAE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C0C8-4B50-4159-82EB-C03EAC48CE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26560" y="2205000"/>
            <a:ext cx="73933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771560" y="4181400"/>
            <a:ext cx="6400800" cy="6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41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1"/>
          <p:cNvSpPr/>
          <p:nvPr/>
        </p:nvSpPr>
        <p:spPr>
          <a:xfrm>
            <a:off x="868320" y="234936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洁工作报告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标题 1"/>
          <p:cNvSpPr/>
          <p:nvPr/>
        </p:nvSpPr>
        <p:spPr>
          <a:xfrm>
            <a:off x="865080" y="2205000"/>
            <a:ext cx="7392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61560" y="917280"/>
            <a:ext cx="1754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标题 1"/>
          <p:cNvSpPr/>
          <p:nvPr/>
        </p:nvSpPr>
        <p:spPr>
          <a:xfrm>
            <a:off x="865080" y="2205000"/>
            <a:ext cx="7392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560" y="917280"/>
            <a:ext cx="1754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标题 1"/>
          <p:cNvSpPr/>
          <p:nvPr/>
        </p:nvSpPr>
        <p:spPr>
          <a:xfrm>
            <a:off x="865080" y="2205000"/>
            <a:ext cx="7392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6680" y="47592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577440" y="1700280"/>
            <a:ext cx="8109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560" y="917280"/>
            <a:ext cx="1754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标题 1"/>
          <p:cNvSpPr/>
          <p:nvPr/>
        </p:nvSpPr>
        <p:spPr>
          <a:xfrm>
            <a:off x="865080" y="2205000"/>
            <a:ext cx="7392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DCE4-A61C-4926-A636-C64BA8F78D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13313"/>
          <p:cNvGrpSpPr/>
          <p:nvPr/>
        </p:nvGrpSpPr>
        <p:grpSpPr>
          <a:xfrm>
            <a:off x="7345440" y="4127400"/>
            <a:ext cx="884160" cy="885960"/>
            <a:chOff x="7345440" y="4127400"/>
            <a:chExt cx="884160" cy="885960"/>
          </a:xfrm>
        </p:grpSpPr>
        <p:sp>
          <p:nvSpPr>
            <p:cNvPr id="440" name="椭圆​​ 16"/>
            <p:cNvSpPr/>
            <p:nvPr/>
          </p:nvSpPr>
          <p:spPr>
            <a:xfrm>
              <a:off x="7345440" y="4127400"/>
              <a:ext cx="884160" cy="885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​​ 17"/>
            <p:cNvSpPr/>
            <p:nvPr/>
          </p:nvSpPr>
          <p:spPr>
            <a:xfrm>
              <a:off x="7429320" y="4211280"/>
              <a:ext cx="701640" cy="703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组合 13316"/>
          <p:cNvGrpSpPr/>
          <p:nvPr/>
        </p:nvGrpSpPr>
        <p:grpSpPr>
          <a:xfrm>
            <a:off x="7786800" y="3562200"/>
            <a:ext cx="979200" cy="979560"/>
            <a:chOff x="7786800" y="3562200"/>
            <a:chExt cx="979200" cy="979560"/>
          </a:xfrm>
        </p:grpSpPr>
        <p:sp>
          <p:nvSpPr>
            <p:cNvPr id="443" name="椭圆​​ 20"/>
            <p:cNvSpPr/>
            <p:nvPr/>
          </p:nvSpPr>
          <p:spPr>
            <a:xfrm>
              <a:off x="7786800" y="3562200"/>
              <a:ext cx="979200" cy="979560"/>
            </a:xfrm>
            <a:prstGeom prst="ellipse">
              <a:avLst/>
            </a:prstGeom>
            <a:solidFill>
              <a:srgbClr val="ffd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椭圆​​ 21"/>
            <p:cNvSpPr/>
            <p:nvPr/>
          </p:nvSpPr>
          <p:spPr>
            <a:xfrm>
              <a:off x="7878600" y="3654000"/>
              <a:ext cx="777600" cy="777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Box 2"/>
          <p:cNvSpPr/>
          <p:nvPr/>
        </p:nvSpPr>
        <p:spPr>
          <a:xfrm>
            <a:off x="71280" y="2852640"/>
            <a:ext cx="746280" cy="131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askerville Old Face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5"/>
          <p:cNvSpPr/>
          <p:nvPr/>
        </p:nvSpPr>
        <p:spPr>
          <a:xfrm>
            <a:off x="648720" y="2852640"/>
            <a:ext cx="330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f7f7f"/>
                </a:solidFill>
                <a:latin typeface="Baskerville Old Face"/>
                <a:ea typeface="华文细黑"/>
              </a:rPr>
              <a:t>hanks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8"/>
          <p:cNvSpPr/>
          <p:nvPr/>
        </p:nvSpPr>
        <p:spPr>
          <a:xfrm>
            <a:off x="6681960" y="2908440"/>
            <a:ext cx="221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f7f7f"/>
                </a:solidFill>
                <a:latin typeface="Bauhaus 93"/>
                <a:ea typeface="华文细黑"/>
              </a:rPr>
              <a:t>10:09</a:t>
            </a:r>
            <a:r>
              <a:rPr b="0" lang="en-US" sz="2400" spc="-1" strike="noStrike">
                <a:solidFill>
                  <a:srgbClr val="7f7f7f"/>
                </a:solidFill>
                <a:latin typeface="华文细黑"/>
                <a:ea typeface="华文细黑"/>
              </a:rPr>
              <a:t>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​​ 9"/>
          <p:cNvSpPr/>
          <p:nvPr/>
        </p:nvSpPr>
        <p:spPr>
          <a:xfrm>
            <a:off x="0" y="0"/>
            <a:ext cx="9144000" cy="1916280"/>
          </a:xfrm>
          <a:prstGeom prst="rect">
            <a:avLst/>
          </a:prstGeom>
          <a:solidFill>
            <a:srgbClr val="9dcf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​​ 10"/>
          <p:cNvSpPr/>
          <p:nvPr/>
        </p:nvSpPr>
        <p:spPr>
          <a:xfrm>
            <a:off x="0" y="5013360"/>
            <a:ext cx="9144000" cy="1915920"/>
          </a:xfrm>
          <a:prstGeom prst="rect">
            <a:avLst/>
          </a:prstGeom>
          <a:solidFill>
            <a:srgbClr val="1c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组合 13324"/>
          <p:cNvGrpSpPr/>
          <p:nvPr/>
        </p:nvGrpSpPr>
        <p:grpSpPr>
          <a:xfrm>
            <a:off x="6359400" y="3936960"/>
            <a:ext cx="478080" cy="476280"/>
            <a:chOff x="6359400" y="3936960"/>
            <a:chExt cx="478080" cy="476280"/>
          </a:xfrm>
        </p:grpSpPr>
        <p:sp>
          <p:nvSpPr>
            <p:cNvPr id="451" name="椭圆​​ 29"/>
            <p:cNvSpPr/>
            <p:nvPr/>
          </p:nvSpPr>
          <p:spPr>
            <a:xfrm>
              <a:off x="6359400" y="3936960"/>
              <a:ext cx="478080" cy="476280"/>
            </a:xfrm>
            <a:prstGeom prst="ellipse">
              <a:avLst/>
            </a:prstGeom>
            <a:solidFill>
              <a:srgbClr val="57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椭圆​​ 30"/>
            <p:cNvSpPr/>
            <p:nvPr/>
          </p:nvSpPr>
          <p:spPr>
            <a:xfrm>
              <a:off x="6403680" y="3981240"/>
              <a:ext cx="379800" cy="37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标题 1"/>
          <p:cNvSpPr/>
          <p:nvPr/>
        </p:nvSpPr>
        <p:spPr>
          <a:xfrm>
            <a:off x="971640" y="333360"/>
            <a:ext cx="7392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2:44:1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16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