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F2D-7566-4CCF-9A9A-D06BD558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6E3-CA00-40D4-A1EC-2AF46EA2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675-F1BC-4BD6-A6F7-910948D7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037-22D3-4460-A9BC-8F2FB5A0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F18D-9258-4D2F-8C5C-33F7050E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B916-CEE7-400D-A711-9F15512A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C093-35C6-4FC1-BDCB-998B5B66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8A95-9110-4E09-B83F-547BE673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55CA-D159-46F6-8FFF-07E5ABD2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6E2C-4F63-447B-88C4-F300A358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81FC-B6CE-4D5B-8174-DD6E63B1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A45-82BC-4FA8-9491-10B15BD4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8883-2F38-4E3C-A2FD-40AF792B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2325-5F18-438D-9910-61FB77DB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EC52-F57C-4235-AA8F-4A840978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E9E5-5ECD-4B93-84FD-E926405E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762E-B06A-4178-A5E2-BD00EC80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4033F-2CA2-499F-8EC1-A5BC5DD1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40A2E-2B07-47A5-ADD8-8AB20938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434E-2F6C-4F36-A661-E4C5B61B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E820-84B0-465A-91E7-997D39C2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1DC7E-C07C-4634-B008-A0E4CFD2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EB16-2090-4577-9BEC-24821F80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A3A7C-46BA-4278-9129-B71F968B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7AB91-C04F-419A-94B7-214F5179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95E5-0E2D-4420-8306-3EC6021C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8324-BADA-42C7-BFAD-5CD3E378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36FEF-85FC-4654-AD78-72CF21A3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080F8-B7CD-468C-8243-7495BA1D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ADDE4-4EF5-4A06-B0C8-99936DFC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631-3B75-48FA-A7BB-5C176121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03E-8432-468B-B109-0ACD4B09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DA8-4EC5-4360-8703-C63A5CB2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D32-663F-4304-98F2-CCFFC03C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771-A58F-4DCE-ABBF-79B6EFF1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F1C-737A-4D7F-AABD-8CA51DAE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E72A-F264-497D-97C6-F46AB9362DC0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86F6-F3B9-4171-ADB3-A6A803FA367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0BD0-30C3-4575-B693-73DC0D2B1A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7F0F-636E-4B6A-BB76-6548C748E534}" type="slidenum">
              <a:rPr b="1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733560"/>
            <a:ext cx="6095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Impact"/>
                <a:ea typeface="宋体"/>
              </a:rPr>
              <a:t>APACHE SUNS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90360" y="4952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Impact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939680" y="189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굴림"/>
              </a:rPr>
              <a:t>军事报告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굴림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3504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320" y="762120"/>
            <a:ext cx="6248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Impact"/>
                <a:ea typeface="宋体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A371-C858-4D79-B7EF-E7F9FF928B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2T08:3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01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