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84F8C-6F9E-42A5-B5A6-73489DF1A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657240" y="990360"/>
            <a:ext cx="5257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37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69FC9-B621-44B8-8F39-C98F443A6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657240" y="990360"/>
            <a:ext cx="5257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37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073FD-A492-4F44-859D-34B4FA058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657240" y="990360"/>
            <a:ext cx="5257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37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A6319-98B6-410F-9985-46E56ECED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688F8-B7F9-436D-9902-76DBE535E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657240" y="990360"/>
            <a:ext cx="5257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37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3BEFB-8E4F-46F1-AD39-37492A8A6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657240" y="990360"/>
            <a:ext cx="5257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37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236F4-F4E6-4F91-B3C1-3E2D2C5F6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657240" y="990360"/>
            <a:ext cx="5257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37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C1AFD-603B-4C05-BE79-F68722077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657240" y="990360"/>
            <a:ext cx="5257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37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11169-7B09-4E25-B793-0EC08A427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657240" y="990360"/>
            <a:ext cx="5257800" cy="9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CC538-F7F3-4081-8E40-CC149AC7F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657240" y="990360"/>
            <a:ext cx="5257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37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A0F87-203B-4DE0-9D9D-92A2E0E05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657240" y="990360"/>
            <a:ext cx="5257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37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7859A-2A36-40AB-8584-F8694D98E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657240" y="990360"/>
            <a:ext cx="5257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37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034F0-EA6C-4298-B454-A9D13008C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657240" y="990360"/>
            <a:ext cx="5257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37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A363C-2252-46BB-96EE-E7C0F894B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657240" y="990360"/>
            <a:ext cx="5257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37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DE70A-75FE-4F1A-BB34-53EAAFF5C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657240" y="990360"/>
            <a:ext cx="5257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37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31E9A-76EB-47A3-A4FE-E76105D16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657240" y="990360"/>
            <a:ext cx="5257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37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BCEA6-8116-4D3C-9069-4D225C9CF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7FE597-43AC-425D-94E4-49DF129AF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657240" y="990360"/>
            <a:ext cx="5257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37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BC33A0-4468-4657-A04F-B5E5B929E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657240" y="990360"/>
            <a:ext cx="5257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37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B8A346-0AF1-432F-849C-45BED1615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657240" y="990360"/>
            <a:ext cx="5257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37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523623-2FB4-42B9-A2A2-E903FB8DB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657240" y="990360"/>
            <a:ext cx="5257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37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96944B-5849-478A-8579-CF2667AF1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657240" y="990360"/>
            <a:ext cx="5257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37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B5349-B6FE-40B0-A073-6706D42DE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3657240" y="990360"/>
            <a:ext cx="5257800" cy="9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34054B-85A3-407C-98F8-03AEE79B3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657240" y="990360"/>
            <a:ext cx="5257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37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E90C8C-04ED-4F95-B120-B680FC4D9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657240" y="990360"/>
            <a:ext cx="5257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37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123420-3015-491D-AED0-0408D25FE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657240" y="990360"/>
            <a:ext cx="5257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37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CA0367-CC31-4DE3-B038-2CE914D46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657240" y="990360"/>
            <a:ext cx="5257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37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D7C917-6073-48A5-AAA8-0017BDBE4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657240" y="990360"/>
            <a:ext cx="5257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37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6D6044-3663-46EB-801D-6BE9B1BF7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657240" y="990360"/>
            <a:ext cx="5257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37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2A51D0-2CEB-4CA6-94AE-9C16E582F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7B2E31-54D9-48EA-9A44-2E361CF70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657240" y="990360"/>
            <a:ext cx="5257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37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88AA67-2AD6-4950-9BB7-7F72D84DD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657240" y="990360"/>
            <a:ext cx="5257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37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FB525D-B840-4655-89E2-2CD92807C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657240" y="990360"/>
            <a:ext cx="5257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37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692D6-BE88-49DA-A7EB-05676ECB2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657240" y="990360"/>
            <a:ext cx="5257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37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533B8A-535B-4E95-99F7-7DA3B8B2D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657240" y="990360"/>
            <a:ext cx="5257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37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3DCBED-184D-4880-88DC-2C933D2A9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3657240" y="990360"/>
            <a:ext cx="5257800" cy="9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72B89E-418E-480D-AC87-170251D3C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657240" y="990360"/>
            <a:ext cx="5257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37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792FD3-C2C8-4F1F-B0E5-8A803771E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657240" y="990360"/>
            <a:ext cx="5257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37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4FB23B-B5B3-4096-9AC8-17C66341A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657240" y="990360"/>
            <a:ext cx="5257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37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D0213E-4DD4-4D98-8501-B1427EF0C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657240" y="990360"/>
            <a:ext cx="5257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37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44A5D3-D90A-4405-AAB0-FB61F617F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657240" y="990360"/>
            <a:ext cx="5257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37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9EA607-99F6-4DBA-8A41-0BB6D44F1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657240" y="990360"/>
            <a:ext cx="5257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37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9B7E13-ECD3-418E-BB23-6E0EDD831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5F1C0E-7D82-403B-BA53-F3DD3BD80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657240" y="990360"/>
            <a:ext cx="5257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37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E6526-6398-4550-BC06-AF1B7A93C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657240" y="990360"/>
            <a:ext cx="5257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37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49B864-D8BD-4818-85FD-B4B4091A6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657240" y="990360"/>
            <a:ext cx="5257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37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7CA7C5-E344-4160-A91A-47A902218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657240" y="990360"/>
            <a:ext cx="5257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37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F0FEDC-EC88-4D03-A41E-36ECF9D0E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657240" y="990360"/>
            <a:ext cx="5257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37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7BEE75-FB8F-4652-B131-C0FFDAA25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3657240" y="990360"/>
            <a:ext cx="5257800" cy="9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45B7D6-6350-4357-8024-D7DF67284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657240" y="990360"/>
            <a:ext cx="5257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37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CABCAC-4A11-486A-9FFB-25055FEC9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657240" y="990360"/>
            <a:ext cx="5257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37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DA1623-44D9-4CF8-A476-86EB1DF53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657240" y="990360"/>
            <a:ext cx="5257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37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2AB7A8-C363-4C5E-BC95-303F0E686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657240" y="990360"/>
            <a:ext cx="5257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37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1E27C7-2826-48C6-BBA3-012F378B2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657240" y="990360"/>
            <a:ext cx="5257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37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241EA7-219E-4AAB-A7A9-063A53C01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657240" y="990360"/>
            <a:ext cx="5257800" cy="9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583E8-9BAC-4464-A062-14B3A9D67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657240" y="990360"/>
            <a:ext cx="5257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37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D2B894-0CAF-4F73-B905-7769FEF1F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657240" y="990360"/>
            <a:ext cx="5257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37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32510-FED8-4063-A1AC-4E4B2D193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657240" y="990360"/>
            <a:ext cx="5257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37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B1DA7-171E-452A-AD94-9067F05AE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657240" y="990360"/>
            <a:ext cx="5257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37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C3EB6-1BD9-4D08-AE39-757C7557F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9880" y="2666520"/>
            <a:ext cx="51818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733920" y="4419720"/>
            <a:ext cx="5410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4000"/>
          </a:bodyPr>
          <a:p>
            <a:pPr marL="47880" indent="-47880"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720" indent="-63720">
              <a:spcBef>
                <a:spcPts val="4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7800" indent="-127800"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91880" indent="-191880">
              <a:spcBef>
                <a:spcPts val="4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55960" indent="-255960">
              <a:spcBef>
                <a:spcPts val="4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5960" indent="-255960">
              <a:spcBef>
                <a:spcPts val="4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55960" indent="-255960">
              <a:spcBef>
                <a:spcPts val="4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1AF2C-DD76-43C7-8EB1-23A73970E422}" type="slidenum"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666880" y="609120"/>
            <a:ext cx="601992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666880" y="1676520"/>
            <a:ext cx="601992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25"/>
              </a:spcBef>
              <a:buClr>
                <a:srgbClr val="000000"/>
              </a:buClr>
              <a:buFont typeface="Arial"/>
              <a:buChar char="•"/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457200">
              <a:spcBef>
                <a:spcPts val="425"/>
              </a:spcBef>
              <a:buClr>
                <a:srgbClr val="000000"/>
              </a:buClr>
              <a:buFont typeface="Arial"/>
              <a:buChar char="–"/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914400">
              <a:spcBef>
                <a:spcPts val="425"/>
              </a:spcBef>
              <a:buClr>
                <a:srgbClr val="000000"/>
              </a:buClr>
              <a:buFont typeface="Arial"/>
              <a:buChar char="•"/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1371600">
              <a:spcBef>
                <a:spcPts val="425"/>
              </a:spcBef>
              <a:buClr>
                <a:srgbClr val="000000"/>
              </a:buClr>
              <a:buFont typeface="Arial"/>
              <a:buChar char="–"/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1828800">
              <a:spcBef>
                <a:spcPts val="425"/>
              </a:spcBef>
              <a:buClr>
                <a:srgbClr val="000000"/>
              </a:buClr>
              <a:buFont typeface="Arial"/>
              <a:buChar char="»"/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1828800">
              <a:spcBef>
                <a:spcPts val="425"/>
              </a:spcBef>
              <a:buClr>
                <a:srgbClr val="000000"/>
              </a:buClr>
              <a:buFont typeface="Arial"/>
              <a:buChar char="»"/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1828800">
              <a:spcBef>
                <a:spcPts val="425"/>
              </a:spcBef>
              <a:buClr>
                <a:srgbClr val="000000"/>
              </a:buClr>
              <a:buFont typeface="Arial"/>
              <a:buChar char="»"/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0565D-8794-4358-90F0-1B1BDC802D0F}" type="slidenum"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09680" y="533520"/>
            <a:ext cx="647712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25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25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2209680" y="1600200"/>
            <a:ext cx="647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457200">
              <a:spcBef>
                <a:spcPts val="451"/>
              </a:spcBef>
              <a:buClr>
                <a:srgbClr val="000000"/>
              </a:buClr>
              <a:buFont typeface="Arial"/>
              <a:buChar char="–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914400">
              <a:spcBef>
                <a:spcPts val="451"/>
              </a:spcBef>
              <a:buClr>
                <a:srgbClr val="000000"/>
              </a:buClr>
              <a:buFont typeface="Arial"/>
              <a:buChar char="•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1371600">
              <a:spcBef>
                <a:spcPts val="451"/>
              </a:spcBef>
              <a:buClr>
                <a:srgbClr val="000000"/>
              </a:buClr>
              <a:buFont typeface="Arial"/>
              <a:buChar char="–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B897E-FB4E-4287-BEBF-6EB268FAFE06}" type="slidenum"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657240" y="990360"/>
            <a:ext cx="5257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37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37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8E02B-0EA2-4B57-9254-AEC49F9C2639}" type="slidenum"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457200">
              <a:spcBef>
                <a:spcPts val="700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914400">
              <a:spcBef>
                <a:spcPts val="6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1371600">
              <a:spcBef>
                <a:spcPts val="4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4CEA6-EF14-41AC-A542-8073D4042B17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CCBC7-CDB5-438D-8666-F3E63117D67D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2741760" y="359676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7760" indent="-347760" algn="ctr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微软雅黑"/>
              <a:buChar char="•"/>
            </a:pPr>
            <a:r>
              <a:rPr b="1" i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此处放置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title"/>
          </p:nvPr>
        </p:nvSpPr>
        <p:spPr>
          <a:xfrm>
            <a:off x="1370160" y="2401920"/>
            <a:ext cx="7772400" cy="11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微软雅黑"/>
                <a:ea typeface="微软雅黑"/>
              </a:rPr>
              <a:t>金色时尚报告</a:t>
            </a:r>
            <a:r>
              <a:rPr b="0" lang="en-US" sz="4000" spc="-1" strike="noStrike">
                <a:solidFill>
                  <a:srgbClr val="ffcc00"/>
                </a:solidFill>
                <a:latin typeface="微软雅黑"/>
                <a:ea typeface="微软雅黑"/>
              </a:rPr>
              <a:t>PPT</a:t>
            </a:r>
            <a:r>
              <a:rPr b="0" lang="zh-CN" sz="4000" spc="-1" strike="noStrike">
                <a:solidFill>
                  <a:srgbClr val="ffcc00"/>
                </a:solidFill>
                <a:latin typeface="微软雅黑"/>
                <a:ea typeface="微软雅黑"/>
              </a:rPr>
              <a:t>模板在线下载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07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666880" y="609120"/>
            <a:ext cx="601992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1" i="1" lang="zh-CN" sz="25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放置主题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456840" y="2209320"/>
            <a:ext cx="20574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7760" indent="-347760">
              <a:lnSpc>
                <a:spcPct val="100000"/>
              </a:lnSpc>
              <a:spcBef>
                <a:spcPts val="363"/>
              </a:spcBef>
              <a:buClr>
                <a:srgbClr val="000000"/>
              </a:buClr>
              <a:buFont typeface="微软雅黑"/>
              <a:buChar char="•"/>
            </a:pPr>
            <a:r>
              <a:rPr b="0" i="1" lang="zh-CN" sz="15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在此处键入副标题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2666880" y="1676520"/>
            <a:ext cx="601992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7760" indent="-347760">
              <a:lnSpc>
                <a:spcPct val="100000"/>
              </a:lnSpc>
              <a:spcBef>
                <a:spcPts val="363"/>
              </a:spcBef>
              <a:buClr>
                <a:srgbClr val="000000"/>
              </a:buClr>
              <a:buFont typeface="微软雅黑"/>
              <a:buChar char="•"/>
            </a:pPr>
            <a:r>
              <a:rPr b="0" i="1" lang="zh-CN" sz="15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在此处键入说明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29719-47E1-475B-96CB-1C324F621451}" type="slidenum"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209680" y="533520"/>
            <a:ext cx="647712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1" i="1" lang="zh-CN" sz="2500" spc="-1" strike="noStrike">
                <a:solidFill>
                  <a:srgbClr val="ffcc00"/>
                </a:solidFill>
                <a:latin typeface="微软雅黑"/>
                <a:ea typeface="微软雅黑"/>
              </a:rPr>
              <a:t>在此处放置主题</a:t>
            </a:r>
            <a:endParaRPr b="0" lang="en-US" sz="25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2209680" y="1600200"/>
            <a:ext cx="647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7760"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在此处键入说明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85E28-E4FB-4647-84AE-9700BD7A7F58}" type="slidenum"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文本框 2"/>
          <p:cNvSpPr/>
          <p:nvPr/>
        </p:nvSpPr>
        <p:spPr>
          <a:xfrm>
            <a:off x="685800" y="328608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E8581-7261-48D3-A5FC-D9831CA2D07F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657240" y="990360"/>
            <a:ext cx="5257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1" i="1" lang="zh-CN" sz="3700" spc="-1" strike="noStrike">
                <a:solidFill>
                  <a:srgbClr val="ffcc00"/>
                </a:solidFill>
                <a:latin typeface="微软雅黑"/>
                <a:ea typeface="微软雅黑"/>
              </a:rPr>
              <a:t>过渡页</a:t>
            </a:r>
            <a:endParaRPr b="0" lang="en-US" sz="37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1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D9CF2-02E0-4A7D-A3F5-5AEC77B4FC2A}" type="slidenum"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2T15:21:42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2-12T07:18:48Z</dcterms:modified>
  <cp:revision>6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00</vt:lpwstr>
  </property>
  <property fmtid="{D5CDD505-2E9C-101B-9397-08002B2CF9AE}" pid="3" name="_TemplateID">
    <vt:lpwstr>TC019517589991</vt:lpwstr>
  </property>
</Properties>
</file>