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9BE-3BA4-4194-924E-03071133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C6B-8150-4958-8064-343BD9F4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E22-C342-4E9E-9B44-3EE6C98C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BB1-CB35-4A32-8EE7-0BAE695B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2C1D-508A-40CD-82AE-01766CA3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AA7B-C591-4B8C-9261-EBEB1C0D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C24F-E1F1-456A-8B9C-6B2353E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D8C-F01E-45C6-B3AC-7B051B1A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E46D-7F7D-4D23-AB40-DA9643C9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DE85-6D92-452A-B5F9-50A778A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5706-C195-48D9-A5A1-9A3201A8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F65-A001-4929-84FE-409609EF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82D0-5927-4D10-AEBF-2EB65778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3503-DE45-4E95-9FA5-C61C50EF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517D-8DD3-413C-991E-9B433C8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211C-9EED-406E-A06C-4AA161C9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84C8-5B9E-4118-8B6F-6D20618F8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2D62-7264-438C-A622-1557CC75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6ECA-DFB9-4188-97C2-28916DC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37C-95E1-4FD7-9A28-07283729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D1F-599A-4C3B-AB99-D323F440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4EEE-236E-4E50-8BE9-D015361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65B-6838-4416-BB34-DAF18909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D546-17D6-4BEB-8747-44D94F02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8092-A6D4-4365-A260-0B08120792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5CC0-7178-4DC5-9A20-8A5E30C3CB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BC7-EC80-49B7-A7C3-61A64AE1E0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简约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"/>
          <p:cNvGrpSpPr/>
          <p:nvPr/>
        </p:nvGrpSpPr>
        <p:grpSpPr>
          <a:xfrm>
            <a:off x="0" y="0"/>
            <a:ext cx="2109960" cy="2409840"/>
            <a:chOff x="0" y="0"/>
            <a:chExt cx="2109960" cy="2409840"/>
          </a:xfrm>
        </p:grpSpPr>
        <p:sp>
          <p:nvSpPr>
            <p:cNvPr id="85" name="任意多边形 14"/>
            <p:cNvSpPr/>
            <p:nvPr/>
          </p:nvSpPr>
          <p:spPr>
            <a:xfrm>
              <a:off x="681120" y="0"/>
              <a:ext cx="1428840" cy="240984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任意多边形 15"/>
            <p:cNvSpPr/>
            <p:nvPr/>
          </p:nvSpPr>
          <p:spPr>
            <a:xfrm>
              <a:off x="0" y="0"/>
              <a:ext cx="1095480" cy="239112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6095880" y="4192560"/>
            <a:ext cx="360" cy="1160640"/>
            <a:chOff x="6095880" y="4192560"/>
            <a:chExt cx="360" cy="1160640"/>
          </a:xfrm>
        </p:grpSpPr>
        <p:sp>
          <p:nvSpPr>
            <p:cNvPr id="88" name="直接连接符 20"/>
            <p:cNvSpPr/>
            <p:nvPr/>
          </p:nvSpPr>
          <p:spPr>
            <a:xfrm>
              <a:off x="6095880" y="4192560"/>
              <a:ext cx="0" cy="1160640"/>
            </a:xfrm>
            <a:prstGeom prst="line">
              <a:avLst/>
            </a:prstGeom>
            <a:ln w="28440">
              <a:solidFill>
                <a:srgbClr val="639e9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6095880" y="4192560"/>
              <a:ext cx="360" cy="116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3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"/>
          <p:cNvSpPr/>
          <p:nvPr/>
        </p:nvSpPr>
        <p:spPr>
          <a:xfrm>
            <a:off x="5697360" y="15620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4"/>
          <p:cNvSpPr/>
          <p:nvPr/>
        </p:nvSpPr>
        <p:spPr>
          <a:xfrm>
            <a:off x="5697360" y="194472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839880" y="5170320"/>
            <a:ext cx="1103400" cy="1103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1390680" y="2997360"/>
            <a:ext cx="1549440" cy="154764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3660840" y="3817800"/>
            <a:ext cx="2435040" cy="2435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6710400" y="3378240"/>
            <a:ext cx="1103400" cy="110340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10"/>
          <p:cNvSpPr/>
          <p:nvPr/>
        </p:nvSpPr>
        <p:spPr>
          <a:xfrm>
            <a:off x="8985240" y="4686480"/>
            <a:ext cx="411120" cy="411120"/>
          </a:xfrm>
          <a:prstGeom prst="ellipse">
            <a:avLst/>
          </a:pr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1"/>
          <p:cNvSpPr/>
          <p:nvPr/>
        </p:nvSpPr>
        <p:spPr>
          <a:xfrm>
            <a:off x="1106640" y="2284560"/>
            <a:ext cx="211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12"/>
          <p:cNvSpPr/>
          <p:nvPr/>
        </p:nvSpPr>
        <p:spPr>
          <a:xfrm>
            <a:off x="6404040" y="4545000"/>
            <a:ext cx="197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390320" y="4317480"/>
            <a:ext cx="227520" cy="854280"/>
            <a:chOff x="1390320" y="4317480"/>
            <a:chExt cx="227520" cy="854280"/>
          </a:xfrm>
        </p:grpSpPr>
        <p:sp>
          <p:nvSpPr>
            <p:cNvPr id="250" name="直接连接符 15"/>
            <p:cNvSpPr/>
            <p:nvPr/>
          </p:nvSpPr>
          <p:spPr>
            <a:xfrm flipV="1">
              <a:off x="1390680" y="4317480"/>
              <a:ext cx="227160" cy="85428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 rot="10800000">
              <a:off x="1390320" y="4317480"/>
              <a:ext cx="227160" cy="85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38320" y="3772080"/>
            <a:ext cx="1078200" cy="403200"/>
            <a:chOff x="2938320" y="3772080"/>
            <a:chExt cx="1078200" cy="403200"/>
          </a:xfrm>
        </p:grpSpPr>
        <p:sp>
          <p:nvSpPr>
            <p:cNvPr id="253" name="直接连接符 18"/>
            <p:cNvSpPr/>
            <p:nvPr/>
          </p:nvSpPr>
          <p:spPr>
            <a:xfrm>
              <a:off x="2938320" y="3772080"/>
              <a:ext cx="1078200" cy="40320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2938320" y="3772080"/>
              <a:ext cx="1078200" cy="40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095520" y="3930480"/>
            <a:ext cx="614880" cy="1105200"/>
            <a:chOff x="6095520" y="3930480"/>
            <a:chExt cx="614880" cy="1105200"/>
          </a:xfrm>
        </p:grpSpPr>
        <p:sp>
          <p:nvSpPr>
            <p:cNvPr id="256" name="直接连接符 20"/>
            <p:cNvSpPr/>
            <p:nvPr/>
          </p:nvSpPr>
          <p:spPr>
            <a:xfrm flipV="1">
              <a:off x="6095880" y="3930480"/>
              <a:ext cx="614520" cy="1105200"/>
            </a:xfrm>
            <a:prstGeom prst="line">
              <a:avLst/>
            </a:prstGeom>
            <a:ln w="64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 rot="10800000">
              <a:off x="6095520" y="3930480"/>
              <a:ext cx="614520" cy="110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文本框 23"/>
          <p:cNvSpPr/>
          <p:nvPr/>
        </p:nvSpPr>
        <p:spPr>
          <a:xfrm>
            <a:off x="1619280" y="3429000"/>
            <a:ext cx="10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32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"/>
          <p:cNvSpPr/>
          <p:nvPr/>
        </p:nvSpPr>
        <p:spPr>
          <a:xfrm>
            <a:off x="4330800" y="420516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97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5"/>
          <p:cNvSpPr/>
          <p:nvPr/>
        </p:nvSpPr>
        <p:spPr>
          <a:xfrm>
            <a:off x="3887640" y="501336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6"/>
          <p:cNvSpPr/>
          <p:nvPr/>
        </p:nvSpPr>
        <p:spPr>
          <a:xfrm>
            <a:off x="6710400" y="351936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27"/>
          <p:cNvSpPr/>
          <p:nvPr/>
        </p:nvSpPr>
        <p:spPr>
          <a:xfrm>
            <a:off x="839880" y="5315040"/>
            <a:ext cx="10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6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7"/>
          <p:cNvSpPr/>
          <p:nvPr/>
        </p:nvSpPr>
        <p:spPr>
          <a:xfrm>
            <a:off x="630360" y="2257560"/>
            <a:ext cx="2315880" cy="231588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弧形 6"/>
          <p:cNvSpPr/>
          <p:nvPr/>
        </p:nvSpPr>
        <p:spPr>
          <a:xfrm rot="5400000">
            <a:off x="421560" y="2049120"/>
            <a:ext cx="2730600" cy="2730600"/>
          </a:xfrm>
          <a:custGeom>
            <a:avLst/>
            <a:gdLst/>
            <a:ahLst/>
            <a:rect l="l" t="t" r="r" b="b"/>
            <a:pathLst>
              <a:path stroke="0" w="4300" h="4300">
                <a:moveTo>
                  <a:pt x="2149" y="0"/>
                </a:moveTo>
                <a:cubicBezTo>
                  <a:pt x="3336" y="0"/>
                  <a:pt x="4299" y="963"/>
                  <a:pt x="4299" y="2150"/>
                </a:cubicBezTo>
                <a:cubicBezTo>
                  <a:pt x="4299" y="3337"/>
                  <a:pt x="3336" y="4300"/>
                  <a:pt x="2149" y="4300"/>
                </a:cubicBezTo>
                <a:cubicBezTo>
                  <a:pt x="962" y="4300"/>
                  <a:pt x="-1" y="3337"/>
                  <a:pt x="-1" y="2150"/>
                </a:cubicBezTo>
                <a:cubicBezTo>
                  <a:pt x="-1" y="1104"/>
                  <a:pt x="746" y="233"/>
                  <a:pt x="1735" y="40"/>
                </a:cubicBezTo>
                <a:lnTo>
                  <a:pt x="2150" y="2150"/>
                </a:lnTo>
                <a:close/>
              </a:path>
              <a:path fill="none" w="4300" h="4300">
                <a:moveTo>
                  <a:pt x="2149" y="0"/>
                </a:moveTo>
                <a:cubicBezTo>
                  <a:pt x="3336" y="0"/>
                  <a:pt x="4299" y="963"/>
                  <a:pt x="4299" y="2150"/>
                </a:cubicBezTo>
                <a:cubicBezTo>
                  <a:pt x="4299" y="3337"/>
                  <a:pt x="3336" y="4300"/>
                  <a:pt x="2149" y="4300"/>
                </a:cubicBezTo>
                <a:cubicBezTo>
                  <a:pt x="962" y="4300"/>
                  <a:pt x="-1" y="3337"/>
                  <a:pt x="-1" y="2150"/>
                </a:cubicBezTo>
                <a:cubicBezTo>
                  <a:pt x="-1" y="1104"/>
                  <a:pt x="746" y="233"/>
                  <a:pt x="1735" y="40"/>
                </a:cubicBezTo>
              </a:path>
            </a:pathLst>
          </a:custGeom>
          <a:noFill/>
          <a:ln w="1908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696960" y="2606760"/>
            <a:ext cx="22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5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12"/>
          <p:cNvSpPr/>
          <p:nvPr/>
        </p:nvSpPr>
        <p:spPr>
          <a:xfrm>
            <a:off x="674640" y="3560760"/>
            <a:ext cx="22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Text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147840" y="3417840"/>
            <a:ext cx="9044280" cy="360"/>
            <a:chOff x="3147840" y="3417840"/>
            <a:chExt cx="9044280" cy="360"/>
          </a:xfrm>
        </p:grpSpPr>
        <p:sp>
          <p:nvSpPr>
            <p:cNvPr id="272" name="直接连接符 9"/>
            <p:cNvSpPr/>
            <p:nvPr/>
          </p:nvSpPr>
          <p:spPr>
            <a:xfrm>
              <a:off x="3147840" y="3417840"/>
              <a:ext cx="9044280" cy="0"/>
            </a:xfrm>
            <a:prstGeom prst="line">
              <a:avLst/>
            </a:prstGeom>
            <a:ln w="19080">
              <a:solidFill>
                <a:srgbClr val="29867b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147840" y="3417840"/>
              <a:ext cx="904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文本框 18"/>
          <p:cNvSpPr/>
          <p:nvPr/>
        </p:nvSpPr>
        <p:spPr>
          <a:xfrm>
            <a:off x="839880" y="514656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9"/>
          <p:cNvSpPr/>
          <p:nvPr/>
        </p:nvSpPr>
        <p:spPr>
          <a:xfrm>
            <a:off x="839880" y="5529240"/>
            <a:ext cx="104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Waiting for my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27"/>
          <p:cNvGrpSpPr/>
          <p:nvPr/>
        </p:nvGrpSpPr>
        <p:grpSpPr>
          <a:xfrm>
            <a:off x="4425840" y="2257560"/>
            <a:ext cx="279360" cy="1299960"/>
            <a:chOff x="4425840" y="2257560"/>
            <a:chExt cx="279360" cy="1299960"/>
          </a:xfrm>
        </p:grpSpPr>
        <p:sp>
          <p:nvSpPr>
            <p:cNvPr id="277" name="椭圆 14"/>
            <p:cNvSpPr/>
            <p:nvPr/>
          </p:nvSpPr>
          <p:spPr>
            <a:xfrm>
              <a:off x="4425840" y="3279600"/>
              <a:ext cx="27936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565520" y="2257560"/>
              <a:ext cx="360" cy="880560"/>
              <a:chOff x="4565520" y="2257560"/>
              <a:chExt cx="360" cy="880560"/>
            </a:xfrm>
          </p:grpSpPr>
          <p:sp>
            <p:nvSpPr>
              <p:cNvPr id="279" name="直接连接符 23"/>
              <p:cNvSpPr/>
              <p:nvPr/>
            </p:nvSpPr>
            <p:spPr>
              <a:xfrm>
                <a:off x="4565520" y="225756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4565520" y="225756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7243920" y="3279600"/>
            <a:ext cx="277560" cy="1293840"/>
            <a:chOff x="7243920" y="3279600"/>
            <a:chExt cx="277560" cy="1293840"/>
          </a:xfrm>
        </p:grpSpPr>
        <p:sp>
          <p:nvSpPr>
            <p:cNvPr id="282" name="椭圆 15"/>
            <p:cNvSpPr/>
            <p:nvPr/>
          </p:nvSpPr>
          <p:spPr>
            <a:xfrm>
              <a:off x="7243920" y="3279600"/>
              <a:ext cx="27756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382520" y="3692880"/>
              <a:ext cx="360" cy="880560"/>
              <a:chOff x="7382520" y="3692880"/>
              <a:chExt cx="360" cy="880560"/>
            </a:xfrm>
          </p:grpSpPr>
          <p:sp>
            <p:nvSpPr>
              <p:cNvPr id="284" name="直接连接符 24"/>
              <p:cNvSpPr/>
              <p:nvPr/>
            </p:nvSpPr>
            <p:spPr>
              <a:xfrm>
                <a:off x="7382520" y="369288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7382520" y="369288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0"/>
          <p:cNvGrpSpPr/>
          <p:nvPr/>
        </p:nvGrpSpPr>
        <p:grpSpPr>
          <a:xfrm>
            <a:off x="10061640" y="2257560"/>
            <a:ext cx="277920" cy="1299960"/>
            <a:chOff x="10061640" y="2257560"/>
            <a:chExt cx="277920" cy="1299960"/>
          </a:xfrm>
        </p:grpSpPr>
        <p:sp>
          <p:nvSpPr>
            <p:cNvPr id="287" name="椭圆 16"/>
            <p:cNvSpPr/>
            <p:nvPr/>
          </p:nvSpPr>
          <p:spPr>
            <a:xfrm>
              <a:off x="10061640" y="3279600"/>
              <a:ext cx="277920" cy="277920"/>
            </a:xfrm>
            <a:prstGeom prst="ellipse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10200600" y="2257560"/>
              <a:ext cx="360" cy="880560"/>
              <a:chOff x="10200600" y="2257560"/>
              <a:chExt cx="360" cy="880560"/>
            </a:xfrm>
          </p:grpSpPr>
          <p:sp>
            <p:nvSpPr>
              <p:cNvPr id="289" name="直接连接符 25"/>
              <p:cNvSpPr/>
              <p:nvPr/>
            </p:nvSpPr>
            <p:spPr>
              <a:xfrm>
                <a:off x="10200600" y="2257560"/>
                <a:ext cx="0" cy="880560"/>
              </a:xfrm>
              <a:prstGeom prst="line">
                <a:avLst/>
              </a:prstGeom>
              <a:ln w="6480">
                <a:solidFill>
                  <a:srgbClr val="0e7769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 txBox="1"/>
              <p:nvPr/>
            </p:nvSpPr>
            <p:spPr>
              <a:xfrm>
                <a:off x="10200600" y="2257560"/>
                <a:ext cx="360" cy="88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文本框 26"/>
          <p:cNvSpPr/>
          <p:nvPr/>
        </p:nvSpPr>
        <p:spPr>
          <a:xfrm>
            <a:off x="3479760" y="213048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32"/>
          <p:cNvSpPr/>
          <p:nvPr/>
        </p:nvSpPr>
        <p:spPr>
          <a:xfrm>
            <a:off x="3479760" y="1652760"/>
            <a:ext cx="2817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33"/>
          <p:cNvSpPr/>
          <p:nvPr/>
        </p:nvSpPr>
        <p:spPr>
          <a:xfrm>
            <a:off x="9113760" y="2130480"/>
            <a:ext cx="10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4"/>
          <p:cNvSpPr/>
          <p:nvPr/>
        </p:nvSpPr>
        <p:spPr>
          <a:xfrm>
            <a:off x="9113760" y="1652760"/>
            <a:ext cx="2792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5"/>
          <p:cNvSpPr/>
          <p:nvPr/>
        </p:nvSpPr>
        <p:spPr>
          <a:xfrm>
            <a:off x="6297480" y="4195800"/>
            <a:ext cx="10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6"/>
          <p:cNvSpPr/>
          <p:nvPr/>
        </p:nvSpPr>
        <p:spPr>
          <a:xfrm>
            <a:off x="6431040" y="4700520"/>
            <a:ext cx="29415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98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平行四边形 3"/>
          <p:cNvSpPr/>
          <p:nvPr/>
        </p:nvSpPr>
        <p:spPr>
          <a:xfrm>
            <a:off x="839880" y="2819520"/>
            <a:ext cx="1942920" cy="403848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平行四边形 6"/>
          <p:cNvSpPr/>
          <p:nvPr/>
        </p:nvSpPr>
        <p:spPr>
          <a:xfrm>
            <a:off x="2608200" y="3476520"/>
            <a:ext cx="1712880" cy="338148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平行四边形 7"/>
          <p:cNvSpPr/>
          <p:nvPr/>
        </p:nvSpPr>
        <p:spPr>
          <a:xfrm>
            <a:off x="4110120" y="4352760"/>
            <a:ext cx="1299960" cy="2505240"/>
          </a:xfrm>
          <a:prstGeom prst="parallelogram">
            <a:avLst>
              <a:gd name="adj" fmla="val 56866"/>
            </a:avLst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8"/>
          <p:cNvSpPr/>
          <p:nvPr/>
        </p:nvSpPr>
        <p:spPr>
          <a:xfrm>
            <a:off x="6537240" y="131436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9"/>
          <p:cNvSpPr/>
          <p:nvPr/>
        </p:nvSpPr>
        <p:spPr>
          <a:xfrm>
            <a:off x="6537240" y="2192400"/>
            <a:ext cx="4815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10"/>
          <p:cNvSpPr/>
          <p:nvPr/>
        </p:nvSpPr>
        <p:spPr>
          <a:xfrm>
            <a:off x="6537240" y="4017960"/>
            <a:ext cx="48150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3"/>
          <p:cNvSpPr/>
          <p:nvPr/>
        </p:nvSpPr>
        <p:spPr>
          <a:xfrm>
            <a:off x="1800360" y="2165400"/>
            <a:ext cx="129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78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4"/>
          <p:cNvSpPr/>
          <p:nvPr/>
        </p:nvSpPr>
        <p:spPr>
          <a:xfrm>
            <a:off x="3362400" y="2801880"/>
            <a:ext cx="12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60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5"/>
          <p:cNvSpPr/>
          <p:nvPr/>
        </p:nvSpPr>
        <p:spPr>
          <a:xfrm>
            <a:off x="4680000" y="3724200"/>
            <a:ext cx="129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3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11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文本框 2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5"/>
          <p:cNvGrpSpPr/>
          <p:nvPr/>
        </p:nvGrpSpPr>
        <p:grpSpPr>
          <a:xfrm>
            <a:off x="6229440" y="1197000"/>
            <a:ext cx="6032520" cy="4998960"/>
            <a:chOff x="6229440" y="1197000"/>
            <a:chExt cx="6032520" cy="4998960"/>
          </a:xfrm>
        </p:grpSpPr>
        <p:sp>
          <p:nvSpPr>
            <p:cNvPr id="315" name="椭圆 3"/>
            <p:cNvSpPr/>
            <p:nvPr/>
          </p:nvSpPr>
          <p:spPr>
            <a:xfrm>
              <a:off x="6229440" y="1197000"/>
              <a:ext cx="4999680" cy="4998960"/>
            </a:xfrm>
            <a:prstGeom prst="ellipse">
              <a:avLst/>
            </a:prstGeom>
            <a:noFill/>
            <a:ln w="38160">
              <a:solidFill>
                <a:srgbClr val="0e776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4"/>
            <p:cNvSpPr/>
            <p:nvPr/>
          </p:nvSpPr>
          <p:spPr>
            <a:xfrm rot="3033600">
              <a:off x="8959320" y="2511360"/>
              <a:ext cx="2743200" cy="2743200"/>
            </a:xfrm>
            <a:prstGeom prst="rect">
              <a:avLst/>
            </a:prstGeom>
            <a:solidFill>
              <a:srgbClr val="2986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椭圆 6"/>
          <p:cNvSpPr/>
          <p:nvPr/>
        </p:nvSpPr>
        <p:spPr>
          <a:xfrm>
            <a:off x="6548400" y="1917720"/>
            <a:ext cx="4334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7"/>
          <p:cNvSpPr/>
          <p:nvPr/>
        </p:nvSpPr>
        <p:spPr>
          <a:xfrm>
            <a:off x="6013440" y="3324240"/>
            <a:ext cx="4316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8"/>
          <p:cNvSpPr/>
          <p:nvPr/>
        </p:nvSpPr>
        <p:spPr>
          <a:xfrm>
            <a:off x="6445080" y="4730760"/>
            <a:ext cx="433440" cy="43164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9"/>
          <p:cNvSpPr/>
          <p:nvPr/>
        </p:nvSpPr>
        <p:spPr>
          <a:xfrm>
            <a:off x="9051840" y="2695680"/>
            <a:ext cx="255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微软雅黑"/>
              </a:rPr>
              <a:t>94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0"/>
          <p:cNvSpPr/>
          <p:nvPr/>
        </p:nvSpPr>
        <p:spPr>
          <a:xfrm>
            <a:off x="9051840" y="3762360"/>
            <a:ext cx="255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1"/>
          <p:cNvSpPr/>
          <p:nvPr/>
        </p:nvSpPr>
        <p:spPr>
          <a:xfrm>
            <a:off x="4809960" y="1085760"/>
            <a:ext cx="14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2"/>
          <p:cNvSpPr/>
          <p:nvPr/>
        </p:nvSpPr>
        <p:spPr>
          <a:xfrm>
            <a:off x="2590920" y="1644480"/>
            <a:ext cx="3582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3"/>
          <p:cNvSpPr/>
          <p:nvPr/>
        </p:nvSpPr>
        <p:spPr>
          <a:xfrm>
            <a:off x="4809960" y="4373640"/>
            <a:ext cx="141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4"/>
          <p:cNvSpPr/>
          <p:nvPr/>
        </p:nvSpPr>
        <p:spPr>
          <a:xfrm>
            <a:off x="2590920" y="4933800"/>
            <a:ext cx="3582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5"/>
          <p:cNvSpPr/>
          <p:nvPr/>
        </p:nvSpPr>
        <p:spPr>
          <a:xfrm>
            <a:off x="4264200" y="2647800"/>
            <a:ext cx="14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6"/>
          <p:cNvSpPr/>
          <p:nvPr/>
        </p:nvSpPr>
        <p:spPr>
          <a:xfrm>
            <a:off x="2044800" y="3208320"/>
            <a:ext cx="35845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2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"/>
          <p:cNvGrpSpPr/>
          <p:nvPr/>
        </p:nvGrpSpPr>
        <p:grpSpPr>
          <a:xfrm>
            <a:off x="2289240" y="4600440"/>
            <a:ext cx="8076960" cy="1657800"/>
            <a:chOff x="2289240" y="4600440"/>
            <a:chExt cx="8076960" cy="1657800"/>
          </a:xfrm>
        </p:grpSpPr>
        <p:sp>
          <p:nvSpPr>
            <p:cNvPr id="332" name="文本框 3"/>
            <p:cNvSpPr/>
            <p:nvPr/>
          </p:nvSpPr>
          <p:spPr>
            <a:xfrm>
              <a:off x="2289240" y="4600440"/>
              <a:ext cx="238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4"/>
            <p:cNvSpPr/>
            <p:nvPr/>
          </p:nvSpPr>
          <p:spPr>
            <a:xfrm>
              <a:off x="2289240" y="5213880"/>
              <a:ext cx="807696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 Waiting for my they along, It smile. Those were such hap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图表 7" descr=""/>
          <p:cNvPicPr/>
          <p:nvPr/>
        </p:nvPicPr>
        <p:blipFill>
          <a:blip r:embed="rId1"/>
          <a:stretch/>
        </p:blipFill>
        <p:spPr>
          <a:xfrm>
            <a:off x="1652760" y="1038240"/>
            <a:ext cx="9350280" cy="337644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9"/>
          <p:cNvSpPr/>
          <p:nvPr/>
        </p:nvSpPr>
        <p:spPr>
          <a:xfrm>
            <a:off x="2044800" y="434880"/>
            <a:ext cx="255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3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4"/>
          <p:cNvSpPr/>
          <p:nvPr/>
        </p:nvSpPr>
        <p:spPr>
          <a:xfrm>
            <a:off x="2289240" y="460044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5"/>
          <p:cNvSpPr/>
          <p:nvPr/>
        </p:nvSpPr>
        <p:spPr>
          <a:xfrm>
            <a:off x="2289240" y="521496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they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任意多边形 7"/>
          <p:cNvSpPr/>
          <p:nvPr/>
        </p:nvSpPr>
        <p:spPr>
          <a:xfrm>
            <a:off x="2854440" y="1994040"/>
            <a:ext cx="6783120" cy="1663560"/>
          </a:xfrm>
          <a:custGeom>
            <a:avLst/>
            <a:gdLst/>
            <a:ahLst/>
            <a:rect l="l" t="t" r="r" b="b"/>
            <a:pathLst>
              <a:path w="2952750" h="723900">
                <a:moveTo>
                  <a:pt x="0" y="533400"/>
                </a:moveTo>
                <a:lnTo>
                  <a:pt x="990600" y="0"/>
                </a:lnTo>
                <a:lnTo>
                  <a:pt x="1981200" y="723900"/>
                </a:lnTo>
                <a:lnTo>
                  <a:pt x="2952750" y="419100"/>
                </a:lnTo>
                <a:lnTo>
                  <a:pt x="2952750" y="419100"/>
                </a:lnTo>
              </a:path>
            </a:pathLst>
          </a:custGeom>
          <a:noFill/>
          <a:ln w="5724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8"/>
          <p:cNvSpPr/>
          <p:nvPr/>
        </p:nvSpPr>
        <p:spPr>
          <a:xfrm>
            <a:off x="2854440" y="1490760"/>
            <a:ext cx="6783120" cy="2401920"/>
          </a:xfrm>
          <a:custGeom>
            <a:avLst/>
            <a:gdLst/>
            <a:ahLst/>
            <a:rect l="l" t="t" r="r" b="b"/>
            <a:pathLst>
              <a:path w="3067050" h="1085850">
                <a:moveTo>
                  <a:pt x="0" y="1028700"/>
                </a:moveTo>
                <a:lnTo>
                  <a:pt x="895350" y="1085850"/>
                </a:lnTo>
                <a:lnTo>
                  <a:pt x="1943100" y="781050"/>
                </a:lnTo>
                <a:lnTo>
                  <a:pt x="3067050" y="0"/>
                </a:lnTo>
                <a:lnTo>
                  <a:pt x="3067050" y="0"/>
                </a:lnTo>
              </a:path>
            </a:pathLst>
          </a:custGeom>
          <a:noFill/>
          <a:ln w="57240">
            <a:solidFill>
              <a:srgbClr val="14ae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6591240" y="4300560"/>
            <a:ext cx="343080" cy="342720"/>
          </a:xfrm>
          <a:prstGeom prst="rect">
            <a:avLst/>
          </a:prstGeom>
          <a:solidFill>
            <a:srgbClr val="14aea4"/>
          </a:solidFill>
          <a:ln w="57240">
            <a:solidFill>
              <a:srgbClr val="14ae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0"/>
          <p:cNvSpPr/>
          <p:nvPr/>
        </p:nvSpPr>
        <p:spPr>
          <a:xfrm>
            <a:off x="8508960" y="4300560"/>
            <a:ext cx="343080" cy="342720"/>
          </a:xfrm>
          <a:prstGeom prst="rect">
            <a:avLst/>
          </a:prstGeom>
          <a:solidFill>
            <a:srgbClr val="0e7769"/>
          </a:solidFill>
          <a:ln w="1260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1"/>
          <p:cNvSpPr/>
          <p:nvPr/>
        </p:nvSpPr>
        <p:spPr>
          <a:xfrm>
            <a:off x="6934320" y="4178160"/>
            <a:ext cx="13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2"/>
          <p:cNvSpPr/>
          <p:nvPr/>
        </p:nvSpPr>
        <p:spPr>
          <a:xfrm>
            <a:off x="8852040" y="4178160"/>
            <a:ext cx="133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4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3"/>
          <p:cNvSpPr/>
          <p:nvPr/>
        </p:nvSpPr>
        <p:spPr>
          <a:xfrm>
            <a:off x="2289240" y="4600440"/>
            <a:ext cx="23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4"/>
          <p:cNvSpPr/>
          <p:nvPr/>
        </p:nvSpPr>
        <p:spPr>
          <a:xfrm>
            <a:off x="2289240" y="5214960"/>
            <a:ext cx="8076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they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24"/>
          <p:cNvGrpSpPr/>
          <p:nvPr/>
        </p:nvGrpSpPr>
        <p:grpSpPr>
          <a:xfrm>
            <a:off x="8296200" y="1955880"/>
            <a:ext cx="2036880" cy="2030400"/>
            <a:chOff x="8296200" y="1955880"/>
            <a:chExt cx="2036880" cy="2030400"/>
          </a:xfrm>
        </p:grpSpPr>
        <p:sp>
          <p:nvSpPr>
            <p:cNvPr id="355" name="Freeform 5"/>
            <p:cNvSpPr/>
            <p:nvPr/>
          </p:nvSpPr>
          <p:spPr>
            <a:xfrm>
              <a:off x="8319960" y="1955880"/>
              <a:ext cx="2013120" cy="2030400"/>
            </a:xfrm>
            <a:custGeom>
              <a:avLst/>
              <a:gdLst/>
              <a:ahLst/>
              <a:rect l="l" t="t" r="r" b="b"/>
              <a:pathLst>
                <a:path w="21125" h="21314">
                  <a:moveTo>
                    <a:pt x="10022" y="10211"/>
                  </a:moveTo>
                  <a:lnTo>
                    <a:pt x="0" y="12168"/>
                  </a:lnTo>
                  <a:cubicBezTo>
                    <a:pt x="1081" y="17703"/>
                    <a:pt x="6445" y="21314"/>
                    <a:pt x="11980" y="20232"/>
                  </a:cubicBezTo>
                  <a:cubicBezTo>
                    <a:pt x="17514" y="19151"/>
                    <a:pt x="21125" y="13788"/>
                    <a:pt x="20044" y="8253"/>
                  </a:cubicBezTo>
                  <a:cubicBezTo>
                    <a:pt x="19107" y="3459"/>
                    <a:pt x="14907" y="0"/>
                    <a:pt x="10022" y="0"/>
                  </a:cubicBezTo>
                  <a:lnTo>
                    <a:pt x="10022" y="10211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8296200" y="1965240"/>
              <a:ext cx="973080" cy="1158840"/>
            </a:xfrm>
            <a:custGeom>
              <a:avLst/>
              <a:gdLst/>
              <a:ahLst/>
              <a:rect l="l" t="t" r="r" b="b"/>
              <a:pathLst>
                <a:path w="10211" h="12168">
                  <a:moveTo>
                    <a:pt x="10211" y="10211"/>
                  </a:moveTo>
                  <a:lnTo>
                    <a:pt x="10211" y="0"/>
                  </a:lnTo>
                  <a:cubicBezTo>
                    <a:pt x="4572" y="0"/>
                    <a:pt x="0" y="4571"/>
                    <a:pt x="0" y="10211"/>
                  </a:cubicBezTo>
                  <a:cubicBezTo>
                    <a:pt x="0" y="10868"/>
                    <a:pt x="63" y="11523"/>
                    <a:pt x="189" y="12168"/>
                  </a:cubicBezTo>
                  <a:lnTo>
                    <a:pt x="10211" y="102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25"/>
          <p:cNvGrpSpPr/>
          <p:nvPr/>
        </p:nvGrpSpPr>
        <p:grpSpPr>
          <a:xfrm>
            <a:off x="3390840" y="1955880"/>
            <a:ext cx="2063880" cy="1946160"/>
            <a:chOff x="3390840" y="1955880"/>
            <a:chExt cx="2063880" cy="1946160"/>
          </a:xfrm>
        </p:grpSpPr>
        <p:sp>
          <p:nvSpPr>
            <p:cNvPr id="358" name="Freeform 12"/>
            <p:cNvSpPr/>
            <p:nvPr/>
          </p:nvSpPr>
          <p:spPr>
            <a:xfrm>
              <a:off x="4370040" y="1965240"/>
              <a:ext cx="1084680" cy="1625760"/>
            </a:xfrm>
            <a:custGeom>
              <a:avLst/>
              <a:gdLst/>
              <a:ahLst/>
              <a:rect l="l" t="t" r="r" b="b"/>
              <a:pathLst>
                <a:path w="11362" h="17043">
                  <a:moveTo>
                    <a:pt x="0" y="10211"/>
                  </a:moveTo>
                  <a:lnTo>
                    <a:pt x="7588" y="17043"/>
                  </a:lnTo>
                  <a:cubicBezTo>
                    <a:pt x="11362" y="12852"/>
                    <a:pt x="11023" y="6396"/>
                    <a:pt x="6833" y="2622"/>
                  </a:cubicBezTo>
                  <a:cubicBezTo>
                    <a:pt x="4957" y="934"/>
                    <a:pt x="2523" y="0"/>
                    <a:pt x="0" y="0"/>
                  </a:cubicBezTo>
                  <a:lnTo>
                    <a:pt x="0" y="1021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4"/>
            <p:cNvSpPr/>
            <p:nvPr/>
          </p:nvSpPr>
          <p:spPr>
            <a:xfrm>
              <a:off x="3390840" y="1955880"/>
              <a:ext cx="1697760" cy="1946160"/>
            </a:xfrm>
            <a:custGeom>
              <a:avLst/>
              <a:gdLst/>
              <a:ahLst/>
              <a:rect l="l" t="t" r="r" b="b"/>
              <a:pathLst>
                <a:path w="17799" h="20422">
                  <a:moveTo>
                    <a:pt x="10211" y="10211"/>
                  </a:moveTo>
                  <a:lnTo>
                    <a:pt x="10211" y="0"/>
                  </a:lnTo>
                  <a:cubicBezTo>
                    <a:pt x="4572" y="0"/>
                    <a:pt x="0" y="4571"/>
                    <a:pt x="0" y="10211"/>
                  </a:cubicBezTo>
                  <a:cubicBezTo>
                    <a:pt x="0" y="15850"/>
                    <a:pt x="4572" y="20422"/>
                    <a:pt x="10211" y="20422"/>
                  </a:cubicBezTo>
                  <a:cubicBezTo>
                    <a:pt x="13105" y="20422"/>
                    <a:pt x="15863" y="19194"/>
                    <a:pt x="17799" y="17043"/>
                  </a:cubicBezTo>
                  <a:lnTo>
                    <a:pt x="10211" y="10211"/>
                  </a:lnTo>
                  <a:close/>
                </a:path>
              </a:pathLst>
            </a:custGeom>
            <a:solidFill>
              <a:srgbClr val="63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文本框 26"/>
          <p:cNvSpPr/>
          <p:nvPr/>
        </p:nvSpPr>
        <p:spPr>
          <a:xfrm>
            <a:off x="3726000" y="3159000"/>
            <a:ext cx="11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7"/>
          <p:cNvSpPr/>
          <p:nvPr/>
        </p:nvSpPr>
        <p:spPr>
          <a:xfrm>
            <a:off x="8737560" y="3159000"/>
            <a:ext cx="11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8196"/>
          <p:cNvSpPr/>
          <p:nvPr/>
        </p:nvSpPr>
        <p:spPr>
          <a:xfrm>
            <a:off x="919080" y="15048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36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2"/>
          <p:cNvSpPr/>
          <p:nvPr/>
        </p:nvSpPr>
        <p:spPr>
          <a:xfrm>
            <a:off x="2044800" y="434880"/>
            <a:ext cx="22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文本框 3"/>
          <p:cNvSpPr/>
          <p:nvPr/>
        </p:nvSpPr>
        <p:spPr>
          <a:xfrm>
            <a:off x="5907240" y="320832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839880" y="2511360"/>
            <a:ext cx="453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for my favorite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任意多边形 8"/>
          <p:cNvSpPr/>
          <p:nvPr/>
        </p:nvSpPr>
        <p:spPr>
          <a:xfrm>
            <a:off x="6000840" y="3813120"/>
            <a:ext cx="1003320" cy="304488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任意多边形 9"/>
          <p:cNvSpPr/>
          <p:nvPr/>
        </p:nvSpPr>
        <p:spPr>
          <a:xfrm>
            <a:off x="7369200" y="1911240"/>
            <a:ext cx="1122480" cy="494676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任意多边形 10"/>
          <p:cNvSpPr/>
          <p:nvPr/>
        </p:nvSpPr>
        <p:spPr>
          <a:xfrm>
            <a:off x="8761320" y="2716200"/>
            <a:ext cx="1121040" cy="414180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任意多边形 11"/>
          <p:cNvSpPr/>
          <p:nvPr/>
        </p:nvSpPr>
        <p:spPr>
          <a:xfrm>
            <a:off x="10152000" y="3273480"/>
            <a:ext cx="1122480" cy="3584520"/>
          </a:xfrm>
          <a:custGeom>
            <a:avLst/>
            <a:gdLst/>
            <a:ahLst/>
            <a:rect l="l" t="t" r="r" b="b"/>
            <a:pathLst>
              <a:path w="2260600" h="6858000">
                <a:moveTo>
                  <a:pt x="1130300" y="0"/>
                </a:moveTo>
                <a:cubicBezTo>
                  <a:pt x="1754547" y="0"/>
                  <a:pt x="2260600" y="506053"/>
                  <a:pt x="2260600" y="1130300"/>
                </a:cubicBezTo>
                <a:lnTo>
                  <a:pt x="2260600" y="6858000"/>
                </a:lnTo>
                <a:lnTo>
                  <a:pt x="0" y="6858000"/>
                </a:lnTo>
                <a:lnTo>
                  <a:pt x="0" y="1130300"/>
                </a:lnTo>
                <a:cubicBezTo>
                  <a:pt x="0" y="506053"/>
                  <a:pt x="506053" y="0"/>
                  <a:pt x="1130300" y="0"/>
                </a:cubicBezTo>
                <a:close/>
              </a:path>
            </a:pathLst>
          </a:custGeom>
          <a:solidFill>
            <a:srgbClr val="639e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12"/>
          <p:cNvSpPr/>
          <p:nvPr/>
        </p:nvSpPr>
        <p:spPr>
          <a:xfrm>
            <a:off x="7334280" y="1141560"/>
            <a:ext cx="119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56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文本框 13"/>
          <p:cNvSpPr/>
          <p:nvPr/>
        </p:nvSpPr>
        <p:spPr>
          <a:xfrm>
            <a:off x="8724960" y="1947960"/>
            <a:ext cx="119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9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14"/>
          <p:cNvSpPr/>
          <p:nvPr/>
        </p:nvSpPr>
        <p:spPr>
          <a:xfrm>
            <a:off x="10117080" y="2612880"/>
            <a:ext cx="119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文本框 15"/>
          <p:cNvSpPr/>
          <p:nvPr/>
        </p:nvSpPr>
        <p:spPr>
          <a:xfrm>
            <a:off x="870120" y="1746360"/>
            <a:ext cx="250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4"/>
          <p:cNvSpPr/>
          <p:nvPr/>
        </p:nvSpPr>
        <p:spPr>
          <a:xfrm>
            <a:off x="839880" y="4524480"/>
            <a:ext cx="45324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along, It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36F1-75FF-42A5-8568-267A5EAA1B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14"/>
          <p:cNvSpPr/>
          <p:nvPr/>
        </p:nvSpPr>
        <p:spPr>
          <a:xfrm>
            <a:off x="681120" y="0"/>
            <a:ext cx="1428840" cy="2409840"/>
          </a:xfrm>
          <a:custGeom>
            <a:avLst/>
            <a:gdLst/>
            <a:ahLst/>
            <a:rect l="l" t="t" r="r" b="b"/>
            <a:pathLst>
              <a:path w="1428750" h="2343150">
                <a:moveTo>
                  <a:pt x="685800" y="0"/>
                </a:moveTo>
                <a:lnTo>
                  <a:pt x="1428750" y="4762"/>
                </a:lnTo>
                <a:lnTo>
                  <a:pt x="781050" y="2343150"/>
                </a:lnTo>
                <a:lnTo>
                  <a:pt x="0" y="2324100"/>
                </a:lnTo>
                <a:lnTo>
                  <a:pt x="685800" y="0"/>
                </a:lnTo>
                <a:close/>
              </a:path>
            </a:pathLst>
          </a:custGeom>
          <a:solidFill>
            <a:srgbClr val="14a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 15"/>
          <p:cNvSpPr/>
          <p:nvPr/>
        </p:nvSpPr>
        <p:spPr>
          <a:xfrm>
            <a:off x="0" y="0"/>
            <a:ext cx="1095480" cy="2390760"/>
          </a:xfrm>
          <a:custGeom>
            <a:avLst/>
            <a:gdLst/>
            <a:ahLst/>
            <a:rect l="l" t="t" r="r" b="b"/>
            <a:pathLst>
              <a:path w="1095375" h="2390775">
                <a:moveTo>
                  <a:pt x="762000" y="0"/>
                </a:moveTo>
                <a:lnTo>
                  <a:pt x="1095375" y="957263"/>
                </a:lnTo>
                <a:lnTo>
                  <a:pt x="681037" y="2390775"/>
                </a:lnTo>
                <a:lnTo>
                  <a:pt x="0" y="4762"/>
                </a:lnTo>
                <a:lnTo>
                  <a:pt x="762000" y="0"/>
                </a:lnTo>
                <a:close/>
              </a:path>
            </a:pathLst>
          </a:custGeom>
          <a:solidFill>
            <a:srgbClr val="0e77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17"/>
          <p:cNvSpPr/>
          <p:nvPr/>
        </p:nvSpPr>
        <p:spPr>
          <a:xfrm>
            <a:off x="6095880" y="3943440"/>
            <a:ext cx="35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Templ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095880" y="4192560"/>
            <a:ext cx="360" cy="1160640"/>
            <a:chOff x="6095880" y="4192560"/>
            <a:chExt cx="360" cy="1160640"/>
          </a:xfrm>
        </p:grpSpPr>
        <p:sp>
          <p:nvSpPr>
            <p:cNvPr id="386" name="直接连接符 20"/>
            <p:cNvSpPr/>
            <p:nvPr/>
          </p:nvSpPr>
          <p:spPr>
            <a:xfrm>
              <a:off x="6095880" y="4192560"/>
              <a:ext cx="0" cy="1160640"/>
            </a:xfrm>
            <a:prstGeom prst="line">
              <a:avLst/>
            </a:prstGeom>
            <a:ln w="28440">
              <a:solidFill>
                <a:srgbClr val="639e9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6095880" y="4192560"/>
              <a:ext cx="360" cy="116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92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图片 1" descr=""/>
          <p:cNvPicPr/>
          <p:nvPr/>
        </p:nvPicPr>
        <p:blipFill>
          <a:blip r:embed="rId1"/>
          <a:srcRect l="16777" t="0" r="16777" b="0"/>
          <a:stretch/>
        </p:blipFill>
        <p:spPr>
          <a:xfrm>
            <a:off x="851040" y="250524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6" descr=""/>
          <p:cNvPicPr/>
          <p:nvPr/>
        </p:nvPicPr>
        <p:blipFill>
          <a:blip r:embed="rId2">
            <a:grayscl/>
          </a:blip>
          <a:srcRect l="16777" t="0" r="16777" b="0"/>
          <a:stretch/>
        </p:blipFill>
        <p:spPr>
          <a:xfrm>
            <a:off x="3759120" y="2505240"/>
            <a:ext cx="1846440" cy="18475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7" descr=""/>
          <p:cNvPicPr/>
          <p:nvPr/>
        </p:nvPicPr>
        <p:blipFill>
          <a:blip r:embed="rId3">
            <a:grayscl/>
          </a:blip>
          <a:srcRect l="16777" t="0" r="16777" b="0"/>
          <a:stretch/>
        </p:blipFill>
        <p:spPr>
          <a:xfrm>
            <a:off x="6613560" y="2505240"/>
            <a:ext cx="1847880" cy="1847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8" descr=""/>
          <p:cNvPicPr/>
          <p:nvPr/>
        </p:nvPicPr>
        <p:blipFill>
          <a:blip r:embed="rId4">
            <a:grayscl/>
          </a:blip>
          <a:srcRect l="16777" t="0" r="16777" b="0"/>
          <a:stretch/>
        </p:blipFill>
        <p:spPr>
          <a:xfrm>
            <a:off x="9502920" y="2505240"/>
            <a:ext cx="1847880" cy="1847520"/>
          </a:xfrm>
          <a:prstGeom prst="rect">
            <a:avLst/>
          </a:prstGeom>
          <a:ln w="0">
            <a:noFill/>
          </a:ln>
        </p:spPr>
      </p:pic>
      <p:sp>
        <p:nvSpPr>
          <p:cNvPr id="98" name="椭圆 7"/>
          <p:cNvSpPr/>
          <p:nvPr/>
        </p:nvSpPr>
        <p:spPr>
          <a:xfrm>
            <a:off x="85104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372420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9"/>
          <p:cNvSpPr/>
          <p:nvPr/>
        </p:nvSpPr>
        <p:spPr>
          <a:xfrm>
            <a:off x="661356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10"/>
          <p:cNvSpPr/>
          <p:nvPr/>
        </p:nvSpPr>
        <p:spPr>
          <a:xfrm>
            <a:off x="9504360" y="2505240"/>
            <a:ext cx="1847880" cy="1847520"/>
          </a:xfrm>
          <a:prstGeom prst="ellipse">
            <a:avLst/>
          </a:prstGeom>
          <a:noFill/>
          <a:ln w="19080">
            <a:solidFill>
              <a:srgbClr val="0e776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1"/>
          <p:cNvSpPr/>
          <p:nvPr/>
        </p:nvSpPr>
        <p:spPr>
          <a:xfrm>
            <a:off x="2152800" y="333360"/>
            <a:ext cx="299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微软雅黑"/>
              </a:rPr>
              <a:t>Cont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2"/>
          <p:cNvSpPr/>
          <p:nvPr/>
        </p:nvSpPr>
        <p:spPr>
          <a:xfrm>
            <a:off x="692280" y="4726080"/>
            <a:ext cx="21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3"/>
          <p:cNvSpPr/>
          <p:nvPr/>
        </p:nvSpPr>
        <p:spPr>
          <a:xfrm>
            <a:off x="3452760" y="47260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4"/>
          <p:cNvSpPr/>
          <p:nvPr/>
        </p:nvSpPr>
        <p:spPr>
          <a:xfrm>
            <a:off x="6213600" y="47260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5"/>
          <p:cNvSpPr/>
          <p:nvPr/>
        </p:nvSpPr>
        <p:spPr>
          <a:xfrm>
            <a:off x="9363240" y="4726080"/>
            <a:ext cx="22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08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5"/>
          <p:cNvGrpSpPr/>
          <p:nvPr/>
        </p:nvGrpSpPr>
        <p:grpSpPr>
          <a:xfrm>
            <a:off x="4057560" y="2997360"/>
            <a:ext cx="4076640" cy="2199960"/>
            <a:chOff x="4057560" y="2997360"/>
            <a:chExt cx="4076640" cy="2199960"/>
          </a:xfrm>
        </p:grpSpPr>
        <p:sp>
          <p:nvSpPr>
            <p:cNvPr id="112" name="椭圆 3"/>
            <p:cNvSpPr/>
            <p:nvPr/>
          </p:nvSpPr>
          <p:spPr>
            <a:xfrm>
              <a:off x="4057560" y="2997360"/>
              <a:ext cx="2199240" cy="2199960"/>
            </a:xfrm>
            <a:prstGeom prst="ellipse">
              <a:avLst/>
            </a:prstGeom>
            <a:solidFill>
              <a:srgbClr val="808080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椭圆 4"/>
            <p:cNvSpPr/>
            <p:nvPr/>
          </p:nvSpPr>
          <p:spPr>
            <a:xfrm>
              <a:off x="5934960" y="2997360"/>
              <a:ext cx="2199240" cy="2199960"/>
            </a:xfrm>
            <a:prstGeom prst="ellipse">
              <a:avLst/>
            </a:prstGeom>
            <a:solidFill>
              <a:srgbClr val="29867b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文本框 6"/>
          <p:cNvSpPr/>
          <p:nvPr/>
        </p:nvSpPr>
        <p:spPr>
          <a:xfrm>
            <a:off x="2193840" y="210168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38440" y="2708280"/>
            <a:ext cx="1488960" cy="360"/>
            <a:chOff x="2638440" y="2708280"/>
            <a:chExt cx="1488960" cy="360"/>
          </a:xfrm>
        </p:grpSpPr>
        <p:sp>
          <p:nvSpPr>
            <p:cNvPr id="116" name="直接连接符 8"/>
            <p:cNvSpPr/>
            <p:nvPr/>
          </p:nvSpPr>
          <p:spPr>
            <a:xfrm>
              <a:off x="2638440" y="2708280"/>
              <a:ext cx="1488960" cy="0"/>
            </a:xfrm>
            <a:prstGeom prst="line">
              <a:avLst/>
            </a:prstGeom>
            <a:ln w="64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2638440" y="2708280"/>
              <a:ext cx="148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文本框 9"/>
          <p:cNvSpPr/>
          <p:nvPr/>
        </p:nvSpPr>
        <p:spPr>
          <a:xfrm>
            <a:off x="474840" y="2736720"/>
            <a:ext cx="3706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When I was young I'd listen to the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0"/>
          <p:cNvSpPr/>
          <p:nvPr/>
        </p:nvSpPr>
        <p:spPr>
          <a:xfrm>
            <a:off x="9366120" y="4562640"/>
            <a:ext cx="19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微软雅黑"/>
              </a:rPr>
              <a:t>Text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809280" y="5168880"/>
            <a:ext cx="1488960" cy="360"/>
            <a:chOff x="9809280" y="5168880"/>
            <a:chExt cx="1488960" cy="360"/>
          </a:xfrm>
        </p:grpSpPr>
        <p:sp>
          <p:nvSpPr>
            <p:cNvPr id="121" name="直接连接符 11"/>
            <p:cNvSpPr/>
            <p:nvPr/>
          </p:nvSpPr>
          <p:spPr>
            <a:xfrm>
              <a:off x="9809280" y="5168880"/>
              <a:ext cx="1488960" cy="0"/>
            </a:xfrm>
            <a:prstGeom prst="line">
              <a:avLst/>
            </a:prstGeom>
            <a:ln w="648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9809280" y="5168880"/>
              <a:ext cx="148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12"/>
          <p:cNvSpPr/>
          <p:nvPr/>
        </p:nvSpPr>
        <p:spPr>
          <a:xfrm>
            <a:off x="7645320" y="5197320"/>
            <a:ext cx="3706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When I was young I'd listen to the ra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"/>
          <p:cNvSpPr/>
          <p:nvPr/>
        </p:nvSpPr>
        <p:spPr>
          <a:xfrm>
            <a:off x="4537080" y="3662280"/>
            <a:ext cx="12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2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4"/>
          <p:cNvSpPr/>
          <p:nvPr/>
        </p:nvSpPr>
        <p:spPr>
          <a:xfrm>
            <a:off x="6415200" y="3662280"/>
            <a:ext cx="123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78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27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2044800" y="1695600"/>
            <a:ext cx="1301760" cy="1301760"/>
          </a:xfrm>
          <a:prstGeom prst="ellipse">
            <a:avLst/>
          </a:prstGeom>
          <a:solidFill>
            <a:srgbClr val="0e7769"/>
          </a:solidFill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4"/>
          <p:cNvSpPr/>
          <p:nvPr/>
        </p:nvSpPr>
        <p:spPr>
          <a:xfrm>
            <a:off x="2044800" y="3324240"/>
            <a:ext cx="1301760" cy="1301760"/>
          </a:xfrm>
          <a:prstGeom prst="ellipse">
            <a:avLst/>
          </a:prstGeom>
          <a:noFill/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5"/>
          <p:cNvSpPr/>
          <p:nvPr/>
        </p:nvSpPr>
        <p:spPr>
          <a:xfrm>
            <a:off x="2044800" y="4952880"/>
            <a:ext cx="1301760" cy="1301760"/>
          </a:xfrm>
          <a:prstGeom prst="ellipse">
            <a:avLst/>
          </a:prstGeom>
          <a:noFill/>
          <a:ln w="38160">
            <a:solidFill>
              <a:srgbClr val="29867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3514680" y="16826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3514680" y="206532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8"/>
          <p:cNvSpPr/>
          <p:nvPr/>
        </p:nvSpPr>
        <p:spPr>
          <a:xfrm>
            <a:off x="3514680" y="323064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"/>
          <p:cNvSpPr/>
          <p:nvPr/>
        </p:nvSpPr>
        <p:spPr>
          <a:xfrm>
            <a:off x="3514680" y="361152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0"/>
          <p:cNvSpPr/>
          <p:nvPr/>
        </p:nvSpPr>
        <p:spPr>
          <a:xfrm>
            <a:off x="3514680" y="489600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1"/>
          <p:cNvSpPr/>
          <p:nvPr/>
        </p:nvSpPr>
        <p:spPr>
          <a:xfrm>
            <a:off x="3514680" y="5276880"/>
            <a:ext cx="78375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2"/>
          <p:cNvSpPr/>
          <p:nvPr/>
        </p:nvSpPr>
        <p:spPr>
          <a:xfrm>
            <a:off x="2346480" y="179244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13"/>
          <p:cNvSpPr/>
          <p:nvPr/>
        </p:nvSpPr>
        <p:spPr>
          <a:xfrm>
            <a:off x="2346480" y="342108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4"/>
          <p:cNvSpPr/>
          <p:nvPr/>
        </p:nvSpPr>
        <p:spPr>
          <a:xfrm>
            <a:off x="2346480" y="5049720"/>
            <a:ext cx="6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43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3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45"/>
          <p:cNvGrpSpPr/>
          <p:nvPr/>
        </p:nvGrpSpPr>
        <p:grpSpPr>
          <a:xfrm>
            <a:off x="1301760" y="4675320"/>
            <a:ext cx="9588600" cy="1584000"/>
            <a:chOff x="1301760" y="4675320"/>
            <a:chExt cx="9588600" cy="1584000"/>
          </a:xfrm>
        </p:grpSpPr>
        <p:sp>
          <p:nvSpPr>
            <p:cNvPr id="147" name="文本框 4"/>
            <p:cNvSpPr/>
            <p:nvPr/>
          </p:nvSpPr>
          <p:spPr>
            <a:xfrm>
              <a:off x="1301760" y="4675320"/>
              <a:ext cx="2118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5"/>
            <p:cNvSpPr/>
            <p:nvPr/>
          </p:nvSpPr>
          <p:spPr>
            <a:xfrm>
              <a:off x="1301760" y="5214960"/>
              <a:ext cx="958860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hen I was young radio Waiting for my favorite songs When they played I'd sing along, It. Those were such hap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Freeform 6"/>
          <p:cNvSpPr/>
          <p:nvPr/>
        </p:nvSpPr>
        <p:spPr>
          <a:xfrm>
            <a:off x="2127240" y="1855800"/>
            <a:ext cx="1555920" cy="1592280"/>
          </a:xfrm>
          <a:custGeom>
            <a:avLst/>
            <a:gdLst/>
            <a:ahLst/>
            <a:rect l="l" t="t" r="r" b="b"/>
            <a:pathLst>
              <a:path w="16316" h="16717">
                <a:moveTo>
                  <a:pt x="8052" y="8358"/>
                </a:moveTo>
                <a:cubicBezTo>
                  <a:pt x="8052" y="8400"/>
                  <a:pt x="8026" y="8437"/>
                  <a:pt x="7986" y="8450"/>
                </a:cubicBezTo>
                <a:lnTo>
                  <a:pt x="129" y="11003"/>
                </a:lnTo>
                <a:lnTo>
                  <a:pt x="190" y="10879"/>
                </a:lnTo>
                <a:lnTo>
                  <a:pt x="332" y="11280"/>
                </a:lnTo>
                <a:lnTo>
                  <a:pt x="490" y="11665"/>
                </a:lnTo>
                <a:lnTo>
                  <a:pt x="665" y="12038"/>
                </a:lnTo>
                <a:lnTo>
                  <a:pt x="858" y="12398"/>
                </a:lnTo>
                <a:lnTo>
                  <a:pt x="1067" y="12745"/>
                </a:lnTo>
                <a:lnTo>
                  <a:pt x="1291" y="13080"/>
                </a:lnTo>
                <a:lnTo>
                  <a:pt x="1531" y="13400"/>
                </a:lnTo>
                <a:lnTo>
                  <a:pt x="1785" y="13709"/>
                </a:lnTo>
                <a:lnTo>
                  <a:pt x="2052" y="14001"/>
                </a:lnTo>
                <a:lnTo>
                  <a:pt x="2332" y="14281"/>
                </a:lnTo>
                <a:lnTo>
                  <a:pt x="2625" y="14544"/>
                </a:lnTo>
                <a:lnTo>
                  <a:pt x="2929" y="14794"/>
                </a:lnTo>
                <a:lnTo>
                  <a:pt x="3245" y="15028"/>
                </a:lnTo>
                <a:lnTo>
                  <a:pt x="3571" y="15247"/>
                </a:lnTo>
                <a:lnTo>
                  <a:pt x="3907" y="15448"/>
                </a:lnTo>
                <a:lnTo>
                  <a:pt x="4252" y="15635"/>
                </a:lnTo>
                <a:lnTo>
                  <a:pt x="4605" y="15804"/>
                </a:lnTo>
                <a:lnTo>
                  <a:pt x="4966" y="15957"/>
                </a:lnTo>
                <a:lnTo>
                  <a:pt x="5334" y="16091"/>
                </a:lnTo>
                <a:lnTo>
                  <a:pt x="5709" y="16209"/>
                </a:lnTo>
                <a:lnTo>
                  <a:pt x="6090" y="16309"/>
                </a:lnTo>
                <a:lnTo>
                  <a:pt x="6476" y="16390"/>
                </a:lnTo>
                <a:lnTo>
                  <a:pt x="6867" y="16453"/>
                </a:lnTo>
                <a:lnTo>
                  <a:pt x="7261" y="16496"/>
                </a:lnTo>
                <a:lnTo>
                  <a:pt x="7659" y="16521"/>
                </a:lnTo>
                <a:lnTo>
                  <a:pt x="8060" y="16525"/>
                </a:lnTo>
                <a:lnTo>
                  <a:pt x="8462" y="16510"/>
                </a:lnTo>
                <a:lnTo>
                  <a:pt x="8866" y="16475"/>
                </a:lnTo>
                <a:lnTo>
                  <a:pt x="9270" y="16418"/>
                </a:lnTo>
                <a:lnTo>
                  <a:pt x="9674" y="16341"/>
                </a:lnTo>
                <a:lnTo>
                  <a:pt x="10079" y="16243"/>
                </a:lnTo>
                <a:lnTo>
                  <a:pt x="10482" y="16123"/>
                </a:lnTo>
                <a:lnTo>
                  <a:pt x="10878" y="15983"/>
                </a:lnTo>
                <a:lnTo>
                  <a:pt x="11263" y="15825"/>
                </a:lnTo>
                <a:lnTo>
                  <a:pt x="11636" y="15650"/>
                </a:lnTo>
                <a:lnTo>
                  <a:pt x="11996" y="15457"/>
                </a:lnTo>
                <a:lnTo>
                  <a:pt x="12344" y="15248"/>
                </a:lnTo>
                <a:lnTo>
                  <a:pt x="12678" y="15024"/>
                </a:lnTo>
                <a:lnTo>
                  <a:pt x="12999" y="14784"/>
                </a:lnTo>
                <a:lnTo>
                  <a:pt x="13306" y="14530"/>
                </a:lnTo>
                <a:lnTo>
                  <a:pt x="13600" y="14263"/>
                </a:lnTo>
                <a:lnTo>
                  <a:pt x="13880" y="13983"/>
                </a:lnTo>
                <a:lnTo>
                  <a:pt x="14143" y="13690"/>
                </a:lnTo>
                <a:lnTo>
                  <a:pt x="14393" y="13386"/>
                </a:lnTo>
                <a:lnTo>
                  <a:pt x="14626" y="13069"/>
                </a:lnTo>
                <a:lnTo>
                  <a:pt x="14846" y="12744"/>
                </a:lnTo>
                <a:lnTo>
                  <a:pt x="15047" y="12408"/>
                </a:lnTo>
                <a:lnTo>
                  <a:pt x="15234" y="12063"/>
                </a:lnTo>
                <a:lnTo>
                  <a:pt x="15403" y="11710"/>
                </a:lnTo>
                <a:lnTo>
                  <a:pt x="15556" y="11349"/>
                </a:lnTo>
                <a:lnTo>
                  <a:pt x="15690" y="10981"/>
                </a:lnTo>
                <a:lnTo>
                  <a:pt x="15808" y="10606"/>
                </a:lnTo>
                <a:lnTo>
                  <a:pt x="15908" y="10225"/>
                </a:lnTo>
                <a:lnTo>
                  <a:pt x="15990" y="9839"/>
                </a:lnTo>
                <a:lnTo>
                  <a:pt x="16052" y="9448"/>
                </a:lnTo>
                <a:lnTo>
                  <a:pt x="16095" y="9054"/>
                </a:lnTo>
                <a:lnTo>
                  <a:pt x="16120" y="8656"/>
                </a:lnTo>
                <a:lnTo>
                  <a:pt x="16124" y="8255"/>
                </a:lnTo>
                <a:lnTo>
                  <a:pt x="16110" y="7853"/>
                </a:lnTo>
                <a:lnTo>
                  <a:pt x="16074" y="7449"/>
                </a:lnTo>
                <a:lnTo>
                  <a:pt x="16017" y="7045"/>
                </a:lnTo>
                <a:lnTo>
                  <a:pt x="15940" y="6639"/>
                </a:lnTo>
                <a:lnTo>
                  <a:pt x="15842" y="6235"/>
                </a:lnTo>
                <a:lnTo>
                  <a:pt x="15722" y="5833"/>
                </a:lnTo>
                <a:lnTo>
                  <a:pt x="15614" y="5521"/>
                </a:lnTo>
                <a:lnTo>
                  <a:pt x="15494" y="5215"/>
                </a:lnTo>
                <a:lnTo>
                  <a:pt x="15363" y="4917"/>
                </a:lnTo>
                <a:lnTo>
                  <a:pt x="15220" y="4624"/>
                </a:lnTo>
                <a:lnTo>
                  <a:pt x="15067" y="4340"/>
                </a:lnTo>
                <a:lnTo>
                  <a:pt x="14903" y="4063"/>
                </a:lnTo>
                <a:lnTo>
                  <a:pt x="14729" y="3795"/>
                </a:lnTo>
                <a:lnTo>
                  <a:pt x="14545" y="3533"/>
                </a:lnTo>
                <a:lnTo>
                  <a:pt x="14351" y="3279"/>
                </a:lnTo>
                <a:lnTo>
                  <a:pt x="14149" y="3035"/>
                </a:lnTo>
                <a:lnTo>
                  <a:pt x="13937" y="2797"/>
                </a:lnTo>
                <a:lnTo>
                  <a:pt x="13717" y="2570"/>
                </a:lnTo>
                <a:lnTo>
                  <a:pt x="13488" y="2351"/>
                </a:lnTo>
                <a:lnTo>
                  <a:pt x="13252" y="2141"/>
                </a:lnTo>
                <a:lnTo>
                  <a:pt x="13008" y="1942"/>
                </a:lnTo>
                <a:lnTo>
                  <a:pt x="12756" y="1751"/>
                </a:lnTo>
                <a:lnTo>
                  <a:pt x="12496" y="1570"/>
                </a:lnTo>
                <a:lnTo>
                  <a:pt x="12231" y="1400"/>
                </a:lnTo>
                <a:lnTo>
                  <a:pt x="11958" y="1239"/>
                </a:lnTo>
                <a:lnTo>
                  <a:pt x="11679" y="1090"/>
                </a:lnTo>
                <a:lnTo>
                  <a:pt x="11394" y="951"/>
                </a:lnTo>
                <a:lnTo>
                  <a:pt x="11104" y="822"/>
                </a:lnTo>
                <a:lnTo>
                  <a:pt x="10808" y="706"/>
                </a:lnTo>
                <a:lnTo>
                  <a:pt x="10508" y="600"/>
                </a:lnTo>
                <a:lnTo>
                  <a:pt x="10201" y="506"/>
                </a:lnTo>
                <a:lnTo>
                  <a:pt x="9892" y="424"/>
                </a:lnTo>
                <a:lnTo>
                  <a:pt x="9578" y="354"/>
                </a:lnTo>
                <a:lnTo>
                  <a:pt x="9259" y="297"/>
                </a:lnTo>
                <a:lnTo>
                  <a:pt x="8938" y="252"/>
                </a:lnTo>
                <a:lnTo>
                  <a:pt x="8613" y="219"/>
                </a:lnTo>
                <a:lnTo>
                  <a:pt x="8285" y="199"/>
                </a:lnTo>
                <a:lnTo>
                  <a:pt x="7954" y="192"/>
                </a:lnTo>
                <a:lnTo>
                  <a:pt x="8052" y="96"/>
                </a:lnTo>
                <a:lnTo>
                  <a:pt x="8052" y="8358"/>
                </a:lnTo>
                <a:close/>
                <a:moveTo>
                  <a:pt x="7860" y="96"/>
                </a:moveTo>
                <a:cubicBezTo>
                  <a:pt x="7860" y="71"/>
                  <a:pt x="7871" y="46"/>
                  <a:pt x="7889" y="28"/>
                </a:cubicBezTo>
                <a:cubicBezTo>
                  <a:pt x="7908" y="10"/>
                  <a:pt x="7933" y="0"/>
                  <a:pt x="7958" y="0"/>
                </a:cubicBezTo>
                <a:lnTo>
                  <a:pt x="8296" y="8"/>
                </a:lnTo>
                <a:lnTo>
                  <a:pt x="8632" y="28"/>
                </a:lnTo>
                <a:lnTo>
                  <a:pt x="8965" y="61"/>
                </a:lnTo>
                <a:lnTo>
                  <a:pt x="9293" y="108"/>
                </a:lnTo>
                <a:lnTo>
                  <a:pt x="9619" y="167"/>
                </a:lnTo>
                <a:lnTo>
                  <a:pt x="9941" y="239"/>
                </a:lnTo>
                <a:lnTo>
                  <a:pt x="10258" y="323"/>
                </a:lnTo>
                <a:lnTo>
                  <a:pt x="10571" y="419"/>
                </a:lnTo>
                <a:lnTo>
                  <a:pt x="10879" y="527"/>
                </a:lnTo>
                <a:lnTo>
                  <a:pt x="11181" y="647"/>
                </a:lnTo>
                <a:lnTo>
                  <a:pt x="11479" y="778"/>
                </a:lnTo>
                <a:lnTo>
                  <a:pt x="11770" y="921"/>
                </a:lnTo>
                <a:lnTo>
                  <a:pt x="12055" y="1074"/>
                </a:lnTo>
                <a:lnTo>
                  <a:pt x="12334" y="1239"/>
                </a:lnTo>
                <a:lnTo>
                  <a:pt x="12606" y="1413"/>
                </a:lnTo>
                <a:lnTo>
                  <a:pt x="12871" y="1598"/>
                </a:lnTo>
                <a:lnTo>
                  <a:pt x="13129" y="1793"/>
                </a:lnTo>
                <a:lnTo>
                  <a:pt x="13379" y="1998"/>
                </a:lnTo>
                <a:lnTo>
                  <a:pt x="13621" y="2212"/>
                </a:lnTo>
                <a:lnTo>
                  <a:pt x="13856" y="2437"/>
                </a:lnTo>
                <a:lnTo>
                  <a:pt x="14080" y="2670"/>
                </a:lnTo>
                <a:lnTo>
                  <a:pt x="14296" y="2912"/>
                </a:lnTo>
                <a:lnTo>
                  <a:pt x="14504" y="3162"/>
                </a:lnTo>
                <a:lnTo>
                  <a:pt x="14702" y="3422"/>
                </a:lnTo>
                <a:lnTo>
                  <a:pt x="14890" y="3690"/>
                </a:lnTo>
                <a:lnTo>
                  <a:pt x="15068" y="3966"/>
                </a:lnTo>
                <a:lnTo>
                  <a:pt x="15236" y="4249"/>
                </a:lnTo>
                <a:lnTo>
                  <a:pt x="15393" y="4540"/>
                </a:lnTo>
                <a:lnTo>
                  <a:pt x="15538" y="4840"/>
                </a:lnTo>
                <a:lnTo>
                  <a:pt x="15673" y="5145"/>
                </a:lnTo>
                <a:lnTo>
                  <a:pt x="15795" y="5458"/>
                </a:lnTo>
                <a:lnTo>
                  <a:pt x="15906" y="5778"/>
                </a:lnTo>
                <a:lnTo>
                  <a:pt x="16029" y="6190"/>
                </a:lnTo>
                <a:lnTo>
                  <a:pt x="16129" y="6604"/>
                </a:lnTo>
                <a:lnTo>
                  <a:pt x="16208" y="7018"/>
                </a:lnTo>
                <a:lnTo>
                  <a:pt x="16265" y="7432"/>
                </a:lnTo>
                <a:lnTo>
                  <a:pt x="16301" y="7846"/>
                </a:lnTo>
                <a:lnTo>
                  <a:pt x="16316" y="8258"/>
                </a:lnTo>
                <a:lnTo>
                  <a:pt x="16311" y="8667"/>
                </a:lnTo>
                <a:lnTo>
                  <a:pt x="16286" y="9075"/>
                </a:lnTo>
                <a:lnTo>
                  <a:pt x="16241" y="9479"/>
                </a:lnTo>
                <a:lnTo>
                  <a:pt x="16177" y="9878"/>
                </a:lnTo>
                <a:lnTo>
                  <a:pt x="16093" y="10274"/>
                </a:lnTo>
                <a:lnTo>
                  <a:pt x="15991" y="10663"/>
                </a:lnTo>
                <a:lnTo>
                  <a:pt x="15871" y="11046"/>
                </a:lnTo>
                <a:lnTo>
                  <a:pt x="15733" y="11424"/>
                </a:lnTo>
                <a:lnTo>
                  <a:pt x="15576" y="11793"/>
                </a:lnTo>
                <a:lnTo>
                  <a:pt x="15403" y="12154"/>
                </a:lnTo>
                <a:lnTo>
                  <a:pt x="15212" y="12507"/>
                </a:lnTo>
                <a:lnTo>
                  <a:pt x="15005" y="12851"/>
                </a:lnTo>
                <a:lnTo>
                  <a:pt x="14781" y="13183"/>
                </a:lnTo>
                <a:lnTo>
                  <a:pt x="14542" y="13507"/>
                </a:lnTo>
                <a:lnTo>
                  <a:pt x="14286" y="13819"/>
                </a:lnTo>
                <a:lnTo>
                  <a:pt x="14015" y="14118"/>
                </a:lnTo>
                <a:lnTo>
                  <a:pt x="13729" y="14404"/>
                </a:lnTo>
                <a:lnTo>
                  <a:pt x="13428" y="14679"/>
                </a:lnTo>
                <a:lnTo>
                  <a:pt x="13114" y="14937"/>
                </a:lnTo>
                <a:lnTo>
                  <a:pt x="12785" y="15183"/>
                </a:lnTo>
                <a:lnTo>
                  <a:pt x="12443" y="15413"/>
                </a:lnTo>
                <a:lnTo>
                  <a:pt x="12087" y="15626"/>
                </a:lnTo>
                <a:lnTo>
                  <a:pt x="11717" y="15823"/>
                </a:lnTo>
                <a:lnTo>
                  <a:pt x="11336" y="16002"/>
                </a:lnTo>
                <a:lnTo>
                  <a:pt x="10943" y="16164"/>
                </a:lnTo>
                <a:lnTo>
                  <a:pt x="10537" y="16308"/>
                </a:lnTo>
                <a:lnTo>
                  <a:pt x="10124" y="16430"/>
                </a:lnTo>
                <a:lnTo>
                  <a:pt x="9710" y="16530"/>
                </a:lnTo>
                <a:lnTo>
                  <a:pt x="9297" y="16609"/>
                </a:lnTo>
                <a:lnTo>
                  <a:pt x="8883" y="16666"/>
                </a:lnTo>
                <a:lnTo>
                  <a:pt x="8469" y="16701"/>
                </a:lnTo>
                <a:lnTo>
                  <a:pt x="8057" y="16717"/>
                </a:lnTo>
                <a:lnTo>
                  <a:pt x="7648" y="16712"/>
                </a:lnTo>
                <a:lnTo>
                  <a:pt x="7240" y="16687"/>
                </a:lnTo>
                <a:lnTo>
                  <a:pt x="6836" y="16642"/>
                </a:lnTo>
                <a:lnTo>
                  <a:pt x="6437" y="16577"/>
                </a:lnTo>
                <a:lnTo>
                  <a:pt x="6041" y="16494"/>
                </a:lnTo>
                <a:lnTo>
                  <a:pt x="5652" y="16392"/>
                </a:lnTo>
                <a:lnTo>
                  <a:pt x="5269" y="16272"/>
                </a:lnTo>
                <a:lnTo>
                  <a:pt x="4891" y="16134"/>
                </a:lnTo>
                <a:lnTo>
                  <a:pt x="4522" y="15977"/>
                </a:lnTo>
                <a:lnTo>
                  <a:pt x="4161" y="15804"/>
                </a:lnTo>
                <a:lnTo>
                  <a:pt x="3808" y="15613"/>
                </a:lnTo>
                <a:lnTo>
                  <a:pt x="3464" y="15406"/>
                </a:lnTo>
                <a:lnTo>
                  <a:pt x="3130" y="15183"/>
                </a:lnTo>
                <a:lnTo>
                  <a:pt x="2808" y="14943"/>
                </a:lnTo>
                <a:lnTo>
                  <a:pt x="2496" y="14687"/>
                </a:lnTo>
                <a:lnTo>
                  <a:pt x="2197" y="14416"/>
                </a:lnTo>
                <a:lnTo>
                  <a:pt x="1911" y="14130"/>
                </a:lnTo>
                <a:lnTo>
                  <a:pt x="1636" y="13830"/>
                </a:lnTo>
                <a:lnTo>
                  <a:pt x="1378" y="13515"/>
                </a:lnTo>
                <a:lnTo>
                  <a:pt x="1132" y="13187"/>
                </a:lnTo>
                <a:lnTo>
                  <a:pt x="902" y="12844"/>
                </a:lnTo>
                <a:lnTo>
                  <a:pt x="689" y="12489"/>
                </a:lnTo>
                <a:lnTo>
                  <a:pt x="492" y="12119"/>
                </a:lnTo>
                <a:lnTo>
                  <a:pt x="313" y="11738"/>
                </a:lnTo>
                <a:lnTo>
                  <a:pt x="151" y="11345"/>
                </a:lnTo>
                <a:lnTo>
                  <a:pt x="9" y="10944"/>
                </a:lnTo>
                <a:cubicBezTo>
                  <a:pt x="0" y="10919"/>
                  <a:pt x="2" y="10892"/>
                  <a:pt x="13" y="10869"/>
                </a:cubicBezTo>
                <a:cubicBezTo>
                  <a:pt x="25" y="10846"/>
                  <a:pt x="45" y="10828"/>
                  <a:pt x="70" y="10820"/>
                </a:cubicBezTo>
                <a:lnTo>
                  <a:pt x="7927" y="8267"/>
                </a:lnTo>
                <a:lnTo>
                  <a:pt x="7860" y="8358"/>
                </a:lnTo>
                <a:lnTo>
                  <a:pt x="786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2089080" y="1855800"/>
            <a:ext cx="806400" cy="1049400"/>
          </a:xfrm>
          <a:custGeom>
            <a:avLst/>
            <a:gdLst/>
            <a:ahLst/>
            <a:rect l="l" t="t" r="r" b="b"/>
            <a:pathLst>
              <a:path w="8452" h="11011">
                <a:moveTo>
                  <a:pt x="8327" y="8267"/>
                </a:moveTo>
                <a:lnTo>
                  <a:pt x="8260" y="8358"/>
                </a:lnTo>
                <a:lnTo>
                  <a:pt x="8260" y="96"/>
                </a:lnTo>
                <a:lnTo>
                  <a:pt x="8359" y="192"/>
                </a:lnTo>
                <a:lnTo>
                  <a:pt x="7934" y="203"/>
                </a:lnTo>
                <a:lnTo>
                  <a:pt x="7519" y="235"/>
                </a:lnTo>
                <a:lnTo>
                  <a:pt x="7110" y="287"/>
                </a:lnTo>
                <a:lnTo>
                  <a:pt x="6708" y="359"/>
                </a:lnTo>
                <a:lnTo>
                  <a:pt x="6314" y="450"/>
                </a:lnTo>
                <a:lnTo>
                  <a:pt x="5927" y="560"/>
                </a:lnTo>
                <a:lnTo>
                  <a:pt x="5547" y="688"/>
                </a:lnTo>
                <a:lnTo>
                  <a:pt x="5177" y="835"/>
                </a:lnTo>
                <a:lnTo>
                  <a:pt x="4815" y="999"/>
                </a:lnTo>
                <a:lnTo>
                  <a:pt x="4463" y="1179"/>
                </a:lnTo>
                <a:lnTo>
                  <a:pt x="4121" y="1376"/>
                </a:lnTo>
                <a:lnTo>
                  <a:pt x="3789" y="1588"/>
                </a:lnTo>
                <a:lnTo>
                  <a:pt x="3469" y="1816"/>
                </a:lnTo>
                <a:lnTo>
                  <a:pt x="3161" y="2059"/>
                </a:lnTo>
                <a:lnTo>
                  <a:pt x="2865" y="2315"/>
                </a:lnTo>
                <a:lnTo>
                  <a:pt x="2582" y="2586"/>
                </a:lnTo>
                <a:lnTo>
                  <a:pt x="2311" y="2870"/>
                </a:lnTo>
                <a:lnTo>
                  <a:pt x="2055" y="3166"/>
                </a:lnTo>
                <a:lnTo>
                  <a:pt x="1812" y="3475"/>
                </a:lnTo>
                <a:lnTo>
                  <a:pt x="1585" y="3795"/>
                </a:lnTo>
                <a:lnTo>
                  <a:pt x="1372" y="4126"/>
                </a:lnTo>
                <a:lnTo>
                  <a:pt x="1176" y="4468"/>
                </a:lnTo>
                <a:lnTo>
                  <a:pt x="996" y="4820"/>
                </a:lnTo>
                <a:lnTo>
                  <a:pt x="832" y="5182"/>
                </a:lnTo>
                <a:lnTo>
                  <a:pt x="686" y="5553"/>
                </a:lnTo>
                <a:lnTo>
                  <a:pt x="557" y="5932"/>
                </a:lnTo>
                <a:lnTo>
                  <a:pt x="448" y="6320"/>
                </a:lnTo>
                <a:lnTo>
                  <a:pt x="357" y="6715"/>
                </a:lnTo>
                <a:lnTo>
                  <a:pt x="285" y="7117"/>
                </a:lnTo>
                <a:lnTo>
                  <a:pt x="234" y="7525"/>
                </a:lnTo>
                <a:lnTo>
                  <a:pt x="202" y="7941"/>
                </a:lnTo>
                <a:lnTo>
                  <a:pt x="191" y="8361"/>
                </a:lnTo>
                <a:lnTo>
                  <a:pt x="197" y="8682"/>
                </a:lnTo>
                <a:lnTo>
                  <a:pt x="216" y="9002"/>
                </a:lnTo>
                <a:lnTo>
                  <a:pt x="248" y="9320"/>
                </a:lnTo>
                <a:lnTo>
                  <a:pt x="293" y="9637"/>
                </a:lnTo>
                <a:lnTo>
                  <a:pt x="348" y="9953"/>
                </a:lnTo>
                <a:lnTo>
                  <a:pt x="417" y="10266"/>
                </a:lnTo>
                <a:lnTo>
                  <a:pt x="498" y="10576"/>
                </a:lnTo>
                <a:lnTo>
                  <a:pt x="591" y="10884"/>
                </a:lnTo>
                <a:lnTo>
                  <a:pt x="470" y="10820"/>
                </a:lnTo>
                <a:lnTo>
                  <a:pt x="8327" y="8267"/>
                </a:lnTo>
                <a:close/>
                <a:moveTo>
                  <a:pt x="529" y="11003"/>
                </a:moveTo>
                <a:cubicBezTo>
                  <a:pt x="505" y="11011"/>
                  <a:pt x="478" y="11009"/>
                  <a:pt x="455" y="10997"/>
                </a:cubicBezTo>
                <a:cubicBezTo>
                  <a:pt x="432" y="10985"/>
                  <a:pt x="415" y="10964"/>
                  <a:pt x="408" y="10939"/>
                </a:cubicBezTo>
                <a:lnTo>
                  <a:pt x="313" y="10625"/>
                </a:lnTo>
                <a:lnTo>
                  <a:pt x="230" y="10307"/>
                </a:lnTo>
                <a:lnTo>
                  <a:pt x="159" y="9986"/>
                </a:lnTo>
                <a:lnTo>
                  <a:pt x="102" y="9664"/>
                </a:lnTo>
                <a:lnTo>
                  <a:pt x="57" y="9339"/>
                </a:lnTo>
                <a:lnTo>
                  <a:pt x="25" y="9013"/>
                </a:lnTo>
                <a:lnTo>
                  <a:pt x="5" y="8685"/>
                </a:lnTo>
                <a:lnTo>
                  <a:pt x="0" y="8356"/>
                </a:lnTo>
                <a:lnTo>
                  <a:pt x="11" y="7926"/>
                </a:lnTo>
                <a:lnTo>
                  <a:pt x="43" y="7501"/>
                </a:lnTo>
                <a:lnTo>
                  <a:pt x="96" y="7084"/>
                </a:lnTo>
                <a:lnTo>
                  <a:pt x="170" y="6672"/>
                </a:lnTo>
                <a:lnTo>
                  <a:pt x="263" y="6267"/>
                </a:lnTo>
                <a:lnTo>
                  <a:pt x="376" y="5871"/>
                </a:lnTo>
                <a:lnTo>
                  <a:pt x="507" y="5482"/>
                </a:lnTo>
                <a:lnTo>
                  <a:pt x="657" y="5103"/>
                </a:lnTo>
                <a:lnTo>
                  <a:pt x="825" y="4733"/>
                </a:lnTo>
                <a:lnTo>
                  <a:pt x="1009" y="4373"/>
                </a:lnTo>
                <a:lnTo>
                  <a:pt x="1211" y="4023"/>
                </a:lnTo>
                <a:lnTo>
                  <a:pt x="1428" y="3684"/>
                </a:lnTo>
                <a:lnTo>
                  <a:pt x="1661" y="3356"/>
                </a:lnTo>
                <a:lnTo>
                  <a:pt x="1910" y="3041"/>
                </a:lnTo>
                <a:lnTo>
                  <a:pt x="2172" y="2737"/>
                </a:lnTo>
                <a:lnTo>
                  <a:pt x="2449" y="2447"/>
                </a:lnTo>
                <a:lnTo>
                  <a:pt x="2740" y="2170"/>
                </a:lnTo>
                <a:lnTo>
                  <a:pt x="3042" y="1908"/>
                </a:lnTo>
                <a:lnTo>
                  <a:pt x="3358" y="1659"/>
                </a:lnTo>
                <a:lnTo>
                  <a:pt x="3686" y="1427"/>
                </a:lnTo>
                <a:lnTo>
                  <a:pt x="4026" y="1209"/>
                </a:lnTo>
                <a:lnTo>
                  <a:pt x="4376" y="1008"/>
                </a:lnTo>
                <a:lnTo>
                  <a:pt x="4736" y="824"/>
                </a:lnTo>
                <a:lnTo>
                  <a:pt x="5106" y="656"/>
                </a:lnTo>
                <a:lnTo>
                  <a:pt x="5486" y="507"/>
                </a:lnTo>
                <a:lnTo>
                  <a:pt x="5874" y="375"/>
                </a:lnTo>
                <a:lnTo>
                  <a:pt x="6271" y="263"/>
                </a:lnTo>
                <a:lnTo>
                  <a:pt x="6675" y="170"/>
                </a:lnTo>
                <a:lnTo>
                  <a:pt x="7086" y="96"/>
                </a:lnTo>
                <a:lnTo>
                  <a:pt x="7504" y="44"/>
                </a:lnTo>
                <a:lnTo>
                  <a:pt x="7929" y="12"/>
                </a:lnTo>
                <a:lnTo>
                  <a:pt x="8354" y="1"/>
                </a:lnTo>
                <a:cubicBezTo>
                  <a:pt x="8380" y="0"/>
                  <a:pt x="8405" y="10"/>
                  <a:pt x="8423" y="28"/>
                </a:cubicBezTo>
                <a:cubicBezTo>
                  <a:pt x="8442" y="46"/>
                  <a:pt x="8452" y="71"/>
                  <a:pt x="8452" y="96"/>
                </a:cubicBezTo>
                <a:lnTo>
                  <a:pt x="8452" y="8358"/>
                </a:lnTo>
                <a:cubicBezTo>
                  <a:pt x="8452" y="8400"/>
                  <a:pt x="8426" y="8437"/>
                  <a:pt x="8386" y="8450"/>
                </a:cubicBezTo>
                <a:lnTo>
                  <a:pt x="529" y="110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40"/>
          <p:cNvGrpSpPr/>
          <p:nvPr/>
        </p:nvGrpSpPr>
        <p:grpSpPr>
          <a:xfrm>
            <a:off x="1916280" y="1346760"/>
            <a:ext cx="3612960" cy="3564000"/>
            <a:chOff x="1916280" y="1346760"/>
            <a:chExt cx="3612960" cy="3564000"/>
          </a:xfrm>
        </p:grpSpPr>
        <p:sp>
          <p:nvSpPr>
            <p:cNvPr id="152" name="Freeform 5"/>
            <p:cNvSpPr/>
            <p:nvPr/>
          </p:nvSpPr>
          <p:spPr>
            <a:xfrm rot="7481400">
              <a:off x="2437560" y="1829880"/>
              <a:ext cx="2536560" cy="2597040"/>
            </a:xfrm>
            <a:custGeom>
              <a:avLst/>
              <a:gdLst/>
              <a:ahLst/>
              <a:rect l="l" t="t" r="r" b="b"/>
              <a:pathLst>
                <a:path w="17125" h="17529">
                  <a:moveTo>
                    <a:pt x="7857" y="8262"/>
                  </a:moveTo>
                  <a:lnTo>
                    <a:pt x="0" y="10815"/>
                  </a:lnTo>
                  <a:cubicBezTo>
                    <a:pt x="1410" y="15154"/>
                    <a:pt x="6071" y="17529"/>
                    <a:pt x="10410" y="16119"/>
                  </a:cubicBezTo>
                  <a:cubicBezTo>
                    <a:pt x="14750" y="14709"/>
                    <a:pt x="17125" y="10048"/>
                    <a:pt x="15715" y="5709"/>
                  </a:cubicBezTo>
                  <a:cubicBezTo>
                    <a:pt x="14609" y="2305"/>
                    <a:pt x="11437" y="0"/>
                    <a:pt x="7857" y="0"/>
                  </a:cubicBezTo>
                  <a:lnTo>
                    <a:pt x="7857" y="8262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 rot="7481400">
              <a:off x="3910320" y="2022120"/>
              <a:ext cx="1223640" cy="1602360"/>
            </a:xfrm>
            <a:custGeom>
              <a:avLst/>
              <a:gdLst/>
              <a:ahLst/>
              <a:rect l="l" t="t" r="r" b="b"/>
              <a:pathLst>
                <a:path w="8261" h="10815">
                  <a:moveTo>
                    <a:pt x="8261" y="8262"/>
                  </a:moveTo>
                  <a:lnTo>
                    <a:pt x="8261" y="0"/>
                  </a:lnTo>
                  <a:cubicBezTo>
                    <a:pt x="3699" y="0"/>
                    <a:pt x="0" y="3699"/>
                    <a:pt x="0" y="8262"/>
                  </a:cubicBezTo>
                  <a:cubicBezTo>
                    <a:pt x="0" y="9129"/>
                    <a:pt x="136" y="9990"/>
                    <a:pt x="404" y="10815"/>
                  </a:cubicBezTo>
                  <a:lnTo>
                    <a:pt x="8261" y="8262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38"/>
          <p:cNvGrpSpPr/>
          <p:nvPr/>
        </p:nvGrpSpPr>
        <p:grpSpPr>
          <a:xfrm>
            <a:off x="7466040" y="2152800"/>
            <a:ext cx="2030400" cy="1909440"/>
            <a:chOff x="7466040" y="2152800"/>
            <a:chExt cx="2030400" cy="1909440"/>
          </a:xfrm>
        </p:grpSpPr>
        <p:sp>
          <p:nvSpPr>
            <p:cNvPr id="155" name="Freeform 19"/>
            <p:cNvSpPr/>
            <p:nvPr/>
          </p:nvSpPr>
          <p:spPr>
            <a:xfrm>
              <a:off x="7466040" y="2152800"/>
              <a:ext cx="2030400" cy="1909440"/>
            </a:xfrm>
            <a:custGeom>
              <a:avLst/>
              <a:gdLst/>
              <a:ahLst/>
              <a:rect l="l" t="t" r="r" b="b"/>
              <a:pathLst>
                <a:path w="18731" h="17628">
                  <a:moveTo>
                    <a:pt x="9365" y="8262"/>
                  </a:moveTo>
                  <a:lnTo>
                    <a:pt x="4509" y="1578"/>
                  </a:lnTo>
                  <a:cubicBezTo>
                    <a:pt x="818" y="4260"/>
                    <a:pt x="0" y="9427"/>
                    <a:pt x="2682" y="13118"/>
                  </a:cubicBezTo>
                  <a:cubicBezTo>
                    <a:pt x="5364" y="16809"/>
                    <a:pt x="10530" y="17628"/>
                    <a:pt x="14222" y="14946"/>
                  </a:cubicBezTo>
                  <a:cubicBezTo>
                    <a:pt x="17913" y="12264"/>
                    <a:pt x="18731" y="7097"/>
                    <a:pt x="16049" y="3406"/>
                  </a:cubicBezTo>
                  <a:cubicBezTo>
                    <a:pt x="14495" y="1266"/>
                    <a:pt x="12010" y="0"/>
                    <a:pt x="9365" y="0"/>
                  </a:cubicBezTo>
                  <a:lnTo>
                    <a:pt x="9365" y="8262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7945200" y="2152800"/>
              <a:ext cx="525240" cy="895320"/>
            </a:xfrm>
            <a:custGeom>
              <a:avLst/>
              <a:gdLst/>
              <a:ahLst/>
              <a:rect l="l" t="t" r="r" b="b"/>
              <a:pathLst>
                <a:path w="4856" h="8262">
                  <a:moveTo>
                    <a:pt x="4856" y="8262"/>
                  </a:moveTo>
                  <a:lnTo>
                    <a:pt x="4856" y="0"/>
                  </a:lnTo>
                  <a:cubicBezTo>
                    <a:pt x="3112" y="0"/>
                    <a:pt x="1412" y="553"/>
                    <a:pt x="0" y="1578"/>
                  </a:cubicBezTo>
                  <a:lnTo>
                    <a:pt x="4856" y="8262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41"/>
          <p:cNvSpPr/>
          <p:nvPr/>
        </p:nvSpPr>
        <p:spPr>
          <a:xfrm>
            <a:off x="4684680" y="376884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2"/>
          <p:cNvSpPr/>
          <p:nvPr/>
        </p:nvSpPr>
        <p:spPr>
          <a:xfrm>
            <a:off x="9037800" y="3768840"/>
            <a:ext cx="116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3"/>
          <p:cNvSpPr/>
          <p:nvPr/>
        </p:nvSpPr>
        <p:spPr>
          <a:xfrm>
            <a:off x="2774880" y="27417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70</a:t>
            </a:r>
            <a:r>
              <a:rPr b="0" lang="en-US" sz="2400" spc="-1" strike="noStrike">
                <a:solidFill>
                  <a:srgbClr val="ffffff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44"/>
          <p:cNvSpPr/>
          <p:nvPr/>
        </p:nvSpPr>
        <p:spPr>
          <a:xfrm>
            <a:off x="7626240" y="2741760"/>
            <a:ext cx="116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90</a:t>
            </a:r>
            <a:r>
              <a:rPr b="0" lang="en-US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62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1301760" y="4675320"/>
            <a:ext cx="21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"/>
          <p:cNvSpPr/>
          <p:nvPr/>
        </p:nvSpPr>
        <p:spPr>
          <a:xfrm>
            <a:off x="1301760" y="5214960"/>
            <a:ext cx="9588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the radio Waiting for my favorite songs sing along, It make me smile. Those were such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3429000"/>
            <a:ext cx="12192120" cy="360"/>
            <a:chOff x="0" y="3429000"/>
            <a:chExt cx="12192120" cy="360"/>
          </a:xfrm>
        </p:grpSpPr>
        <p:sp>
          <p:nvSpPr>
            <p:cNvPr id="168" name="直接连接符 7"/>
            <p:cNvSpPr/>
            <p:nvPr/>
          </p:nvSpPr>
          <p:spPr>
            <a:xfrm>
              <a:off x="0" y="3429000"/>
              <a:ext cx="12192120" cy="0"/>
            </a:xfrm>
            <a:prstGeom prst="line">
              <a:avLst/>
            </a:prstGeom>
            <a:ln w="38160">
              <a:solidFill>
                <a:srgbClr val="0e776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0" y="3429000"/>
              <a:ext cx="121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泪滴形 8"/>
          <p:cNvSpPr/>
          <p:nvPr/>
        </p:nvSpPr>
        <p:spPr>
          <a:xfrm flipH="1" flipV="1">
            <a:off x="1146240" y="2746440"/>
            <a:ext cx="68256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泪滴形 9"/>
          <p:cNvSpPr/>
          <p:nvPr/>
        </p:nvSpPr>
        <p:spPr>
          <a:xfrm flipH="1">
            <a:off x="4219560" y="3429000"/>
            <a:ext cx="68112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泪滴形 10"/>
          <p:cNvSpPr/>
          <p:nvPr/>
        </p:nvSpPr>
        <p:spPr>
          <a:xfrm flipH="1" flipV="1">
            <a:off x="7291440" y="2746440"/>
            <a:ext cx="68112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泪滴形 11"/>
          <p:cNvSpPr/>
          <p:nvPr/>
        </p:nvSpPr>
        <p:spPr>
          <a:xfrm flipH="1">
            <a:off x="10363320" y="3429000"/>
            <a:ext cx="682560" cy="682560"/>
          </a:xfrm>
          <a:custGeom>
            <a:avLst/>
            <a:gdLst/>
            <a:ahLst/>
            <a:rect l="l" t="t" r="r" b="b"/>
            <a:pathLst>
              <a:path w="1074" h="1074">
                <a:moveTo>
                  <a:pt x="0" y="537"/>
                </a:moveTo>
                <a:cubicBezTo>
                  <a:pt x="0" y="240"/>
                  <a:pt x="240" y="0"/>
                  <a:pt x="537" y="0"/>
                </a:cubicBezTo>
                <a:cubicBezTo>
                  <a:pt x="715" y="0"/>
                  <a:pt x="894" y="0"/>
                  <a:pt x="1074" y="0"/>
                </a:cubicBezTo>
                <a:cubicBezTo>
                  <a:pt x="1074" y="178"/>
                  <a:pt x="1074" y="357"/>
                  <a:pt x="1074" y="537"/>
                </a:cubicBezTo>
                <a:cubicBezTo>
                  <a:pt x="1074" y="834"/>
                  <a:pt x="834" y="1074"/>
                  <a:pt x="537" y="1074"/>
                </a:cubicBezTo>
                <a:cubicBezTo>
                  <a:pt x="240" y="1074"/>
                  <a:pt x="0" y="834"/>
                  <a:pt x="0" y="537"/>
                </a:cubicBezTo>
                <a:close/>
              </a:path>
            </a:pathLst>
          </a:cu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4"/>
          <p:cNvSpPr/>
          <p:nvPr/>
        </p:nvSpPr>
        <p:spPr>
          <a:xfrm>
            <a:off x="878040" y="3473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5"/>
          <p:cNvSpPr/>
          <p:nvPr/>
        </p:nvSpPr>
        <p:spPr>
          <a:xfrm>
            <a:off x="3976560" y="2844720"/>
            <a:ext cx="11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6"/>
          <p:cNvSpPr/>
          <p:nvPr/>
        </p:nvSpPr>
        <p:spPr>
          <a:xfrm>
            <a:off x="7048440" y="347328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7"/>
          <p:cNvSpPr/>
          <p:nvPr/>
        </p:nvSpPr>
        <p:spPr>
          <a:xfrm>
            <a:off x="10120320" y="2844720"/>
            <a:ext cx="11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179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3"/>
          <p:cNvSpPr/>
          <p:nvPr/>
        </p:nvSpPr>
        <p:spPr>
          <a:xfrm>
            <a:off x="4873680" y="2562120"/>
            <a:ext cx="2444760" cy="2443320"/>
          </a:xfrm>
          <a:prstGeom prst="ellipse">
            <a:avLst/>
          </a:prstGeom>
          <a:solidFill>
            <a:srgbClr val="2986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232240" y="2919240"/>
            <a:ext cx="1727280" cy="1729080"/>
            <a:chOff x="5232240" y="2919240"/>
            <a:chExt cx="1727280" cy="1729080"/>
          </a:xfrm>
        </p:grpSpPr>
        <p:sp>
          <p:nvSpPr>
            <p:cNvPr id="184" name="直接连接符 5"/>
            <p:cNvSpPr/>
            <p:nvPr/>
          </p:nvSpPr>
          <p:spPr>
            <a:xfrm>
              <a:off x="5232240" y="2919240"/>
              <a:ext cx="1727280" cy="1729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5232240" y="2919240"/>
              <a:ext cx="172728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232240" y="2919240"/>
            <a:ext cx="1727280" cy="1729080"/>
            <a:chOff x="5232240" y="2919240"/>
            <a:chExt cx="1727280" cy="1729080"/>
          </a:xfrm>
        </p:grpSpPr>
        <p:sp>
          <p:nvSpPr>
            <p:cNvPr id="187" name="直接连接符 7"/>
            <p:cNvSpPr/>
            <p:nvPr/>
          </p:nvSpPr>
          <p:spPr>
            <a:xfrm flipH="1">
              <a:off x="5232240" y="2919240"/>
              <a:ext cx="1727280" cy="1729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232240" y="2919240"/>
              <a:ext cx="1727280" cy="17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文本框 8"/>
          <p:cNvSpPr/>
          <p:nvPr/>
        </p:nvSpPr>
        <p:spPr>
          <a:xfrm>
            <a:off x="5861160" y="2654280"/>
            <a:ext cx="6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9"/>
          <p:cNvSpPr/>
          <p:nvPr/>
        </p:nvSpPr>
        <p:spPr>
          <a:xfrm>
            <a:off x="5781600" y="391788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0"/>
          <p:cNvSpPr/>
          <p:nvPr/>
        </p:nvSpPr>
        <p:spPr>
          <a:xfrm>
            <a:off x="6510240" y="332100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1"/>
          <p:cNvSpPr/>
          <p:nvPr/>
        </p:nvSpPr>
        <p:spPr>
          <a:xfrm>
            <a:off x="5060880" y="3321000"/>
            <a:ext cx="61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微软雅黑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1"/>
          <p:cNvGrpSpPr/>
          <p:nvPr/>
        </p:nvGrpSpPr>
        <p:grpSpPr>
          <a:xfrm>
            <a:off x="2854440" y="1495440"/>
            <a:ext cx="6483240" cy="1146960"/>
            <a:chOff x="2854440" y="1495440"/>
            <a:chExt cx="6483240" cy="1146960"/>
          </a:xfrm>
        </p:grpSpPr>
        <p:sp>
          <p:nvSpPr>
            <p:cNvPr id="194" name="文本框 17"/>
            <p:cNvSpPr/>
            <p:nvPr/>
          </p:nvSpPr>
          <p:spPr>
            <a:xfrm>
              <a:off x="5139360" y="1495440"/>
              <a:ext cx="191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8"/>
            <p:cNvSpPr/>
            <p:nvPr/>
          </p:nvSpPr>
          <p:spPr>
            <a:xfrm>
              <a:off x="2854440" y="2073240"/>
              <a:ext cx="648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文本框 24"/>
          <p:cNvSpPr/>
          <p:nvPr/>
        </p:nvSpPr>
        <p:spPr>
          <a:xfrm>
            <a:off x="7439040" y="30225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5"/>
          <p:cNvSpPr/>
          <p:nvPr/>
        </p:nvSpPr>
        <p:spPr>
          <a:xfrm>
            <a:off x="7439040" y="3562200"/>
            <a:ext cx="402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"/>
          <p:cNvSpPr/>
          <p:nvPr/>
        </p:nvSpPr>
        <p:spPr>
          <a:xfrm>
            <a:off x="2556000" y="3022560"/>
            <a:ext cx="21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7"/>
          <p:cNvSpPr/>
          <p:nvPr/>
        </p:nvSpPr>
        <p:spPr>
          <a:xfrm>
            <a:off x="725400" y="3562200"/>
            <a:ext cx="402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23"/>
          <p:cNvGrpSpPr/>
          <p:nvPr/>
        </p:nvGrpSpPr>
        <p:grpSpPr>
          <a:xfrm>
            <a:off x="2854440" y="5102280"/>
            <a:ext cx="6483240" cy="1146960"/>
            <a:chOff x="2854440" y="5102280"/>
            <a:chExt cx="6483240" cy="1146960"/>
          </a:xfrm>
        </p:grpSpPr>
        <p:sp>
          <p:nvSpPr>
            <p:cNvPr id="201" name="文本框 17"/>
            <p:cNvSpPr/>
            <p:nvPr/>
          </p:nvSpPr>
          <p:spPr>
            <a:xfrm>
              <a:off x="5139360" y="5102280"/>
              <a:ext cx="1913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icrosoft JhengHei"/>
                  <a:ea typeface="Microsoft JhengHei"/>
                </a:rPr>
                <a:t>Text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18"/>
            <p:cNvSpPr/>
            <p:nvPr/>
          </p:nvSpPr>
          <p:spPr>
            <a:xfrm>
              <a:off x="2854440" y="5680080"/>
              <a:ext cx="6483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When I was young I'd listen to the 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8196"/>
          <p:cNvSpPr/>
          <p:nvPr/>
        </p:nvSpPr>
        <p:spPr>
          <a:xfrm>
            <a:off x="558720" y="12016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05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文本框 6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5"/>
          <p:cNvGrpSpPr/>
          <p:nvPr/>
        </p:nvGrpSpPr>
        <p:grpSpPr>
          <a:xfrm>
            <a:off x="968400" y="2112480"/>
            <a:ext cx="3452760" cy="4110120"/>
            <a:chOff x="968400" y="2112480"/>
            <a:chExt cx="3452760" cy="4110120"/>
          </a:xfrm>
        </p:grpSpPr>
        <p:sp>
          <p:nvSpPr>
            <p:cNvPr id="209" name="泪滴形 3"/>
            <p:cNvSpPr/>
            <p:nvPr/>
          </p:nvSpPr>
          <p:spPr>
            <a:xfrm flipH="1" flipV="1">
              <a:off x="152784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5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7"/>
            <p:cNvSpPr/>
            <p:nvPr/>
          </p:nvSpPr>
          <p:spPr>
            <a:xfrm>
              <a:off x="1612800" y="4446000"/>
              <a:ext cx="21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2"/>
            <p:cNvSpPr/>
            <p:nvPr/>
          </p:nvSpPr>
          <p:spPr>
            <a:xfrm>
              <a:off x="968400" y="5153760"/>
              <a:ext cx="345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7"/>
          <p:cNvGrpSpPr/>
          <p:nvPr/>
        </p:nvGrpSpPr>
        <p:grpSpPr>
          <a:xfrm>
            <a:off x="4375080" y="2112480"/>
            <a:ext cx="3452760" cy="4110120"/>
            <a:chOff x="4375080" y="2112480"/>
            <a:chExt cx="3452760" cy="4110120"/>
          </a:xfrm>
        </p:grpSpPr>
        <p:sp>
          <p:nvSpPr>
            <p:cNvPr id="213" name="泪滴形 4"/>
            <p:cNvSpPr/>
            <p:nvPr/>
          </p:nvSpPr>
          <p:spPr>
            <a:xfrm flipH="1" flipV="1">
              <a:off x="493452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65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10"/>
            <p:cNvSpPr/>
            <p:nvPr/>
          </p:nvSpPr>
          <p:spPr>
            <a:xfrm>
              <a:off x="5019480" y="4446000"/>
              <a:ext cx="216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13"/>
            <p:cNvSpPr/>
            <p:nvPr/>
          </p:nvSpPr>
          <p:spPr>
            <a:xfrm>
              <a:off x="4375080" y="5153760"/>
              <a:ext cx="3452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组合 16"/>
          <p:cNvGrpSpPr/>
          <p:nvPr/>
        </p:nvGrpSpPr>
        <p:grpSpPr>
          <a:xfrm>
            <a:off x="7781760" y="2112480"/>
            <a:ext cx="3453120" cy="4110120"/>
            <a:chOff x="7781760" y="2112480"/>
            <a:chExt cx="3453120" cy="4110120"/>
          </a:xfrm>
        </p:grpSpPr>
        <p:sp>
          <p:nvSpPr>
            <p:cNvPr id="217" name="泪滴形 5"/>
            <p:cNvSpPr/>
            <p:nvPr/>
          </p:nvSpPr>
          <p:spPr>
            <a:xfrm flipH="1" flipV="1">
              <a:off x="8341560" y="2112120"/>
              <a:ext cx="2333520" cy="2333160"/>
            </a:xfrm>
            <a:custGeom>
              <a:avLst/>
              <a:gdLst/>
              <a:ahLst/>
              <a:rect l="l" t="t" r="r" b="b"/>
              <a:pathLst>
                <a:path w="2333296" h="2333296">
                  <a:moveTo>
                    <a:pt x="0" y="1166648"/>
                  </a:moveTo>
                  <a:cubicBezTo>
                    <a:pt x="0" y="522326"/>
                    <a:pt x="522326" y="0"/>
                    <a:pt x="1166648" y="0"/>
                  </a:cubicBezTo>
                  <a:cubicBezTo>
                    <a:pt x="1555530" y="0"/>
                    <a:pt x="1944413" y="0"/>
                    <a:pt x="2333296" y="0"/>
                  </a:cubicBezTo>
                  <a:cubicBezTo>
                    <a:pt x="2333296" y="388882"/>
                    <a:pt x="2333296" y="777765"/>
                    <a:pt x="2333296" y="1166648"/>
                  </a:cubicBezTo>
                  <a:cubicBezTo>
                    <a:pt x="2333296" y="1810970"/>
                    <a:pt x="1810970" y="2333296"/>
                    <a:pt x="1166648" y="2333296"/>
                  </a:cubicBezTo>
                  <a:cubicBezTo>
                    <a:pt x="522326" y="2333296"/>
                    <a:pt x="0" y="1810970"/>
                    <a:pt x="0" y="1166648"/>
                  </a:cubicBezTo>
                  <a:close/>
                </a:path>
              </a:pathLst>
            </a:custGeom>
            <a:solidFill>
              <a:srgbClr val="29867b">
                <a:alpha val="74000"/>
              </a:srgbClr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文本框 11"/>
            <p:cNvSpPr/>
            <p:nvPr/>
          </p:nvSpPr>
          <p:spPr>
            <a:xfrm>
              <a:off x="8426160" y="4446000"/>
              <a:ext cx="216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Text her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文本框 14"/>
            <p:cNvSpPr/>
            <p:nvPr/>
          </p:nvSpPr>
          <p:spPr>
            <a:xfrm>
              <a:off x="7781760" y="5153760"/>
              <a:ext cx="345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 Light"/>
                  <a:ea typeface="宋体"/>
                </a:rPr>
                <a:t>young I'd listen to the radi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文本框 18"/>
          <p:cNvSpPr/>
          <p:nvPr/>
        </p:nvSpPr>
        <p:spPr>
          <a:xfrm>
            <a:off x="1846440" y="2706840"/>
            <a:ext cx="169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98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9"/>
          <p:cNvSpPr/>
          <p:nvPr/>
        </p:nvSpPr>
        <p:spPr>
          <a:xfrm>
            <a:off x="5257800" y="2706840"/>
            <a:ext cx="169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75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20"/>
          <p:cNvSpPr/>
          <p:nvPr/>
        </p:nvSpPr>
        <p:spPr>
          <a:xfrm>
            <a:off x="8659800" y="2706840"/>
            <a:ext cx="169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36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微软雅黑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7"/>
          <p:cNvGrpSpPr/>
          <p:nvPr/>
        </p:nvGrpSpPr>
        <p:grpSpPr>
          <a:xfrm>
            <a:off x="0" y="0"/>
            <a:ext cx="2000160" cy="1752480"/>
            <a:chOff x="0" y="0"/>
            <a:chExt cx="2000160" cy="1752480"/>
          </a:xfrm>
        </p:grpSpPr>
        <p:sp>
          <p:nvSpPr>
            <p:cNvPr id="224" name="任意多边形 8"/>
            <p:cNvSpPr/>
            <p:nvPr/>
          </p:nvSpPr>
          <p:spPr>
            <a:xfrm rot="16200000">
              <a:off x="406440" y="-406440"/>
              <a:ext cx="1186920" cy="2000160"/>
            </a:xfrm>
            <a:custGeom>
              <a:avLst/>
              <a:gdLst/>
              <a:ahLst/>
              <a:rect l="l" t="t" r="r" b="b"/>
              <a:pathLst>
                <a:path w="1428750" h="2343150">
                  <a:moveTo>
                    <a:pt x="685800" y="0"/>
                  </a:moveTo>
                  <a:lnTo>
                    <a:pt x="1428750" y="4762"/>
                  </a:lnTo>
                  <a:lnTo>
                    <a:pt x="781050" y="2343150"/>
                  </a:lnTo>
                  <a:lnTo>
                    <a:pt x="0" y="2324100"/>
                  </a:lnTo>
                  <a:lnTo>
                    <a:pt x="685800" y="0"/>
                  </a:lnTo>
                  <a:close/>
                </a:path>
              </a:pathLst>
            </a:custGeom>
            <a:solidFill>
              <a:srgbClr val="14ae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9"/>
            <p:cNvSpPr/>
            <p:nvPr/>
          </p:nvSpPr>
          <p:spPr>
            <a:xfrm rot="16200000">
              <a:off x="537840" y="305280"/>
              <a:ext cx="909720" cy="1984680"/>
            </a:xfrm>
            <a:custGeom>
              <a:avLst/>
              <a:gdLst/>
              <a:ahLst/>
              <a:rect l="l" t="t" r="r" b="b"/>
              <a:pathLst>
                <a:path w="1095375" h="2390775">
                  <a:moveTo>
                    <a:pt x="762000" y="0"/>
                  </a:moveTo>
                  <a:lnTo>
                    <a:pt x="1095375" y="957263"/>
                  </a:lnTo>
                  <a:lnTo>
                    <a:pt x="681037" y="2390775"/>
                  </a:lnTo>
                  <a:lnTo>
                    <a:pt x="0" y="4762"/>
                  </a:lnTo>
                  <a:lnTo>
                    <a:pt x="762000" y="0"/>
                  </a:lnTo>
                  <a:close/>
                </a:path>
              </a:pathLst>
            </a:custGeom>
            <a:solidFill>
              <a:srgbClr val="0e77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文本框 2"/>
          <p:cNvSpPr/>
          <p:nvPr/>
        </p:nvSpPr>
        <p:spPr>
          <a:xfrm>
            <a:off x="2044800" y="434880"/>
            <a:ext cx="213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Part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0" y="2570040"/>
            <a:ext cx="5659560" cy="3578400"/>
          </a:xfrm>
          <a:prstGeom prst="rect">
            <a:avLst/>
          </a:prstGeom>
          <a:solidFill>
            <a:srgbClr val="29867b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4"/>
          <p:cNvSpPr/>
          <p:nvPr/>
        </p:nvSpPr>
        <p:spPr>
          <a:xfrm>
            <a:off x="0" y="3286080"/>
            <a:ext cx="345276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"/>
          <p:cNvSpPr/>
          <p:nvPr/>
        </p:nvSpPr>
        <p:spPr>
          <a:xfrm>
            <a:off x="0" y="4641840"/>
            <a:ext cx="435132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6"/>
          <p:cNvSpPr/>
          <p:nvPr/>
        </p:nvSpPr>
        <p:spPr>
          <a:xfrm>
            <a:off x="3489480" y="317196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4351320" y="4527720"/>
            <a:ext cx="116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5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5697360" y="261936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0"/>
          <p:cNvSpPr/>
          <p:nvPr/>
        </p:nvSpPr>
        <p:spPr>
          <a:xfrm>
            <a:off x="5697360" y="300024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1"/>
          <p:cNvSpPr/>
          <p:nvPr/>
        </p:nvSpPr>
        <p:spPr>
          <a:xfrm>
            <a:off x="5697360" y="43498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2"/>
          <p:cNvSpPr/>
          <p:nvPr/>
        </p:nvSpPr>
        <p:spPr>
          <a:xfrm>
            <a:off x="5697360" y="4732200"/>
            <a:ext cx="565488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  <a:ea typeface="宋体"/>
              </a:rPr>
              <a:t>When I was young I'd listen to the radio Waiting for my favorite songs When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2T03:4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6:21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