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67D-4335-4C75-B94C-D4BC5225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649-FD6B-42C7-997E-40321E5B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3176-3E13-4226-B0C8-D57D8CE6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FB09-FA29-4A61-AFDD-2494795A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27D1-FE06-423E-BB28-2F36A51E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694A-AC23-4401-9880-7F57F690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C441-3173-44D6-8171-125B61A8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4EEA-B1E4-4183-BB87-E5354560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0D52-9447-42A2-9A1F-296E729C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B8E8-311F-4C8D-BA69-CE054329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949D-D102-40D4-AA27-1DFA9181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C17-CFBF-4714-8AED-896F0FA0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EF12-7D3C-4EC6-96A1-05E0641A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6279-5C90-4AA6-9F29-10A05F2C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4744-9E02-4A54-8E42-A11673F5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EF64-D3DF-463A-A3E1-7B6A7FE7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03E3-4308-4C4C-B891-21F1ED0D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D1E-8BF4-4844-9125-6ADB398D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A92-0649-402A-8A91-0DEC5D81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B33-AA9F-4165-94B5-22DC8D06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0B55-E3FB-4507-B481-B795559F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0B4C-EBD1-43F8-9309-BCF0162A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3C28-DFC8-47C3-9DFB-47F1960A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F487-760D-42CB-856D-A58854E3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d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E725-4B1B-4DEA-A0C4-3842A9FE676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4F19-667C-4030-A63A-6A278D9464D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2979-6739-4CBC-88AA-308EC22163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179280" y="719280"/>
            <a:ext cx="3745080" cy="144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5219640" y="719280"/>
            <a:ext cx="3745080" cy="144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4211640" y="404640"/>
            <a:ext cx="79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  <a:ea typeface="宋体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179280" y="3500280"/>
            <a:ext cx="2952720" cy="432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6012000" y="3500280"/>
            <a:ext cx="2952720" cy="432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15"/>
          <p:cNvGrpSpPr/>
          <p:nvPr/>
        </p:nvGrpSpPr>
        <p:grpSpPr>
          <a:xfrm>
            <a:off x="3592440" y="3108240"/>
            <a:ext cx="1874880" cy="1217520"/>
            <a:chOff x="3592440" y="3108240"/>
            <a:chExt cx="1874880" cy="1217520"/>
          </a:xfrm>
        </p:grpSpPr>
        <p:sp>
          <p:nvSpPr>
            <p:cNvPr id="90" name="梯形 12"/>
            <p:cNvSpPr/>
            <p:nvPr/>
          </p:nvSpPr>
          <p:spPr>
            <a:xfrm>
              <a:off x="3592440" y="4171320"/>
              <a:ext cx="1874880" cy="15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378" y="21600"/>
                  </a:lnTo>
                  <a:lnTo>
                    <a:pt x="21222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组合 13"/>
            <p:cNvGrpSpPr/>
            <p:nvPr/>
          </p:nvGrpSpPr>
          <p:grpSpPr>
            <a:xfrm>
              <a:off x="3716640" y="3108240"/>
              <a:ext cx="1626120" cy="1063080"/>
              <a:chOff x="3716640" y="3108240"/>
              <a:chExt cx="1626120" cy="1063080"/>
            </a:xfrm>
          </p:grpSpPr>
          <p:sp>
            <p:nvSpPr>
              <p:cNvPr id="92" name="圆角矩形 10"/>
              <p:cNvSpPr/>
              <p:nvPr/>
            </p:nvSpPr>
            <p:spPr>
              <a:xfrm>
                <a:off x="3716640" y="3108240"/>
                <a:ext cx="1626120" cy="1063080"/>
              </a:xfrm>
              <a:prstGeom prst="roundRect">
                <a:avLst>
                  <a:gd name="adj" fmla="val 16667"/>
                </a:avLst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矩形 11"/>
              <p:cNvSpPr/>
              <p:nvPr/>
            </p:nvSpPr>
            <p:spPr>
              <a:xfrm>
                <a:off x="3807000" y="3214440"/>
                <a:ext cx="1445400" cy="85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圆角矩形 14"/>
            <p:cNvSpPr/>
            <p:nvPr/>
          </p:nvSpPr>
          <p:spPr>
            <a:xfrm>
              <a:off x="4405680" y="4095000"/>
              <a:ext cx="248040" cy="450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16"/>
          <p:cNvSpPr/>
          <p:nvPr/>
        </p:nvSpPr>
        <p:spPr>
          <a:xfrm>
            <a:off x="682560" y="153036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f3f3f"/>
                </a:solidFill>
                <a:latin typeface="微软雅黑"/>
                <a:ea typeface="微软雅黑"/>
              </a:rPr>
              <a:t>INFOGRAPHI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23"/>
          <p:cNvGrpSpPr/>
          <p:nvPr/>
        </p:nvGrpSpPr>
        <p:grpSpPr>
          <a:xfrm>
            <a:off x="515160" y="5125680"/>
            <a:ext cx="530280" cy="786240"/>
            <a:chOff x="515160" y="5125680"/>
            <a:chExt cx="530280" cy="786240"/>
          </a:xfrm>
        </p:grpSpPr>
        <p:grpSp>
          <p:nvGrpSpPr>
            <p:cNvPr id="97" name="组合 19"/>
            <p:cNvGrpSpPr/>
            <p:nvPr/>
          </p:nvGrpSpPr>
          <p:grpSpPr>
            <a:xfrm>
              <a:off x="515160" y="5125680"/>
              <a:ext cx="529920" cy="586080"/>
              <a:chOff x="515160" y="5125680"/>
              <a:chExt cx="529920" cy="586080"/>
            </a:xfrm>
          </p:grpSpPr>
          <p:sp>
            <p:nvSpPr>
              <p:cNvPr id="98" name="梯形 17"/>
              <p:cNvSpPr/>
              <p:nvPr/>
            </p:nvSpPr>
            <p:spPr>
              <a:xfrm rot="3175200">
                <a:off x="510480" y="5325120"/>
                <a:ext cx="496440" cy="23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18"/>
              <p:cNvSpPr/>
              <p:nvPr/>
            </p:nvSpPr>
            <p:spPr>
              <a:xfrm rot="3220200">
                <a:off x="632520" y="5318280"/>
                <a:ext cx="498240" cy="3852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矩形 20"/>
            <p:cNvSpPr/>
            <p:nvPr/>
          </p:nvSpPr>
          <p:spPr>
            <a:xfrm>
              <a:off x="762120" y="5550120"/>
              <a:ext cx="45360" cy="286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21"/>
            <p:cNvSpPr/>
            <p:nvPr/>
          </p:nvSpPr>
          <p:spPr>
            <a:xfrm rot="5400000">
              <a:off x="748800" y="5627160"/>
              <a:ext cx="72000" cy="3470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22"/>
            <p:cNvSpPr/>
            <p:nvPr/>
          </p:nvSpPr>
          <p:spPr>
            <a:xfrm rot="5400000">
              <a:off x="748800" y="5615280"/>
              <a:ext cx="72000" cy="5212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矩形 24"/>
          <p:cNvSpPr/>
          <p:nvPr/>
        </p:nvSpPr>
        <p:spPr>
          <a:xfrm rot="19566000">
            <a:off x="-139320" y="1596600"/>
            <a:ext cx="9480600" cy="1386000"/>
          </a:xfrm>
          <a:custGeom>
            <a:avLst/>
            <a:gdLst/>
            <a:ahLst/>
            <a:rect l="l" t="t" r="r" b="b"/>
            <a:pathLst>
              <a:path w="9481268" h="1434102">
                <a:moveTo>
                  <a:pt x="0" y="929858"/>
                </a:moveTo>
                <a:lnTo>
                  <a:pt x="7810418" y="0"/>
                </a:lnTo>
                <a:lnTo>
                  <a:pt x="9481268" y="1162983"/>
                </a:lnTo>
                <a:lnTo>
                  <a:pt x="0" y="1434102"/>
                </a:lnTo>
                <a:lnTo>
                  <a:pt x="0" y="929858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27"/>
          <p:cNvGrpSpPr/>
          <p:nvPr/>
        </p:nvGrpSpPr>
        <p:grpSpPr>
          <a:xfrm>
            <a:off x="7995960" y="5144040"/>
            <a:ext cx="523440" cy="806040"/>
            <a:chOff x="7995960" y="5144040"/>
            <a:chExt cx="523440" cy="806040"/>
          </a:xfrm>
        </p:grpSpPr>
        <p:grpSp>
          <p:nvGrpSpPr>
            <p:cNvPr id="105" name="组合 29"/>
            <p:cNvGrpSpPr/>
            <p:nvPr/>
          </p:nvGrpSpPr>
          <p:grpSpPr>
            <a:xfrm>
              <a:off x="7995960" y="5144040"/>
              <a:ext cx="523440" cy="582480"/>
              <a:chOff x="7995960" y="5144040"/>
              <a:chExt cx="523440" cy="582480"/>
            </a:xfrm>
          </p:grpSpPr>
          <p:sp>
            <p:nvSpPr>
              <p:cNvPr id="106" name="梯形 33"/>
              <p:cNvSpPr/>
              <p:nvPr/>
            </p:nvSpPr>
            <p:spPr>
              <a:xfrm flipH="1" rot="18424800">
                <a:off x="8037000" y="5338080"/>
                <a:ext cx="478800" cy="2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34"/>
              <p:cNvSpPr/>
              <p:nvPr/>
            </p:nvSpPr>
            <p:spPr>
              <a:xfrm flipH="1" rot="18379800">
                <a:off x="7913880" y="5329080"/>
                <a:ext cx="480600" cy="40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矩形 30"/>
            <p:cNvSpPr/>
            <p:nvPr/>
          </p:nvSpPr>
          <p:spPr>
            <a:xfrm flipH="1">
              <a:off x="8228520" y="5572440"/>
              <a:ext cx="43920" cy="29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31"/>
            <p:cNvSpPr/>
            <p:nvPr/>
          </p:nvSpPr>
          <p:spPr>
            <a:xfrm flipH="1" rot="16200000">
              <a:off x="8213040" y="5666400"/>
              <a:ext cx="74880" cy="33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32"/>
            <p:cNvSpPr/>
            <p:nvPr/>
          </p:nvSpPr>
          <p:spPr>
            <a:xfrm flipH="1" rot="16200000">
              <a:off x="8212680" y="5661000"/>
              <a:ext cx="74880" cy="50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矩形 24"/>
          <p:cNvSpPr/>
          <p:nvPr/>
        </p:nvSpPr>
        <p:spPr>
          <a:xfrm flipH="1" rot="2064000">
            <a:off x="-75960" y="1545840"/>
            <a:ext cx="9245880" cy="1500120"/>
          </a:xfrm>
          <a:custGeom>
            <a:avLst/>
            <a:gdLst/>
            <a:ahLst/>
            <a:rect l="l" t="t" r="r" b="b"/>
            <a:pathLst>
              <a:path w="9586000" h="1489890">
                <a:moveTo>
                  <a:pt x="0" y="985646"/>
                </a:moveTo>
                <a:lnTo>
                  <a:pt x="7850300" y="0"/>
                </a:lnTo>
                <a:lnTo>
                  <a:pt x="9586000" y="1123558"/>
                </a:lnTo>
                <a:lnTo>
                  <a:pt x="0" y="1489890"/>
                </a:lnTo>
                <a:lnTo>
                  <a:pt x="0" y="985646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5"/>
          <p:cNvSpPr/>
          <p:nvPr/>
        </p:nvSpPr>
        <p:spPr>
          <a:xfrm>
            <a:off x="3763800" y="3500280"/>
            <a:ext cx="15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DESIGN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7"/>
          <p:cNvSpPr/>
          <p:nvPr/>
        </p:nvSpPr>
        <p:spPr>
          <a:xfrm>
            <a:off x="3132000" y="4508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INFOGRAPHIC,LETDATA 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5"/>
          <p:cNvSpPr/>
          <p:nvPr/>
        </p:nvSpPr>
        <p:spPr>
          <a:xfrm>
            <a:off x="1913760" y="11736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简约工作报告</a:t>
            </a: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空心弧 28"/>
          <p:cNvSpPr/>
          <p:nvPr/>
        </p:nvSpPr>
        <p:spPr>
          <a:xfrm>
            <a:off x="7128000" y="871560"/>
            <a:ext cx="2016000" cy="205272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3605" y="10800"/>
                </a:moveTo>
                <a:cubicBezTo>
                  <a:pt x="3605" y="6826"/>
                  <a:pt x="6826" y="3605"/>
                  <a:pt x="10800" y="3605"/>
                </a:cubicBezTo>
                <a:cubicBezTo>
                  <a:pt x="14774" y="3605"/>
                  <a:pt x="17995" y="6826"/>
                  <a:pt x="17995" y="10800"/>
                </a:cubicBezTo>
                <a:lnTo>
                  <a:pt x="21600" y="10800"/>
                </a:lnTo>
                <a:cubicBezTo>
                  <a:pt x="21600" y="4835"/>
                  <a:pt x="1676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c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空心弧 29"/>
          <p:cNvSpPr/>
          <p:nvPr/>
        </p:nvSpPr>
        <p:spPr>
          <a:xfrm>
            <a:off x="7128000" y="871560"/>
            <a:ext cx="2016000" cy="2052720"/>
          </a:xfrm>
          <a:custGeom>
            <a:avLst/>
            <a:gdLst/>
            <a:ahLst/>
            <a:rect l="l" t="t" r="r" b="b"/>
            <a:pathLst>
              <a:path w="10821" h="3425">
                <a:moveTo>
                  <a:pt x="10821" y="3425"/>
                </a:moveTo>
                <a:cubicBezTo>
                  <a:pt x="10814" y="3425"/>
                  <a:pt x="10806" y="3425"/>
                  <a:pt x="10799" y="3425"/>
                </a:cubicBezTo>
                <a:cubicBezTo>
                  <a:pt x="10792" y="3425"/>
                  <a:pt x="10784" y="3425"/>
                  <a:pt x="10777" y="3425"/>
                </a:cubicBezTo>
                <a:lnTo>
                  <a:pt x="10767" y="0"/>
                </a:lnTo>
                <a:cubicBezTo>
                  <a:pt x="10746" y="0"/>
                  <a:pt x="10756" y="0"/>
                  <a:pt x="10767" y="0"/>
                </a:cubicBezTo>
                <a:cubicBezTo>
                  <a:pt x="10778" y="0"/>
                  <a:pt x="10789" y="0"/>
                  <a:pt x="10799" y="0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5"/>
          <p:cNvGrpSpPr/>
          <p:nvPr/>
        </p:nvGrpSpPr>
        <p:grpSpPr>
          <a:xfrm>
            <a:off x="0" y="0"/>
            <a:ext cx="5364000" cy="6858000"/>
            <a:chOff x="0" y="0"/>
            <a:chExt cx="5364000" cy="6858000"/>
          </a:xfrm>
        </p:grpSpPr>
        <p:sp>
          <p:nvSpPr>
            <p:cNvPr id="381" name="矩形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等腰三角形 4"/>
            <p:cNvSpPr/>
            <p:nvPr/>
          </p:nvSpPr>
          <p:spPr>
            <a:xfrm rot="5400000">
              <a:off x="4392000" y="2529000"/>
              <a:ext cx="864000" cy="1080000"/>
            </a:xfrm>
            <a:prstGeom prst="triangle">
              <a:avLst>
                <a:gd name="adj" fmla="val 50000"/>
              </a:avLst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035000" y="1711440"/>
            <a:ext cx="911160" cy="1440"/>
            <a:chOff x="1035000" y="1711440"/>
            <a:chExt cx="911160" cy="1440"/>
          </a:xfrm>
        </p:grpSpPr>
        <p:sp>
          <p:nvSpPr>
            <p:cNvPr id="384" name="直接连接符 6"/>
            <p:cNvSpPr/>
            <p:nvPr/>
          </p:nvSpPr>
          <p:spPr>
            <a:xfrm>
              <a:off x="1035000" y="1711440"/>
              <a:ext cx="911160" cy="144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1035000" y="1711440"/>
              <a:ext cx="9111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椭圆 7"/>
          <p:cNvSpPr/>
          <p:nvPr/>
        </p:nvSpPr>
        <p:spPr>
          <a:xfrm>
            <a:off x="581040" y="3068640"/>
            <a:ext cx="1184400" cy="112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3"/>
          <p:cNvGrpSpPr/>
          <p:nvPr/>
        </p:nvGrpSpPr>
        <p:grpSpPr>
          <a:xfrm>
            <a:off x="920880" y="3304800"/>
            <a:ext cx="504720" cy="649800"/>
            <a:chOff x="920880" y="3304800"/>
            <a:chExt cx="504720" cy="649800"/>
          </a:xfrm>
        </p:grpSpPr>
        <p:sp>
          <p:nvSpPr>
            <p:cNvPr id="388" name="圆角矩形 8"/>
            <p:cNvSpPr/>
            <p:nvPr/>
          </p:nvSpPr>
          <p:spPr>
            <a:xfrm>
              <a:off x="920880" y="3305160"/>
              <a:ext cx="504720" cy="649440"/>
            </a:xfrm>
            <a:custGeom>
              <a:avLst/>
              <a:gdLst>
                <a:gd name="textAreaLeft" fmla="*/ 41760 w 504720"/>
                <a:gd name="textAreaRight" fmla="*/ 462960 w 504720"/>
                <a:gd name="textAreaTop" fmla="*/ 41760 h 649440"/>
                <a:gd name="textAreaBottom" fmla="*/ 607680 h 649440"/>
              </a:gdLst>
              <a:ahLst/>
              <a:rect l="textAreaLeft" t="textAreaTop" r="textAreaRight" b="textAreaBottom"/>
              <a:pathLst>
                <a:path w="21600" h="27789">
                  <a:moveTo>
                    <a:pt x="6113" y="0"/>
                  </a:moveTo>
                  <a:arcTo wR="6113" hR="6113" stAng="16200000" swAng="-5400000"/>
                  <a:lnTo>
                    <a:pt x="0" y="21676"/>
                  </a:lnTo>
                  <a:arcTo wR="6113" hR="6113" stAng="10800000" swAng="-5400000"/>
                  <a:lnTo>
                    <a:pt x="15487" y="27789"/>
                  </a:lnTo>
                  <a:arcTo wR="6113" hR="6113" stAng="5400000" swAng="-5400000"/>
                  <a:lnTo>
                    <a:pt x="21600" y="6113"/>
                  </a:lnTo>
                  <a:arcTo wR="6113" hR="6113" stAng="0" swAng="-5400000"/>
                  <a:close/>
                </a:path>
              </a:pathLst>
            </a:custGeom>
            <a:noFill/>
            <a:ln w="2556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圆角矩形 9"/>
            <p:cNvSpPr/>
            <p:nvPr/>
          </p:nvSpPr>
          <p:spPr>
            <a:xfrm>
              <a:off x="1117080" y="3404880"/>
              <a:ext cx="111960" cy="199800"/>
            </a:xfrm>
            <a:custGeom>
              <a:avLst/>
              <a:gdLst>
                <a:gd name="textAreaLeft" fmla="*/ 16200 w 111960"/>
                <a:gd name="textAreaRight" fmla="*/ 95760 w 111960"/>
                <a:gd name="textAreaTop" fmla="*/ 16200 h 199800"/>
                <a:gd name="textAreaBottom" fmla="*/ 183600 h 199800"/>
              </a:gdLst>
              <a:ahLst/>
              <a:rect l="textAreaLeft" t="textAreaTop" r="textAreaRight" b="textAreaBottom"/>
              <a:pathLst>
                <a:path w="21600" h="38492">
                  <a:moveTo>
                    <a:pt x="10800" y="0"/>
                  </a:moveTo>
                  <a:arcTo wR="10800" hR="10800" stAng="16200000" swAng="-5400000"/>
                  <a:lnTo>
                    <a:pt x="0" y="27692"/>
                  </a:lnTo>
                  <a:arcTo wR="10800" hR="10800" stAng="10800000" swAng="-5400000"/>
                  <a:lnTo>
                    <a:pt x="10800" y="384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2556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172880" y="3304800"/>
              <a:ext cx="360" cy="99720"/>
              <a:chOff x="1172880" y="3304800"/>
              <a:chExt cx="360" cy="99720"/>
            </a:xfrm>
          </p:grpSpPr>
          <p:sp>
            <p:nvSpPr>
              <p:cNvPr id="391" name="直接连接符 11"/>
              <p:cNvSpPr/>
              <p:nvPr/>
            </p:nvSpPr>
            <p:spPr>
              <a:xfrm flipV="1">
                <a:off x="1173240" y="3304800"/>
                <a:ext cx="0" cy="9972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 txBox="1"/>
              <p:nvPr/>
            </p:nvSpPr>
            <p:spPr>
              <a:xfrm rot="10800000">
                <a:off x="1172880" y="3304800"/>
                <a:ext cx="360" cy="9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1172880" y="3604680"/>
              <a:ext cx="360" cy="99720"/>
              <a:chOff x="1172880" y="3604680"/>
              <a:chExt cx="360" cy="99720"/>
            </a:xfrm>
          </p:grpSpPr>
          <p:sp>
            <p:nvSpPr>
              <p:cNvPr id="394" name="直接连接符 12"/>
              <p:cNvSpPr/>
              <p:nvPr/>
            </p:nvSpPr>
            <p:spPr>
              <a:xfrm flipV="1">
                <a:off x="1173240" y="3604680"/>
                <a:ext cx="0" cy="9972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 rot="10800000">
                <a:off x="1172880" y="3604680"/>
                <a:ext cx="360" cy="9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6" name="椭圆 14"/>
          <p:cNvSpPr/>
          <p:nvPr/>
        </p:nvSpPr>
        <p:spPr>
          <a:xfrm>
            <a:off x="2771640" y="5013360"/>
            <a:ext cx="1184400" cy="1120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0"/>
          <p:cNvSpPr/>
          <p:nvPr/>
        </p:nvSpPr>
        <p:spPr>
          <a:xfrm>
            <a:off x="2038320" y="3487680"/>
            <a:ext cx="23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圆角矩形标注 21"/>
          <p:cNvSpPr/>
          <p:nvPr/>
        </p:nvSpPr>
        <p:spPr>
          <a:xfrm>
            <a:off x="3022560" y="5345280"/>
            <a:ext cx="682560" cy="455400"/>
          </a:xfrm>
          <a:prstGeom prst="wedgeRoundRectCallout">
            <a:avLst>
              <a:gd name="adj1" fmla="val -20833"/>
              <a:gd name="adj2" fmla="val 86300"/>
              <a:gd name="adj3" fmla="val 16667"/>
            </a:avLst>
          </a:prstGeom>
          <a:noFill/>
          <a:ln w="2556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2"/>
          <p:cNvSpPr/>
          <p:nvPr/>
        </p:nvSpPr>
        <p:spPr>
          <a:xfrm>
            <a:off x="230040" y="5345280"/>
            <a:ext cx="23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3"/>
          <p:cNvSpPr/>
          <p:nvPr/>
        </p:nvSpPr>
        <p:spPr>
          <a:xfrm>
            <a:off x="179280" y="33336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S NOT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364000" y="2924280"/>
            <a:ext cx="3529080" cy="1440"/>
            <a:chOff x="5364000" y="2924280"/>
            <a:chExt cx="3529080" cy="1440"/>
          </a:xfrm>
        </p:grpSpPr>
        <p:sp>
          <p:nvSpPr>
            <p:cNvPr id="402" name="直接连接符 24"/>
            <p:cNvSpPr/>
            <p:nvPr/>
          </p:nvSpPr>
          <p:spPr>
            <a:xfrm>
              <a:off x="5364000" y="2924280"/>
              <a:ext cx="352908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5364000" y="2924280"/>
              <a:ext cx="3529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Box 26"/>
          <p:cNvSpPr/>
          <p:nvPr/>
        </p:nvSpPr>
        <p:spPr>
          <a:xfrm>
            <a:off x="5219640" y="1708200"/>
            <a:ext cx="16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微软雅黑"/>
                <a:ea typeface="微软雅黑"/>
              </a:rPr>
              <a:t>25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7"/>
          <p:cNvSpPr/>
          <p:nvPr/>
        </p:nvSpPr>
        <p:spPr>
          <a:xfrm>
            <a:off x="5219640" y="4421160"/>
            <a:ext cx="16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微软雅黑"/>
                <a:ea typeface="微软雅黑"/>
              </a:rPr>
              <a:t>75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空心弧 30"/>
          <p:cNvSpPr/>
          <p:nvPr/>
        </p:nvSpPr>
        <p:spPr>
          <a:xfrm>
            <a:off x="7128000" y="3778200"/>
            <a:ext cx="2016000" cy="205272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3605" y="10800"/>
                </a:moveTo>
                <a:cubicBezTo>
                  <a:pt x="3605" y="6826"/>
                  <a:pt x="6826" y="3605"/>
                  <a:pt x="10800" y="3605"/>
                </a:cubicBezTo>
                <a:cubicBezTo>
                  <a:pt x="14774" y="3605"/>
                  <a:pt x="17995" y="6826"/>
                  <a:pt x="17995" y="10800"/>
                </a:cubicBezTo>
                <a:lnTo>
                  <a:pt x="21600" y="10800"/>
                </a:lnTo>
                <a:cubicBezTo>
                  <a:pt x="21600" y="4835"/>
                  <a:pt x="1676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3f3f3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空心弧 31"/>
          <p:cNvSpPr/>
          <p:nvPr/>
        </p:nvSpPr>
        <p:spPr>
          <a:xfrm>
            <a:off x="7128000" y="3778200"/>
            <a:ext cx="2016000" cy="2052720"/>
          </a:xfrm>
          <a:custGeom>
            <a:avLst/>
            <a:gdLst/>
            <a:ahLst/>
            <a:rect l="l" t="t" r="r" b="b"/>
            <a:pathLst>
              <a:path w="10821" h="3425">
                <a:moveTo>
                  <a:pt x="10821" y="3425"/>
                </a:moveTo>
                <a:cubicBezTo>
                  <a:pt x="10814" y="3425"/>
                  <a:pt x="10806" y="3425"/>
                  <a:pt x="10799" y="3425"/>
                </a:cubicBezTo>
                <a:cubicBezTo>
                  <a:pt x="10792" y="3425"/>
                  <a:pt x="10784" y="3425"/>
                  <a:pt x="10777" y="3425"/>
                </a:cubicBezTo>
                <a:lnTo>
                  <a:pt x="10767" y="0"/>
                </a:lnTo>
                <a:cubicBezTo>
                  <a:pt x="10746" y="0"/>
                  <a:pt x="10756" y="0"/>
                  <a:pt x="10767" y="0"/>
                </a:cubicBezTo>
                <a:cubicBezTo>
                  <a:pt x="10778" y="0"/>
                  <a:pt x="10789" y="0"/>
                  <a:pt x="10799" y="0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32"/>
          <p:cNvSpPr/>
          <p:nvPr/>
        </p:nvSpPr>
        <p:spPr>
          <a:xfrm>
            <a:off x="5254560" y="30492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3"/>
          <p:cNvSpPr/>
          <p:nvPr/>
        </p:nvSpPr>
        <p:spPr>
          <a:xfrm>
            <a:off x="5219640" y="3405240"/>
            <a:ext cx="23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A7F5-3C92-4CE2-A1A8-7866A44F67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3"/>
          <p:cNvSpPr/>
          <p:nvPr/>
        </p:nvSpPr>
        <p:spPr>
          <a:xfrm>
            <a:off x="882720" y="228924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f3f3f"/>
                </a:solidFill>
                <a:latin typeface="微软雅黑"/>
                <a:ea typeface="微软雅黑"/>
              </a:rPr>
              <a:t>T</a:t>
            </a:r>
            <a:r>
              <a:rPr b="1" lang="en-US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H</a:t>
            </a:r>
            <a:r>
              <a:rPr b="1" lang="en-US" sz="8000" spc="-1" strike="noStrike">
                <a:solidFill>
                  <a:srgbClr val="3f3f3f"/>
                </a:solidFill>
                <a:latin typeface="微软雅黑"/>
                <a:ea typeface="微软雅黑"/>
              </a:rPr>
              <a:t>A</a:t>
            </a:r>
            <a:r>
              <a:rPr b="1" lang="en-US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N</a:t>
            </a:r>
            <a:r>
              <a:rPr b="1" lang="en-US" sz="8000" spc="-1" strike="noStrike">
                <a:solidFill>
                  <a:srgbClr val="3f3f3f"/>
                </a:solidFill>
                <a:latin typeface="微软雅黑"/>
                <a:ea typeface="微软雅黑"/>
              </a:rPr>
              <a:t>K </a:t>
            </a:r>
            <a:r>
              <a:rPr b="1" lang="en-US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Y</a:t>
            </a:r>
            <a:r>
              <a:rPr b="1" lang="en-US" sz="8000" spc="-1" strike="noStrike">
                <a:solidFill>
                  <a:srgbClr val="3f3f3f"/>
                </a:solidFill>
                <a:latin typeface="微软雅黑"/>
                <a:ea typeface="微软雅黑"/>
              </a:rPr>
              <a:t>OU</a:t>
            </a:r>
            <a:r>
              <a:rPr b="1" lang="zh-CN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组合 4"/>
          <p:cNvGrpSpPr/>
          <p:nvPr/>
        </p:nvGrpSpPr>
        <p:grpSpPr>
          <a:xfrm>
            <a:off x="515160" y="5125680"/>
            <a:ext cx="530280" cy="786240"/>
            <a:chOff x="515160" y="5125680"/>
            <a:chExt cx="530280" cy="786240"/>
          </a:xfrm>
        </p:grpSpPr>
        <p:grpSp>
          <p:nvGrpSpPr>
            <p:cNvPr id="416" name="组合 5"/>
            <p:cNvGrpSpPr/>
            <p:nvPr/>
          </p:nvGrpSpPr>
          <p:grpSpPr>
            <a:xfrm>
              <a:off x="515160" y="5125680"/>
              <a:ext cx="529920" cy="586080"/>
              <a:chOff x="515160" y="5125680"/>
              <a:chExt cx="529920" cy="586080"/>
            </a:xfrm>
          </p:grpSpPr>
          <p:sp>
            <p:nvSpPr>
              <p:cNvPr id="417" name="梯形 9"/>
              <p:cNvSpPr/>
              <p:nvPr/>
            </p:nvSpPr>
            <p:spPr>
              <a:xfrm rot="3175200">
                <a:off x="510480" y="5325120"/>
                <a:ext cx="496440" cy="23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矩形 10"/>
              <p:cNvSpPr/>
              <p:nvPr/>
            </p:nvSpPr>
            <p:spPr>
              <a:xfrm rot="3220200">
                <a:off x="632520" y="5318280"/>
                <a:ext cx="498240" cy="3852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矩形 6"/>
            <p:cNvSpPr/>
            <p:nvPr/>
          </p:nvSpPr>
          <p:spPr>
            <a:xfrm>
              <a:off x="762120" y="5550120"/>
              <a:ext cx="45360" cy="286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矩形 7"/>
            <p:cNvSpPr/>
            <p:nvPr/>
          </p:nvSpPr>
          <p:spPr>
            <a:xfrm rot="5400000">
              <a:off x="748800" y="5627160"/>
              <a:ext cx="72000" cy="3470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8"/>
            <p:cNvSpPr/>
            <p:nvPr/>
          </p:nvSpPr>
          <p:spPr>
            <a:xfrm rot="5400000">
              <a:off x="748800" y="5615280"/>
              <a:ext cx="72000" cy="5212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矩形 24"/>
          <p:cNvSpPr/>
          <p:nvPr/>
        </p:nvSpPr>
        <p:spPr>
          <a:xfrm rot="19566000">
            <a:off x="-139320" y="1596600"/>
            <a:ext cx="9480600" cy="1386000"/>
          </a:xfrm>
          <a:custGeom>
            <a:avLst/>
            <a:gdLst/>
            <a:ahLst/>
            <a:rect l="l" t="t" r="r" b="b"/>
            <a:pathLst>
              <a:path w="9481268" h="1434102">
                <a:moveTo>
                  <a:pt x="0" y="929858"/>
                </a:moveTo>
                <a:lnTo>
                  <a:pt x="7810418" y="0"/>
                </a:lnTo>
                <a:lnTo>
                  <a:pt x="9481268" y="1162983"/>
                </a:lnTo>
                <a:lnTo>
                  <a:pt x="0" y="1434102"/>
                </a:lnTo>
                <a:lnTo>
                  <a:pt x="0" y="929858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组合 12"/>
          <p:cNvGrpSpPr/>
          <p:nvPr/>
        </p:nvGrpSpPr>
        <p:grpSpPr>
          <a:xfrm>
            <a:off x="7995960" y="5144040"/>
            <a:ext cx="523440" cy="806040"/>
            <a:chOff x="7995960" y="5144040"/>
            <a:chExt cx="523440" cy="806040"/>
          </a:xfrm>
        </p:grpSpPr>
        <p:grpSp>
          <p:nvGrpSpPr>
            <p:cNvPr id="424" name="组合 13"/>
            <p:cNvGrpSpPr/>
            <p:nvPr/>
          </p:nvGrpSpPr>
          <p:grpSpPr>
            <a:xfrm>
              <a:off x="7995960" y="5144040"/>
              <a:ext cx="523440" cy="582480"/>
              <a:chOff x="7995960" y="5144040"/>
              <a:chExt cx="523440" cy="582480"/>
            </a:xfrm>
          </p:grpSpPr>
          <p:sp>
            <p:nvSpPr>
              <p:cNvPr id="425" name="梯形 17"/>
              <p:cNvSpPr/>
              <p:nvPr/>
            </p:nvSpPr>
            <p:spPr>
              <a:xfrm flipH="1" rot="18424800">
                <a:off x="8037000" y="5338080"/>
                <a:ext cx="478800" cy="2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矩形 18"/>
              <p:cNvSpPr/>
              <p:nvPr/>
            </p:nvSpPr>
            <p:spPr>
              <a:xfrm flipH="1" rot="18379800">
                <a:off x="7913880" y="5329080"/>
                <a:ext cx="480600" cy="40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矩形 14"/>
            <p:cNvSpPr/>
            <p:nvPr/>
          </p:nvSpPr>
          <p:spPr>
            <a:xfrm flipH="1">
              <a:off x="8228520" y="5572440"/>
              <a:ext cx="43920" cy="29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5"/>
            <p:cNvSpPr/>
            <p:nvPr/>
          </p:nvSpPr>
          <p:spPr>
            <a:xfrm flipH="1" rot="16200000">
              <a:off x="8213040" y="5666400"/>
              <a:ext cx="74880" cy="33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矩形 16"/>
            <p:cNvSpPr/>
            <p:nvPr/>
          </p:nvSpPr>
          <p:spPr>
            <a:xfrm flipH="1" rot="16200000">
              <a:off x="8212680" y="5661000"/>
              <a:ext cx="74880" cy="50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矩形 24"/>
          <p:cNvSpPr/>
          <p:nvPr/>
        </p:nvSpPr>
        <p:spPr>
          <a:xfrm flipH="1" rot="2064000">
            <a:off x="-75960" y="1545840"/>
            <a:ext cx="9245880" cy="1500120"/>
          </a:xfrm>
          <a:custGeom>
            <a:avLst/>
            <a:gdLst/>
            <a:ahLst/>
            <a:rect l="l" t="t" r="r" b="b"/>
            <a:pathLst>
              <a:path w="9586000" h="1489890">
                <a:moveTo>
                  <a:pt x="0" y="985646"/>
                </a:moveTo>
                <a:lnTo>
                  <a:pt x="7850300" y="0"/>
                </a:lnTo>
                <a:lnTo>
                  <a:pt x="9586000" y="1123558"/>
                </a:lnTo>
                <a:lnTo>
                  <a:pt x="0" y="1489890"/>
                </a:lnTo>
                <a:lnTo>
                  <a:pt x="0" y="985646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0"/>
          <p:cNvSpPr/>
          <p:nvPr/>
        </p:nvSpPr>
        <p:spPr>
          <a:xfrm>
            <a:off x="3419640" y="37180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Brush Script MT"/>
                <a:ea typeface="微软雅黑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4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4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3"/>
          <p:cNvSpPr/>
          <p:nvPr/>
        </p:nvSpPr>
        <p:spPr>
          <a:xfrm>
            <a:off x="0" y="3933720"/>
            <a:ext cx="9144000" cy="2924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4"/>
          <p:cNvGrpSpPr/>
          <p:nvPr/>
        </p:nvGrpSpPr>
        <p:grpSpPr>
          <a:xfrm>
            <a:off x="7995960" y="5144040"/>
            <a:ext cx="523440" cy="806040"/>
            <a:chOff x="7995960" y="5144040"/>
            <a:chExt cx="523440" cy="806040"/>
          </a:xfrm>
        </p:grpSpPr>
        <p:grpSp>
          <p:nvGrpSpPr>
            <p:cNvPr id="118" name="组合 5"/>
            <p:cNvGrpSpPr/>
            <p:nvPr/>
          </p:nvGrpSpPr>
          <p:grpSpPr>
            <a:xfrm>
              <a:off x="7995960" y="5144040"/>
              <a:ext cx="523440" cy="582480"/>
              <a:chOff x="7995960" y="5144040"/>
              <a:chExt cx="523440" cy="582480"/>
            </a:xfrm>
          </p:grpSpPr>
          <p:sp>
            <p:nvSpPr>
              <p:cNvPr id="119" name="梯形 9"/>
              <p:cNvSpPr/>
              <p:nvPr/>
            </p:nvSpPr>
            <p:spPr>
              <a:xfrm flipH="1" rot="18424800">
                <a:off x="8037000" y="5338080"/>
                <a:ext cx="478800" cy="2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矩形 10"/>
              <p:cNvSpPr/>
              <p:nvPr/>
            </p:nvSpPr>
            <p:spPr>
              <a:xfrm flipH="1" rot="18379800">
                <a:off x="7913880" y="5329080"/>
                <a:ext cx="480600" cy="40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矩形 6"/>
            <p:cNvSpPr/>
            <p:nvPr/>
          </p:nvSpPr>
          <p:spPr>
            <a:xfrm flipH="1">
              <a:off x="8228520" y="5572440"/>
              <a:ext cx="43920" cy="29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7"/>
            <p:cNvSpPr/>
            <p:nvPr/>
          </p:nvSpPr>
          <p:spPr>
            <a:xfrm flipH="1" rot="16200000">
              <a:off x="8213040" y="5666400"/>
              <a:ext cx="74880" cy="33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8"/>
            <p:cNvSpPr/>
            <p:nvPr/>
          </p:nvSpPr>
          <p:spPr>
            <a:xfrm flipH="1" rot="16200000">
              <a:off x="8212680" y="5661000"/>
              <a:ext cx="74880" cy="50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Box 13"/>
          <p:cNvSpPr/>
          <p:nvPr/>
        </p:nvSpPr>
        <p:spPr>
          <a:xfrm>
            <a:off x="4861080" y="35607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Calibri"/>
                <a:ea typeface="Calibri"/>
              </a:rPr>
              <a:t>PLEASE ADD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828720" y="3284640"/>
            <a:ext cx="367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ART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4"/>
          <p:cNvSpPr/>
          <p:nvPr/>
        </p:nvSpPr>
        <p:spPr>
          <a:xfrm flipH="1" rot="2064000">
            <a:off x="-453960" y="1428480"/>
            <a:ext cx="9659880" cy="1500120"/>
          </a:xfrm>
          <a:custGeom>
            <a:avLst/>
            <a:gdLst/>
            <a:ahLst/>
            <a:rect l="l" t="t" r="r" b="b"/>
            <a:pathLst>
              <a:path w="10016038" h="1489890">
                <a:moveTo>
                  <a:pt x="0" y="985646"/>
                </a:moveTo>
                <a:lnTo>
                  <a:pt x="7850300" y="0"/>
                </a:lnTo>
                <a:lnTo>
                  <a:pt x="10016038" y="1416751"/>
                </a:lnTo>
                <a:lnTo>
                  <a:pt x="0" y="1489890"/>
                </a:lnTo>
                <a:lnTo>
                  <a:pt x="0" y="985646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8196"/>
          <p:cNvSpPr/>
          <p:nvPr/>
        </p:nvSpPr>
        <p:spPr>
          <a:xfrm>
            <a:off x="1260360" y="5229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椭圆 9"/>
          <p:cNvSpPr/>
          <p:nvPr/>
        </p:nvSpPr>
        <p:spPr>
          <a:xfrm>
            <a:off x="5361120" y="3645000"/>
            <a:ext cx="1368360" cy="1224000"/>
          </a:xfrm>
          <a:prstGeom prst="ellipse">
            <a:avLst/>
          </a:prstGeom>
          <a:solidFill>
            <a:srgbClr val="c00000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419640" y="2924280"/>
            <a:ext cx="5329080" cy="1440"/>
            <a:chOff x="3419640" y="2924280"/>
            <a:chExt cx="5329080" cy="1440"/>
          </a:xfrm>
        </p:grpSpPr>
        <p:sp>
          <p:nvSpPr>
            <p:cNvPr id="130" name="直接连接符 4"/>
            <p:cNvSpPr/>
            <p:nvPr/>
          </p:nvSpPr>
          <p:spPr>
            <a:xfrm>
              <a:off x="3419640" y="2924280"/>
              <a:ext cx="532908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3419640" y="2924280"/>
              <a:ext cx="5329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椭圆 5"/>
          <p:cNvSpPr/>
          <p:nvPr/>
        </p:nvSpPr>
        <p:spPr>
          <a:xfrm>
            <a:off x="3419640" y="1123920"/>
            <a:ext cx="1368360" cy="1225440"/>
          </a:xfrm>
          <a:prstGeom prst="ellipse">
            <a:avLst/>
          </a:prstGeom>
          <a:solidFill>
            <a:srgbClr val="c00000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6"/>
          <p:cNvSpPr/>
          <p:nvPr/>
        </p:nvSpPr>
        <p:spPr>
          <a:xfrm>
            <a:off x="5400720" y="1123920"/>
            <a:ext cx="1368360" cy="1225440"/>
          </a:xfrm>
          <a:prstGeom prst="ellipse">
            <a:avLst/>
          </a:prstGeom>
          <a:solidFill>
            <a:srgbClr val="3f3f3f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7"/>
          <p:cNvSpPr/>
          <p:nvPr/>
        </p:nvSpPr>
        <p:spPr>
          <a:xfrm>
            <a:off x="7308720" y="1123920"/>
            <a:ext cx="1368720" cy="1225440"/>
          </a:xfrm>
          <a:prstGeom prst="ellipse">
            <a:avLst/>
          </a:prstGeom>
          <a:solidFill>
            <a:srgbClr val="c00000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8"/>
          <p:cNvSpPr/>
          <p:nvPr/>
        </p:nvSpPr>
        <p:spPr>
          <a:xfrm>
            <a:off x="3419640" y="3645000"/>
            <a:ext cx="1368360" cy="1224000"/>
          </a:xfrm>
          <a:prstGeom prst="ellipse">
            <a:avLst/>
          </a:prstGeom>
          <a:solidFill>
            <a:srgbClr val="3f3f3f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10"/>
          <p:cNvSpPr/>
          <p:nvPr/>
        </p:nvSpPr>
        <p:spPr>
          <a:xfrm>
            <a:off x="7308720" y="3645000"/>
            <a:ext cx="1368720" cy="1224000"/>
          </a:xfrm>
          <a:prstGeom prst="ellipse">
            <a:avLst/>
          </a:prstGeom>
          <a:solidFill>
            <a:srgbClr val="3f3f3f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14"/>
          <p:cNvGrpSpPr/>
          <p:nvPr/>
        </p:nvGrpSpPr>
        <p:grpSpPr>
          <a:xfrm>
            <a:off x="7753320" y="4049640"/>
            <a:ext cx="477720" cy="414360"/>
            <a:chOff x="7753320" y="4049640"/>
            <a:chExt cx="477720" cy="414360"/>
          </a:xfrm>
        </p:grpSpPr>
        <p:sp>
          <p:nvSpPr>
            <p:cNvPr id="138" name="椭圆 11"/>
            <p:cNvSpPr/>
            <p:nvPr/>
          </p:nvSpPr>
          <p:spPr>
            <a:xfrm>
              <a:off x="7753320" y="4049640"/>
              <a:ext cx="307080" cy="281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8015400" y="4290120"/>
              <a:ext cx="215640" cy="173880"/>
              <a:chOff x="8015400" y="4290120"/>
              <a:chExt cx="215640" cy="173880"/>
            </a:xfrm>
          </p:grpSpPr>
          <p:sp>
            <p:nvSpPr>
              <p:cNvPr id="140" name="直接连接符 13"/>
              <p:cNvSpPr/>
              <p:nvPr/>
            </p:nvSpPr>
            <p:spPr>
              <a:xfrm>
                <a:off x="8015400" y="4290120"/>
                <a:ext cx="215640" cy="17388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8015400" y="4290120"/>
                <a:ext cx="215640" cy="17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组合 19"/>
          <p:cNvGrpSpPr/>
          <p:nvPr/>
        </p:nvGrpSpPr>
        <p:grpSpPr>
          <a:xfrm>
            <a:off x="5749200" y="3809160"/>
            <a:ext cx="720360" cy="929160"/>
            <a:chOff x="5749200" y="3809160"/>
            <a:chExt cx="720360" cy="929160"/>
          </a:xfrm>
        </p:grpSpPr>
        <p:sp>
          <p:nvSpPr>
            <p:cNvPr id="143" name="矩形 16"/>
            <p:cNvSpPr/>
            <p:nvPr/>
          </p:nvSpPr>
          <p:spPr>
            <a:xfrm rot="1299600">
              <a:off x="5769000" y="4045680"/>
              <a:ext cx="321120" cy="168480"/>
            </a:xfrm>
            <a:custGeom>
              <a:avLst/>
              <a:gdLst/>
              <a:ahLst/>
              <a:rect l="l" t="t" r="r" b="b"/>
              <a:pathLst>
                <a:path w="684869" h="360040">
                  <a:moveTo>
                    <a:pt x="103695" y="179109"/>
                  </a:moveTo>
                  <a:lnTo>
                    <a:pt x="684869" y="0"/>
                  </a:lnTo>
                  <a:lnTo>
                    <a:pt x="684869" y="360040"/>
                  </a:lnTo>
                  <a:lnTo>
                    <a:pt x="0" y="360040"/>
                  </a:lnTo>
                  <a:lnTo>
                    <a:pt x="103695" y="179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6"/>
            <p:cNvSpPr/>
            <p:nvPr/>
          </p:nvSpPr>
          <p:spPr>
            <a:xfrm flipH="1" rot="1299600">
              <a:off x="6128280" y="4191120"/>
              <a:ext cx="321120" cy="168480"/>
            </a:xfrm>
            <a:custGeom>
              <a:avLst/>
              <a:gdLst/>
              <a:ahLst/>
              <a:rect l="l" t="t" r="r" b="b"/>
              <a:pathLst>
                <a:path w="684869" h="360040">
                  <a:moveTo>
                    <a:pt x="103695" y="179109"/>
                  </a:moveTo>
                  <a:lnTo>
                    <a:pt x="684869" y="0"/>
                  </a:lnTo>
                  <a:lnTo>
                    <a:pt x="684869" y="360040"/>
                  </a:lnTo>
                  <a:lnTo>
                    <a:pt x="0" y="360040"/>
                  </a:lnTo>
                  <a:lnTo>
                    <a:pt x="103695" y="179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圆角矩形 15"/>
            <p:cNvSpPr/>
            <p:nvPr/>
          </p:nvSpPr>
          <p:spPr>
            <a:xfrm rot="1299600">
              <a:off x="6028920" y="3814560"/>
              <a:ext cx="168840" cy="729000"/>
            </a:xfrm>
            <a:custGeom>
              <a:avLst/>
              <a:gdLst>
                <a:gd name="textAreaLeft" fmla="*/ 24480 w 168840"/>
                <a:gd name="textAreaRight" fmla="*/ 144360 w 168840"/>
                <a:gd name="textAreaTop" fmla="*/ 24480 h 729000"/>
                <a:gd name="textAreaBottom" fmla="*/ 704520 h 729000"/>
              </a:gdLst>
              <a:ahLst/>
              <a:rect l="textAreaLeft" t="textAreaTop" r="textAreaRight" b="textAreaBottom"/>
              <a:pathLst>
                <a:path w="21600" h="93110">
                  <a:moveTo>
                    <a:pt x="10800" y="0"/>
                  </a:moveTo>
                  <a:arcTo wR="10800" hR="10800" stAng="16200000" swAng="-5400000"/>
                  <a:lnTo>
                    <a:pt x="0" y="82310"/>
                  </a:lnTo>
                  <a:arcTo wR="10800" hR="10800" stAng="10800000" swAng="-5400000"/>
                  <a:lnTo>
                    <a:pt x="10800" y="9311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燕尾形 18"/>
            <p:cNvSpPr/>
            <p:nvPr/>
          </p:nvSpPr>
          <p:spPr>
            <a:xfrm rot="17500200">
              <a:off x="5836680" y="4443840"/>
              <a:ext cx="235800" cy="27000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23"/>
          <p:cNvGrpSpPr/>
          <p:nvPr/>
        </p:nvGrpSpPr>
        <p:grpSpPr>
          <a:xfrm>
            <a:off x="3780000" y="3922560"/>
            <a:ext cx="844560" cy="735120"/>
            <a:chOff x="3780000" y="3922560"/>
            <a:chExt cx="844560" cy="735120"/>
          </a:xfrm>
        </p:grpSpPr>
        <p:sp>
          <p:nvSpPr>
            <p:cNvPr id="148" name="空心弧 22"/>
            <p:cNvSpPr/>
            <p:nvPr/>
          </p:nvSpPr>
          <p:spPr>
            <a:xfrm rot="5577000">
              <a:off x="4166280" y="3963600"/>
              <a:ext cx="398520" cy="49788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1862" y="10800"/>
                  </a:moveTo>
                  <a:cubicBezTo>
                    <a:pt x="1862" y="5864"/>
                    <a:pt x="5864" y="1862"/>
                    <a:pt x="10800" y="1862"/>
                  </a:cubicBezTo>
                  <a:cubicBezTo>
                    <a:pt x="15736" y="1862"/>
                    <a:pt x="19738" y="5864"/>
                    <a:pt x="19738" y="10800"/>
                  </a:cubicBezTo>
                  <a:lnTo>
                    <a:pt x="21600" y="10800"/>
                  </a:ln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剪去同侧角的矩形 20"/>
            <p:cNvSpPr/>
            <p:nvPr/>
          </p:nvSpPr>
          <p:spPr>
            <a:xfrm>
              <a:off x="3780000" y="3922560"/>
              <a:ext cx="630360" cy="735120"/>
            </a:xfrm>
            <a:custGeom>
              <a:avLst/>
              <a:gdLst/>
              <a:ahLst/>
              <a:rect l="l" t="t" r="r" b="b"/>
              <a:pathLst>
                <a:path w="936104" h="1092834">
                  <a:moveTo>
                    <a:pt x="0" y="0"/>
                  </a:moveTo>
                  <a:lnTo>
                    <a:pt x="936104" y="0"/>
                  </a:lnTo>
                  <a:lnTo>
                    <a:pt x="936104" y="0"/>
                  </a:lnTo>
                  <a:lnTo>
                    <a:pt x="936104" y="935268"/>
                  </a:lnTo>
                  <a:lnTo>
                    <a:pt x="778538" y="1092834"/>
                  </a:lnTo>
                  <a:lnTo>
                    <a:pt x="157565" y="1092834"/>
                  </a:lnTo>
                  <a:lnTo>
                    <a:pt x="0" y="935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21"/>
            <p:cNvSpPr/>
            <p:nvPr/>
          </p:nvSpPr>
          <p:spPr>
            <a:xfrm>
              <a:off x="3876840" y="4015080"/>
              <a:ext cx="436320" cy="8532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27"/>
          <p:cNvGrpSpPr/>
          <p:nvPr/>
        </p:nvGrpSpPr>
        <p:grpSpPr>
          <a:xfrm>
            <a:off x="7615080" y="1554120"/>
            <a:ext cx="801720" cy="365040"/>
            <a:chOff x="7615080" y="1554120"/>
            <a:chExt cx="801720" cy="365040"/>
          </a:xfrm>
        </p:grpSpPr>
        <p:sp>
          <p:nvSpPr>
            <p:cNvPr id="152" name="矩形 24"/>
            <p:cNvSpPr/>
            <p:nvPr/>
          </p:nvSpPr>
          <p:spPr>
            <a:xfrm>
              <a:off x="7716600" y="1554120"/>
              <a:ext cx="700200" cy="3650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25"/>
            <p:cNvSpPr/>
            <p:nvPr/>
          </p:nvSpPr>
          <p:spPr>
            <a:xfrm>
              <a:off x="7794720" y="1596960"/>
              <a:ext cx="548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26"/>
            <p:cNvSpPr/>
            <p:nvPr/>
          </p:nvSpPr>
          <p:spPr>
            <a:xfrm>
              <a:off x="7615080" y="1596960"/>
              <a:ext cx="896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20840" y="2924280"/>
            <a:ext cx="911160" cy="1440"/>
            <a:chOff x="420840" y="2924280"/>
            <a:chExt cx="911160" cy="1440"/>
          </a:xfrm>
        </p:grpSpPr>
        <p:sp>
          <p:nvSpPr>
            <p:cNvPr id="156" name="直接连接符 28"/>
            <p:cNvSpPr/>
            <p:nvPr/>
          </p:nvSpPr>
          <p:spPr>
            <a:xfrm>
              <a:off x="420840" y="2924280"/>
              <a:ext cx="91116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20840" y="2924280"/>
              <a:ext cx="9111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30"/>
          <p:cNvSpPr/>
          <p:nvPr/>
        </p:nvSpPr>
        <p:spPr>
          <a:xfrm>
            <a:off x="420840" y="12762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HI THERE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1"/>
          <p:cNvSpPr/>
          <p:nvPr/>
        </p:nvSpPr>
        <p:spPr>
          <a:xfrm>
            <a:off x="420840" y="1960560"/>
            <a:ext cx="29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ADD TITLE</a:t>
            </a: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34"/>
          <p:cNvGrpSpPr/>
          <p:nvPr/>
        </p:nvGrpSpPr>
        <p:grpSpPr>
          <a:xfrm>
            <a:off x="3889440" y="1433520"/>
            <a:ext cx="428400" cy="606240"/>
            <a:chOff x="3889440" y="1433520"/>
            <a:chExt cx="428400" cy="606240"/>
          </a:xfrm>
        </p:grpSpPr>
        <p:sp>
          <p:nvSpPr>
            <p:cNvPr id="161" name="椭圆 32"/>
            <p:cNvSpPr/>
            <p:nvPr/>
          </p:nvSpPr>
          <p:spPr>
            <a:xfrm>
              <a:off x="3978000" y="1433520"/>
              <a:ext cx="250920" cy="25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流程图: 延期 33"/>
            <p:cNvSpPr/>
            <p:nvPr/>
          </p:nvSpPr>
          <p:spPr>
            <a:xfrm rot="16200000">
              <a:off x="3977640" y="1699560"/>
              <a:ext cx="252000" cy="42840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38"/>
          <p:cNvGrpSpPr/>
          <p:nvPr/>
        </p:nvGrpSpPr>
        <p:grpSpPr>
          <a:xfrm>
            <a:off x="5487480" y="1131480"/>
            <a:ext cx="1116720" cy="1125000"/>
            <a:chOff x="5487480" y="1131480"/>
            <a:chExt cx="1116720" cy="1125000"/>
          </a:xfrm>
        </p:grpSpPr>
        <p:sp>
          <p:nvSpPr>
            <p:cNvPr id="164" name="空心弧 35"/>
            <p:cNvSpPr/>
            <p:nvPr/>
          </p:nvSpPr>
          <p:spPr>
            <a:xfrm rot="9242400">
              <a:off x="5631120" y="1269720"/>
              <a:ext cx="829080" cy="84780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4358" y="10800"/>
                  </a:moveTo>
                  <a:cubicBezTo>
                    <a:pt x="4358" y="7242"/>
                    <a:pt x="7242" y="4358"/>
                    <a:pt x="10800" y="4358"/>
                  </a:cubicBezTo>
                  <a:cubicBezTo>
                    <a:pt x="14358" y="4358"/>
                    <a:pt x="17242" y="7242"/>
                    <a:pt x="17242" y="10800"/>
                  </a:cubicBezTo>
                  <a:lnTo>
                    <a:pt x="21600" y="10800"/>
                  </a:ln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36"/>
            <p:cNvSpPr/>
            <p:nvPr/>
          </p:nvSpPr>
          <p:spPr>
            <a:xfrm rot="9242400">
              <a:off x="6204240" y="1433520"/>
              <a:ext cx="285480" cy="12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37"/>
            <p:cNvSpPr/>
            <p:nvPr/>
          </p:nvSpPr>
          <p:spPr>
            <a:xfrm rot="9242400">
              <a:off x="5596200" y="1729440"/>
              <a:ext cx="285480" cy="12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39"/>
          <p:cNvSpPr/>
          <p:nvPr/>
        </p:nvSpPr>
        <p:spPr>
          <a:xfrm>
            <a:off x="3419640" y="239868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0"/>
          <p:cNvSpPr/>
          <p:nvPr/>
        </p:nvSpPr>
        <p:spPr>
          <a:xfrm>
            <a:off x="5400720" y="239868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1"/>
          <p:cNvSpPr/>
          <p:nvPr/>
        </p:nvSpPr>
        <p:spPr>
          <a:xfrm>
            <a:off x="7334280" y="239868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2"/>
          <p:cNvSpPr/>
          <p:nvPr/>
        </p:nvSpPr>
        <p:spPr>
          <a:xfrm>
            <a:off x="7334280" y="490392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3"/>
          <p:cNvSpPr/>
          <p:nvPr/>
        </p:nvSpPr>
        <p:spPr>
          <a:xfrm>
            <a:off x="5381640" y="490392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4"/>
          <p:cNvSpPr/>
          <p:nvPr/>
        </p:nvSpPr>
        <p:spPr>
          <a:xfrm>
            <a:off x="3419640" y="49039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5651640" y="692280"/>
            <a:ext cx="2592360" cy="1440"/>
            <a:chOff x="5651640" y="692280"/>
            <a:chExt cx="2592360" cy="1440"/>
          </a:xfrm>
        </p:grpSpPr>
        <p:sp>
          <p:nvSpPr>
            <p:cNvPr id="174" name="直接连接符 3"/>
            <p:cNvSpPr/>
            <p:nvPr/>
          </p:nvSpPr>
          <p:spPr>
            <a:xfrm>
              <a:off x="5651640" y="692280"/>
              <a:ext cx="259236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5651640" y="692280"/>
              <a:ext cx="2592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900000" y="692280"/>
            <a:ext cx="2592360" cy="1440"/>
            <a:chOff x="900000" y="692280"/>
            <a:chExt cx="2592360" cy="1440"/>
          </a:xfrm>
        </p:grpSpPr>
        <p:sp>
          <p:nvSpPr>
            <p:cNvPr id="177" name="直接连接符 6"/>
            <p:cNvSpPr/>
            <p:nvPr/>
          </p:nvSpPr>
          <p:spPr>
            <a:xfrm>
              <a:off x="900000" y="692280"/>
              <a:ext cx="259236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900000" y="692280"/>
              <a:ext cx="2592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7"/>
          <p:cNvSpPr/>
          <p:nvPr/>
        </p:nvSpPr>
        <p:spPr>
          <a:xfrm>
            <a:off x="3492360" y="404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I</a:t>
            </a: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</a:t>
            </a: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8"/>
          <p:cNvSpPr/>
          <p:nvPr/>
        </p:nvSpPr>
        <p:spPr>
          <a:xfrm>
            <a:off x="5292720" y="2421000"/>
            <a:ext cx="3527280" cy="2448000"/>
          </a:xfrm>
          <a:prstGeom prst="rect">
            <a:avLst/>
          </a:prstGeom>
          <a:solidFill>
            <a:srgbClr val="e1d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等腰三角形 9"/>
          <p:cNvSpPr/>
          <p:nvPr/>
        </p:nvSpPr>
        <p:spPr>
          <a:xfrm rot="16200000">
            <a:off x="3563640" y="3139920"/>
            <a:ext cx="2448000" cy="1009800"/>
          </a:xfrm>
          <a:prstGeom prst="triangle">
            <a:avLst>
              <a:gd name="adj" fmla="val 50000"/>
            </a:avLst>
          </a:prstGeom>
          <a:solidFill>
            <a:srgbClr val="e1d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10"/>
          <p:cNvSpPr/>
          <p:nvPr/>
        </p:nvSpPr>
        <p:spPr>
          <a:xfrm>
            <a:off x="4788000" y="342576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1"/>
          <p:cNvSpPr/>
          <p:nvPr/>
        </p:nvSpPr>
        <p:spPr>
          <a:xfrm>
            <a:off x="5634000" y="2629080"/>
            <a:ext cx="2970360" cy="20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2"/>
          <p:cNvSpPr/>
          <p:nvPr/>
        </p:nvSpPr>
        <p:spPr>
          <a:xfrm>
            <a:off x="6516720" y="4149720"/>
            <a:ext cx="1440000" cy="431640"/>
          </a:xfrm>
          <a:prstGeom prst="rect">
            <a:avLst/>
          </a:prstGeom>
          <a:solidFill>
            <a:srgbClr val="fabf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表 13" descr=""/>
          <p:cNvPicPr/>
          <p:nvPr/>
        </p:nvPicPr>
        <p:blipFill>
          <a:blip r:embed="rId1"/>
          <a:stretch/>
        </p:blipFill>
        <p:spPr>
          <a:xfrm>
            <a:off x="6108840" y="2770200"/>
            <a:ext cx="2255760" cy="1311120"/>
          </a:xfrm>
          <a:prstGeom prst="rect">
            <a:avLst/>
          </a:prstGeom>
          <a:ln w="0">
            <a:noFill/>
          </a:ln>
        </p:spPr>
      </p:pic>
      <p:grpSp>
        <p:nvGrpSpPr>
          <p:cNvPr id="186" name="组合 23"/>
          <p:cNvGrpSpPr/>
          <p:nvPr/>
        </p:nvGrpSpPr>
        <p:grpSpPr>
          <a:xfrm>
            <a:off x="539640" y="1917720"/>
            <a:ext cx="3168720" cy="287280"/>
            <a:chOff x="539640" y="1917720"/>
            <a:chExt cx="3168720" cy="287280"/>
          </a:xfrm>
        </p:grpSpPr>
        <p:sp>
          <p:nvSpPr>
            <p:cNvPr id="187" name="椭圆 14"/>
            <p:cNvSpPr/>
            <p:nvPr/>
          </p:nvSpPr>
          <p:spPr>
            <a:xfrm>
              <a:off x="53964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15"/>
            <p:cNvSpPr/>
            <p:nvPr/>
          </p:nvSpPr>
          <p:spPr>
            <a:xfrm>
              <a:off x="89964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16"/>
            <p:cNvSpPr/>
            <p:nvPr/>
          </p:nvSpPr>
          <p:spPr>
            <a:xfrm>
              <a:off x="125964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17"/>
            <p:cNvSpPr/>
            <p:nvPr/>
          </p:nvSpPr>
          <p:spPr>
            <a:xfrm>
              <a:off x="162000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18"/>
            <p:cNvSpPr/>
            <p:nvPr/>
          </p:nvSpPr>
          <p:spPr>
            <a:xfrm>
              <a:off x="198000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19"/>
            <p:cNvSpPr/>
            <p:nvPr/>
          </p:nvSpPr>
          <p:spPr>
            <a:xfrm>
              <a:off x="234000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20"/>
            <p:cNvSpPr/>
            <p:nvPr/>
          </p:nvSpPr>
          <p:spPr>
            <a:xfrm>
              <a:off x="270036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21"/>
            <p:cNvSpPr/>
            <p:nvPr/>
          </p:nvSpPr>
          <p:spPr>
            <a:xfrm>
              <a:off x="306036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椭圆 22"/>
            <p:cNvSpPr/>
            <p:nvPr/>
          </p:nvSpPr>
          <p:spPr>
            <a:xfrm>
              <a:off x="342036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24"/>
          <p:cNvGrpSpPr/>
          <p:nvPr/>
        </p:nvGrpSpPr>
        <p:grpSpPr>
          <a:xfrm>
            <a:off x="539640" y="2340000"/>
            <a:ext cx="3168720" cy="289080"/>
            <a:chOff x="539640" y="2340000"/>
            <a:chExt cx="3168720" cy="289080"/>
          </a:xfrm>
        </p:grpSpPr>
        <p:sp>
          <p:nvSpPr>
            <p:cNvPr id="197" name="椭圆 25"/>
            <p:cNvSpPr/>
            <p:nvPr/>
          </p:nvSpPr>
          <p:spPr>
            <a:xfrm>
              <a:off x="53964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26"/>
            <p:cNvSpPr/>
            <p:nvPr/>
          </p:nvSpPr>
          <p:spPr>
            <a:xfrm>
              <a:off x="89964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27"/>
            <p:cNvSpPr/>
            <p:nvPr/>
          </p:nvSpPr>
          <p:spPr>
            <a:xfrm>
              <a:off x="125964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椭圆 28"/>
            <p:cNvSpPr/>
            <p:nvPr/>
          </p:nvSpPr>
          <p:spPr>
            <a:xfrm>
              <a:off x="162000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椭圆 29"/>
            <p:cNvSpPr/>
            <p:nvPr/>
          </p:nvSpPr>
          <p:spPr>
            <a:xfrm>
              <a:off x="198000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 30"/>
            <p:cNvSpPr/>
            <p:nvPr/>
          </p:nvSpPr>
          <p:spPr>
            <a:xfrm>
              <a:off x="234000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椭圆 31"/>
            <p:cNvSpPr/>
            <p:nvPr/>
          </p:nvSpPr>
          <p:spPr>
            <a:xfrm>
              <a:off x="2700360" y="234000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椭圆 32"/>
            <p:cNvSpPr/>
            <p:nvPr/>
          </p:nvSpPr>
          <p:spPr>
            <a:xfrm>
              <a:off x="3060360" y="234000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33"/>
            <p:cNvSpPr/>
            <p:nvPr/>
          </p:nvSpPr>
          <p:spPr>
            <a:xfrm>
              <a:off x="3420360" y="234000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34"/>
          <p:cNvGrpSpPr/>
          <p:nvPr/>
        </p:nvGrpSpPr>
        <p:grpSpPr>
          <a:xfrm>
            <a:off x="539640" y="2708280"/>
            <a:ext cx="3168720" cy="289080"/>
            <a:chOff x="539640" y="2708280"/>
            <a:chExt cx="3168720" cy="289080"/>
          </a:xfrm>
        </p:grpSpPr>
        <p:sp>
          <p:nvSpPr>
            <p:cNvPr id="207" name="椭圆 35"/>
            <p:cNvSpPr/>
            <p:nvPr/>
          </p:nvSpPr>
          <p:spPr>
            <a:xfrm>
              <a:off x="53964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36"/>
            <p:cNvSpPr/>
            <p:nvPr/>
          </p:nvSpPr>
          <p:spPr>
            <a:xfrm>
              <a:off x="89964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37"/>
            <p:cNvSpPr/>
            <p:nvPr/>
          </p:nvSpPr>
          <p:spPr>
            <a:xfrm>
              <a:off x="125964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38"/>
            <p:cNvSpPr/>
            <p:nvPr/>
          </p:nvSpPr>
          <p:spPr>
            <a:xfrm>
              <a:off x="162000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椭圆 39"/>
            <p:cNvSpPr/>
            <p:nvPr/>
          </p:nvSpPr>
          <p:spPr>
            <a:xfrm>
              <a:off x="198000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40"/>
            <p:cNvSpPr/>
            <p:nvPr/>
          </p:nvSpPr>
          <p:spPr>
            <a:xfrm>
              <a:off x="234000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椭圆 41"/>
            <p:cNvSpPr/>
            <p:nvPr/>
          </p:nvSpPr>
          <p:spPr>
            <a:xfrm>
              <a:off x="270036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椭圆 42"/>
            <p:cNvSpPr/>
            <p:nvPr/>
          </p:nvSpPr>
          <p:spPr>
            <a:xfrm>
              <a:off x="306036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椭圆 43"/>
            <p:cNvSpPr/>
            <p:nvPr/>
          </p:nvSpPr>
          <p:spPr>
            <a:xfrm>
              <a:off x="342036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44"/>
          <p:cNvGrpSpPr/>
          <p:nvPr/>
        </p:nvGrpSpPr>
        <p:grpSpPr>
          <a:xfrm>
            <a:off x="539640" y="3137040"/>
            <a:ext cx="3168720" cy="288720"/>
            <a:chOff x="539640" y="3137040"/>
            <a:chExt cx="3168720" cy="288720"/>
          </a:xfrm>
        </p:grpSpPr>
        <p:sp>
          <p:nvSpPr>
            <p:cNvPr id="217" name="椭圆 45"/>
            <p:cNvSpPr/>
            <p:nvPr/>
          </p:nvSpPr>
          <p:spPr>
            <a:xfrm>
              <a:off x="539640" y="3137040"/>
              <a:ext cx="288000" cy="2887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椭圆 46"/>
            <p:cNvSpPr/>
            <p:nvPr/>
          </p:nvSpPr>
          <p:spPr>
            <a:xfrm>
              <a:off x="899640" y="3137040"/>
              <a:ext cx="288000" cy="2887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椭圆 47"/>
            <p:cNvSpPr/>
            <p:nvPr/>
          </p:nvSpPr>
          <p:spPr>
            <a:xfrm>
              <a:off x="1259640" y="3137040"/>
              <a:ext cx="288000" cy="2887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 48"/>
            <p:cNvSpPr/>
            <p:nvPr/>
          </p:nvSpPr>
          <p:spPr>
            <a:xfrm>
              <a:off x="1620000" y="3137040"/>
              <a:ext cx="288000" cy="2887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椭圆 49"/>
            <p:cNvSpPr/>
            <p:nvPr/>
          </p:nvSpPr>
          <p:spPr>
            <a:xfrm>
              <a:off x="1980000" y="3137040"/>
              <a:ext cx="288000" cy="2887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50"/>
            <p:cNvSpPr/>
            <p:nvPr/>
          </p:nvSpPr>
          <p:spPr>
            <a:xfrm>
              <a:off x="2340000" y="3137040"/>
              <a:ext cx="288000" cy="28872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51"/>
            <p:cNvSpPr/>
            <p:nvPr/>
          </p:nvSpPr>
          <p:spPr>
            <a:xfrm>
              <a:off x="2700360" y="3137040"/>
              <a:ext cx="288000" cy="28872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椭圆 52"/>
            <p:cNvSpPr/>
            <p:nvPr/>
          </p:nvSpPr>
          <p:spPr>
            <a:xfrm>
              <a:off x="3060360" y="3137040"/>
              <a:ext cx="288000" cy="28872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椭圆 53"/>
            <p:cNvSpPr/>
            <p:nvPr/>
          </p:nvSpPr>
          <p:spPr>
            <a:xfrm>
              <a:off x="3420360" y="3137040"/>
              <a:ext cx="288000" cy="28872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54"/>
          <p:cNvGrpSpPr/>
          <p:nvPr/>
        </p:nvGrpSpPr>
        <p:grpSpPr>
          <a:xfrm>
            <a:off x="539640" y="3500280"/>
            <a:ext cx="3168720" cy="289080"/>
            <a:chOff x="539640" y="3500280"/>
            <a:chExt cx="3168720" cy="289080"/>
          </a:xfrm>
        </p:grpSpPr>
        <p:sp>
          <p:nvSpPr>
            <p:cNvPr id="227" name="椭圆 55"/>
            <p:cNvSpPr/>
            <p:nvPr/>
          </p:nvSpPr>
          <p:spPr>
            <a:xfrm>
              <a:off x="53964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椭圆 56"/>
            <p:cNvSpPr/>
            <p:nvPr/>
          </p:nvSpPr>
          <p:spPr>
            <a:xfrm>
              <a:off x="89964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椭圆 57"/>
            <p:cNvSpPr/>
            <p:nvPr/>
          </p:nvSpPr>
          <p:spPr>
            <a:xfrm>
              <a:off x="125964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58"/>
            <p:cNvSpPr/>
            <p:nvPr/>
          </p:nvSpPr>
          <p:spPr>
            <a:xfrm>
              <a:off x="162000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59"/>
            <p:cNvSpPr/>
            <p:nvPr/>
          </p:nvSpPr>
          <p:spPr>
            <a:xfrm>
              <a:off x="198000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60"/>
            <p:cNvSpPr/>
            <p:nvPr/>
          </p:nvSpPr>
          <p:spPr>
            <a:xfrm>
              <a:off x="234000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61"/>
            <p:cNvSpPr/>
            <p:nvPr/>
          </p:nvSpPr>
          <p:spPr>
            <a:xfrm>
              <a:off x="270036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62"/>
            <p:cNvSpPr/>
            <p:nvPr/>
          </p:nvSpPr>
          <p:spPr>
            <a:xfrm>
              <a:off x="306036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63"/>
            <p:cNvSpPr/>
            <p:nvPr/>
          </p:nvSpPr>
          <p:spPr>
            <a:xfrm>
              <a:off x="342036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矩形 64"/>
          <p:cNvSpPr/>
          <p:nvPr/>
        </p:nvSpPr>
        <p:spPr>
          <a:xfrm>
            <a:off x="539640" y="4005360"/>
            <a:ext cx="863640" cy="360360"/>
          </a:xfrm>
          <a:prstGeom prst="rect">
            <a:avLst/>
          </a:prstGeom>
          <a:noFill/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65"/>
          <p:cNvSpPr/>
          <p:nvPr/>
        </p:nvSpPr>
        <p:spPr>
          <a:xfrm>
            <a:off x="622440" y="4076640"/>
            <a:ext cx="215640" cy="216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6"/>
          <p:cNvSpPr/>
          <p:nvPr/>
        </p:nvSpPr>
        <p:spPr>
          <a:xfrm>
            <a:off x="755640" y="40258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em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组合 73"/>
          <p:cNvGrpSpPr/>
          <p:nvPr/>
        </p:nvGrpSpPr>
        <p:grpSpPr>
          <a:xfrm>
            <a:off x="1619280" y="4005360"/>
            <a:ext cx="1009800" cy="360360"/>
            <a:chOff x="1619280" y="4005360"/>
            <a:chExt cx="1009800" cy="360360"/>
          </a:xfrm>
        </p:grpSpPr>
        <p:sp>
          <p:nvSpPr>
            <p:cNvPr id="240" name="矩形 67"/>
            <p:cNvSpPr/>
            <p:nvPr/>
          </p:nvSpPr>
          <p:spPr>
            <a:xfrm>
              <a:off x="1619280" y="4005360"/>
              <a:ext cx="86580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68"/>
            <p:cNvSpPr/>
            <p:nvPr/>
          </p:nvSpPr>
          <p:spPr>
            <a:xfrm>
              <a:off x="1702080" y="4077360"/>
              <a:ext cx="216360" cy="2163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69"/>
            <p:cNvSpPr/>
            <p:nvPr/>
          </p:nvSpPr>
          <p:spPr>
            <a:xfrm>
              <a:off x="1835640" y="4026600"/>
              <a:ext cx="79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tem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70"/>
          <p:cNvSpPr/>
          <p:nvPr/>
        </p:nvSpPr>
        <p:spPr>
          <a:xfrm>
            <a:off x="2700360" y="4005360"/>
            <a:ext cx="863640" cy="360360"/>
          </a:xfrm>
          <a:prstGeom prst="rect">
            <a:avLst/>
          </a:prstGeom>
          <a:noFill/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71"/>
          <p:cNvSpPr/>
          <p:nvPr/>
        </p:nvSpPr>
        <p:spPr>
          <a:xfrm>
            <a:off x="2782800" y="4076640"/>
            <a:ext cx="216000" cy="216000"/>
          </a:xfrm>
          <a:prstGeom prst="rect">
            <a:avLst/>
          </a:prstGeom>
          <a:solidFill>
            <a:srgbClr val="e1d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72"/>
          <p:cNvSpPr/>
          <p:nvPr/>
        </p:nvSpPr>
        <p:spPr>
          <a:xfrm>
            <a:off x="2916360" y="40258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em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74"/>
          <p:cNvSpPr/>
          <p:nvPr/>
        </p:nvSpPr>
        <p:spPr>
          <a:xfrm>
            <a:off x="539640" y="4878360"/>
            <a:ext cx="3168720" cy="360360"/>
          </a:xfrm>
          <a:prstGeom prst="rect">
            <a:avLst/>
          </a:prstGeom>
          <a:noFill/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75"/>
          <p:cNvSpPr/>
          <p:nvPr/>
        </p:nvSpPr>
        <p:spPr>
          <a:xfrm>
            <a:off x="1390680" y="487368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组合 19"/>
          <p:cNvGrpSpPr/>
          <p:nvPr/>
        </p:nvGrpSpPr>
        <p:grpSpPr>
          <a:xfrm>
            <a:off x="333000" y="339840"/>
            <a:ext cx="701640" cy="699480"/>
            <a:chOff x="333000" y="339840"/>
            <a:chExt cx="701640" cy="699480"/>
          </a:xfrm>
        </p:grpSpPr>
        <p:sp>
          <p:nvSpPr>
            <p:cNvPr id="249" name="椭圆 3"/>
            <p:cNvSpPr/>
            <p:nvPr/>
          </p:nvSpPr>
          <p:spPr>
            <a:xfrm>
              <a:off x="378360" y="339840"/>
              <a:ext cx="245160" cy="233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87880" y="524880"/>
              <a:ext cx="342360" cy="267480"/>
              <a:chOff x="587880" y="524880"/>
              <a:chExt cx="342360" cy="267480"/>
            </a:xfrm>
          </p:grpSpPr>
          <p:sp>
            <p:nvSpPr>
              <p:cNvPr id="251" name="直接连接符 5"/>
              <p:cNvSpPr/>
              <p:nvPr/>
            </p:nvSpPr>
            <p:spPr>
              <a:xfrm>
                <a:off x="587880" y="524880"/>
                <a:ext cx="342360" cy="267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 txBox="1"/>
              <p:nvPr/>
            </p:nvSpPr>
            <p:spPr>
              <a:xfrm>
                <a:off x="587880" y="524880"/>
                <a:ext cx="342360" cy="267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00760" y="397800"/>
              <a:ext cx="342720" cy="387720"/>
              <a:chOff x="500760" y="397800"/>
              <a:chExt cx="342720" cy="387720"/>
            </a:xfrm>
          </p:grpSpPr>
          <p:sp>
            <p:nvSpPr>
              <p:cNvPr id="254" name="直接连接符 6"/>
              <p:cNvSpPr/>
              <p:nvPr/>
            </p:nvSpPr>
            <p:spPr>
              <a:xfrm flipV="1">
                <a:off x="501120" y="397800"/>
                <a:ext cx="342360" cy="387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 txBox="1"/>
              <p:nvPr/>
            </p:nvSpPr>
            <p:spPr>
              <a:xfrm rot="10800000">
                <a:off x="500760" y="397800"/>
                <a:ext cx="342360" cy="387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825480" y="396720"/>
              <a:ext cx="209160" cy="168120"/>
              <a:chOff x="825480" y="396720"/>
              <a:chExt cx="209160" cy="168120"/>
            </a:xfrm>
          </p:grpSpPr>
          <p:sp>
            <p:nvSpPr>
              <p:cNvPr id="257" name="直接连接符 8"/>
              <p:cNvSpPr/>
              <p:nvPr/>
            </p:nvSpPr>
            <p:spPr>
              <a:xfrm flipH="1" flipV="1">
                <a:off x="825480" y="396720"/>
                <a:ext cx="209160" cy="168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 rot="10800000">
                <a:off x="825480" y="396720"/>
                <a:ext cx="209160" cy="168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33000" y="610200"/>
              <a:ext cx="209160" cy="161640"/>
              <a:chOff x="333000" y="610200"/>
              <a:chExt cx="209160" cy="161640"/>
            </a:xfrm>
          </p:grpSpPr>
          <p:sp>
            <p:nvSpPr>
              <p:cNvPr id="260" name="直接连接符 11"/>
              <p:cNvSpPr/>
              <p:nvPr/>
            </p:nvSpPr>
            <p:spPr>
              <a:xfrm flipH="1" flipV="1">
                <a:off x="333000" y="610200"/>
                <a:ext cx="209160" cy="16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 rot="10800000">
                <a:off x="333000" y="610200"/>
                <a:ext cx="209160" cy="16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758880" y="771840"/>
              <a:ext cx="148320" cy="267480"/>
              <a:chOff x="758880" y="771840"/>
              <a:chExt cx="148320" cy="267480"/>
            </a:xfrm>
          </p:grpSpPr>
          <p:sp>
            <p:nvSpPr>
              <p:cNvPr id="263" name="直接连接符 13"/>
              <p:cNvSpPr/>
              <p:nvPr/>
            </p:nvSpPr>
            <p:spPr>
              <a:xfrm flipV="1">
                <a:off x="759240" y="771840"/>
                <a:ext cx="147960" cy="267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 rot="10800000">
                <a:off x="758880" y="771840"/>
                <a:ext cx="147960" cy="267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44840" y="1026360"/>
              <a:ext cx="275760" cy="360"/>
              <a:chOff x="744840" y="1026360"/>
              <a:chExt cx="275760" cy="360"/>
            </a:xfrm>
          </p:grpSpPr>
          <p:sp>
            <p:nvSpPr>
              <p:cNvPr id="266" name="直接连接符 15"/>
              <p:cNvSpPr/>
              <p:nvPr/>
            </p:nvSpPr>
            <p:spPr>
              <a:xfrm>
                <a:off x="744840" y="1026360"/>
                <a:ext cx="275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744840" y="1026360"/>
                <a:ext cx="27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TextBox 20"/>
          <p:cNvSpPr/>
          <p:nvPr/>
        </p:nvSpPr>
        <p:spPr>
          <a:xfrm>
            <a:off x="942840" y="525600"/>
            <a:ext cx="30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A 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BRI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1"/>
          <p:cNvSpPr/>
          <p:nvPr/>
        </p:nvSpPr>
        <p:spPr>
          <a:xfrm>
            <a:off x="942840" y="11271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035000" y="1711440"/>
            <a:ext cx="911160" cy="1440"/>
            <a:chOff x="1035000" y="1711440"/>
            <a:chExt cx="911160" cy="1440"/>
          </a:xfrm>
        </p:grpSpPr>
        <p:sp>
          <p:nvSpPr>
            <p:cNvPr id="271" name="直接连接符 22"/>
            <p:cNvSpPr/>
            <p:nvPr/>
          </p:nvSpPr>
          <p:spPr>
            <a:xfrm>
              <a:off x="1035000" y="1711440"/>
              <a:ext cx="91116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1035000" y="1711440"/>
              <a:ext cx="9111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Box 23"/>
          <p:cNvSpPr/>
          <p:nvPr/>
        </p:nvSpPr>
        <p:spPr>
          <a:xfrm>
            <a:off x="4156200" y="198900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Calibri"/>
                <a:ea typeface="Calibri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4"/>
          <p:cNvSpPr/>
          <p:nvPr/>
        </p:nvSpPr>
        <p:spPr>
          <a:xfrm>
            <a:off x="4660920" y="227664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5"/>
          <p:cNvSpPr/>
          <p:nvPr/>
        </p:nvSpPr>
        <p:spPr>
          <a:xfrm>
            <a:off x="5705640" y="198900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Calibri"/>
                <a:ea typeface="Calibri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29"/>
          <p:cNvGrpSpPr/>
          <p:nvPr/>
        </p:nvGrpSpPr>
        <p:grpSpPr>
          <a:xfrm>
            <a:off x="6661080" y="1700280"/>
            <a:ext cx="2016360" cy="2016000"/>
            <a:chOff x="6661080" y="1700280"/>
            <a:chExt cx="2016360" cy="2016000"/>
          </a:xfrm>
        </p:grpSpPr>
        <p:sp>
          <p:nvSpPr>
            <p:cNvPr id="277" name="椭圆 26"/>
            <p:cNvSpPr/>
            <p:nvPr/>
          </p:nvSpPr>
          <p:spPr>
            <a:xfrm>
              <a:off x="6661080" y="1700280"/>
              <a:ext cx="2016360" cy="2016000"/>
            </a:xfrm>
            <a:prstGeom prst="ellipse">
              <a:avLst/>
            </a:prstGeom>
            <a:noFill/>
            <a:ln w="25560">
              <a:solidFill>
                <a:srgbClr val="e1daa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圆角矩形 27"/>
            <p:cNvSpPr/>
            <p:nvPr/>
          </p:nvSpPr>
          <p:spPr>
            <a:xfrm>
              <a:off x="7165080" y="2931480"/>
              <a:ext cx="1080360" cy="720000"/>
            </a:xfrm>
            <a:prstGeom prst="roundRect">
              <a:avLst>
                <a:gd name="adj" fmla="val 16667"/>
              </a:avLst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28"/>
            <p:cNvSpPr/>
            <p:nvPr/>
          </p:nvSpPr>
          <p:spPr>
            <a:xfrm>
              <a:off x="7417080" y="2313720"/>
              <a:ext cx="504000" cy="43632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30"/>
          <p:cNvGrpSpPr/>
          <p:nvPr/>
        </p:nvGrpSpPr>
        <p:grpSpPr>
          <a:xfrm>
            <a:off x="758880" y="3214800"/>
            <a:ext cx="1874880" cy="1217520"/>
            <a:chOff x="758880" y="3214800"/>
            <a:chExt cx="1874880" cy="1217520"/>
          </a:xfrm>
        </p:grpSpPr>
        <p:sp>
          <p:nvSpPr>
            <p:cNvPr id="281" name="梯形 31"/>
            <p:cNvSpPr/>
            <p:nvPr/>
          </p:nvSpPr>
          <p:spPr>
            <a:xfrm>
              <a:off x="758880" y="4277880"/>
              <a:ext cx="1874880" cy="15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378" y="21600"/>
                  </a:lnTo>
                  <a:lnTo>
                    <a:pt x="21222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组合 32"/>
            <p:cNvGrpSpPr/>
            <p:nvPr/>
          </p:nvGrpSpPr>
          <p:grpSpPr>
            <a:xfrm>
              <a:off x="883080" y="3214800"/>
              <a:ext cx="1626120" cy="1063080"/>
              <a:chOff x="883080" y="3214800"/>
              <a:chExt cx="1626120" cy="1063080"/>
            </a:xfrm>
          </p:grpSpPr>
          <p:sp>
            <p:nvSpPr>
              <p:cNvPr id="283" name="圆角矩形 34"/>
              <p:cNvSpPr/>
              <p:nvPr/>
            </p:nvSpPr>
            <p:spPr>
              <a:xfrm>
                <a:off x="883080" y="3214800"/>
                <a:ext cx="1626120" cy="1063080"/>
              </a:xfrm>
              <a:prstGeom prst="roundRect">
                <a:avLst>
                  <a:gd name="adj" fmla="val 16667"/>
                </a:avLst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矩形 35"/>
              <p:cNvSpPr/>
              <p:nvPr/>
            </p:nvSpPr>
            <p:spPr>
              <a:xfrm>
                <a:off x="973440" y="3321000"/>
                <a:ext cx="1445400" cy="85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圆角矩形 33"/>
            <p:cNvSpPr/>
            <p:nvPr/>
          </p:nvSpPr>
          <p:spPr>
            <a:xfrm>
              <a:off x="1572120" y="4201560"/>
              <a:ext cx="248040" cy="450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Box 36"/>
          <p:cNvSpPr/>
          <p:nvPr/>
        </p:nvSpPr>
        <p:spPr>
          <a:xfrm>
            <a:off x="1017720" y="3606840"/>
            <a:ext cx="15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FOE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37"/>
          <p:cNvSpPr/>
          <p:nvPr/>
        </p:nvSpPr>
        <p:spPr>
          <a:xfrm>
            <a:off x="4660920" y="429912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741F-AF21-4A54-9AAF-0066D6E8E70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直角三角形 3"/>
          <p:cNvSpPr/>
          <p:nvPr/>
        </p:nvSpPr>
        <p:spPr>
          <a:xfrm flipH="1">
            <a:off x="0" y="0"/>
            <a:ext cx="9129600" cy="6858000"/>
          </a:xfrm>
          <a:prstGeom prst="rtTriangl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539640" y="69228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ART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5148360" y="430524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主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3"/>
          <p:cNvSpPr/>
          <p:nvPr/>
        </p:nvSpPr>
        <p:spPr>
          <a:xfrm>
            <a:off x="0" y="-11160"/>
            <a:ext cx="9144000" cy="920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2195640" y="2276640"/>
            <a:ext cx="143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82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5"/>
          <p:cNvSpPr/>
          <p:nvPr/>
        </p:nvSpPr>
        <p:spPr>
          <a:xfrm>
            <a:off x="3627360" y="2486160"/>
            <a:ext cx="5408640" cy="504720"/>
          </a:xfrm>
          <a:prstGeom prst="rect">
            <a:avLst/>
          </a:prstGeom>
          <a:noFill/>
          <a:ln w="25560">
            <a:solidFill>
              <a:srgbClr val="26262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6"/>
          <p:cNvSpPr/>
          <p:nvPr/>
        </p:nvSpPr>
        <p:spPr>
          <a:xfrm>
            <a:off x="3627360" y="2486160"/>
            <a:ext cx="3969000" cy="5047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195640" y="3573360"/>
            <a:ext cx="143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alibri"/>
                <a:ea typeface="Calibri"/>
              </a:rPr>
              <a:t>58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8"/>
          <p:cNvSpPr/>
          <p:nvPr/>
        </p:nvSpPr>
        <p:spPr>
          <a:xfrm>
            <a:off x="3627360" y="3782880"/>
            <a:ext cx="5408640" cy="503280"/>
          </a:xfrm>
          <a:prstGeom prst="rect">
            <a:avLst/>
          </a:prstGeom>
          <a:noFill/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3627360" y="3782880"/>
            <a:ext cx="2887920" cy="503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0"/>
          <p:cNvSpPr/>
          <p:nvPr/>
        </p:nvSpPr>
        <p:spPr>
          <a:xfrm>
            <a:off x="34920" y="2637000"/>
            <a:ext cx="23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流程图: 手动操作 3"/>
          <p:cNvSpPr/>
          <p:nvPr/>
        </p:nvSpPr>
        <p:spPr>
          <a:xfrm flipV="1">
            <a:off x="0" y="0"/>
            <a:ext cx="5508720" cy="68580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8000" y="10000"/>
                </a:lnTo>
                <a:lnTo>
                  <a:pt x="10" y="10000"/>
                </a:lnTo>
                <a:cubicBezTo>
                  <a:pt x="7" y="6667"/>
                  <a:pt x="3" y="3333"/>
                  <a:pt x="0" y="0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"/>
          <p:cNvSpPr/>
          <p:nvPr/>
        </p:nvSpPr>
        <p:spPr>
          <a:xfrm>
            <a:off x="3060720" y="2637000"/>
            <a:ext cx="367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ART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5"/>
          <p:cNvSpPr/>
          <p:nvPr/>
        </p:nvSpPr>
        <p:spPr>
          <a:xfrm>
            <a:off x="5796000" y="4365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主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14"/>
          <p:cNvGrpSpPr/>
          <p:nvPr/>
        </p:nvGrpSpPr>
        <p:grpSpPr>
          <a:xfrm>
            <a:off x="752760" y="5229000"/>
            <a:ext cx="538560" cy="811440"/>
            <a:chOff x="752760" y="5229000"/>
            <a:chExt cx="538560" cy="811440"/>
          </a:xfrm>
        </p:grpSpPr>
        <p:grpSp>
          <p:nvGrpSpPr>
            <p:cNvPr id="304" name="组合 15"/>
            <p:cNvGrpSpPr/>
            <p:nvPr/>
          </p:nvGrpSpPr>
          <p:grpSpPr>
            <a:xfrm>
              <a:off x="752760" y="5229000"/>
              <a:ext cx="538560" cy="595800"/>
              <a:chOff x="752760" y="5229000"/>
              <a:chExt cx="538560" cy="595800"/>
            </a:xfrm>
          </p:grpSpPr>
          <p:sp>
            <p:nvSpPr>
              <p:cNvPr id="305" name="梯形 19"/>
              <p:cNvSpPr/>
              <p:nvPr/>
            </p:nvSpPr>
            <p:spPr>
              <a:xfrm rot="3175200">
                <a:off x="751320" y="5429160"/>
                <a:ext cx="498960" cy="24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矩形 20"/>
              <p:cNvSpPr/>
              <p:nvPr/>
            </p:nvSpPr>
            <p:spPr>
              <a:xfrm rot="3220200">
                <a:off x="876240" y="5422320"/>
                <a:ext cx="500760" cy="40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矩形 16"/>
            <p:cNvSpPr/>
            <p:nvPr/>
          </p:nvSpPr>
          <p:spPr>
            <a:xfrm>
              <a:off x="1005480" y="5663880"/>
              <a:ext cx="45720" cy="29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7"/>
            <p:cNvSpPr/>
            <p:nvPr/>
          </p:nvSpPr>
          <p:spPr>
            <a:xfrm rot="5400000">
              <a:off x="990360" y="5749920"/>
              <a:ext cx="74880" cy="34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8"/>
            <p:cNvSpPr/>
            <p:nvPr/>
          </p:nvSpPr>
          <p:spPr>
            <a:xfrm rot="5400000">
              <a:off x="991080" y="5740920"/>
              <a:ext cx="74880" cy="524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矩形 24"/>
          <p:cNvSpPr/>
          <p:nvPr/>
        </p:nvSpPr>
        <p:spPr>
          <a:xfrm rot="19566000">
            <a:off x="88920" y="1631520"/>
            <a:ext cx="9575640" cy="1395360"/>
          </a:xfrm>
          <a:custGeom>
            <a:avLst/>
            <a:gdLst/>
            <a:ahLst/>
            <a:rect l="l" t="t" r="r" b="b"/>
            <a:pathLst>
              <a:path w="9509923" h="1556211">
                <a:moveTo>
                  <a:pt x="0" y="1051967"/>
                </a:moveTo>
                <a:lnTo>
                  <a:pt x="7883522" y="0"/>
                </a:lnTo>
                <a:lnTo>
                  <a:pt x="9509923" y="1256066"/>
                </a:lnTo>
                <a:lnTo>
                  <a:pt x="0" y="1556211"/>
                </a:lnTo>
                <a:lnTo>
                  <a:pt x="0" y="1051967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矩形 3"/>
          <p:cNvSpPr/>
          <p:nvPr/>
        </p:nvSpPr>
        <p:spPr>
          <a:xfrm>
            <a:off x="1116000" y="404640"/>
            <a:ext cx="6912000" cy="9352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 ADD TITLE 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35"/>
          <p:cNvGrpSpPr/>
          <p:nvPr/>
        </p:nvGrpSpPr>
        <p:grpSpPr>
          <a:xfrm>
            <a:off x="1393920" y="1844640"/>
            <a:ext cx="6638760" cy="3340080"/>
            <a:chOff x="1393920" y="1844640"/>
            <a:chExt cx="6638760" cy="3340080"/>
          </a:xfrm>
        </p:grpSpPr>
        <p:grpSp>
          <p:nvGrpSpPr>
            <p:cNvPr id="313" name="组合 27"/>
            <p:cNvGrpSpPr/>
            <p:nvPr/>
          </p:nvGrpSpPr>
          <p:grpSpPr>
            <a:xfrm>
              <a:off x="1393920" y="1844640"/>
              <a:ext cx="6638760" cy="2084400"/>
              <a:chOff x="1393920" y="1844640"/>
              <a:chExt cx="6638760" cy="2084400"/>
            </a:xfrm>
          </p:grpSpPr>
          <p:grpSp>
            <p:nvGrpSpPr>
              <p:cNvPr id="314" name="组合 16"/>
              <p:cNvGrpSpPr/>
              <p:nvPr/>
            </p:nvGrpSpPr>
            <p:grpSpPr>
              <a:xfrm>
                <a:off x="1393920" y="1844640"/>
                <a:ext cx="6638760" cy="1476000"/>
                <a:chOff x="1393920" y="1844640"/>
                <a:chExt cx="6638760" cy="1476000"/>
              </a:xfrm>
            </p:grpSpPr>
            <p:sp>
              <p:nvSpPr>
                <p:cNvPr id="315" name="椭圆 4"/>
                <p:cNvSpPr/>
                <p:nvPr/>
              </p:nvSpPr>
              <p:spPr>
                <a:xfrm>
                  <a:off x="1393920" y="1844640"/>
                  <a:ext cx="216000" cy="216000"/>
                </a:xfrm>
                <a:prstGeom prst="ellipse">
                  <a:avLst/>
                </a:prstGeom>
                <a:noFill/>
                <a:ln w="25560">
                  <a:solidFill>
                    <a:srgbClr val="262626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1568520" y="2052000"/>
                  <a:ext cx="1980000" cy="1160640"/>
                  <a:chOff x="1568520" y="2052000"/>
                  <a:chExt cx="1980000" cy="1160640"/>
                </a:xfrm>
              </p:grpSpPr>
              <p:sp>
                <p:nvSpPr>
                  <p:cNvPr id="317" name="直接连接符 6"/>
                  <p:cNvSpPr/>
                  <p:nvPr/>
                </p:nvSpPr>
                <p:spPr>
                  <a:xfrm>
                    <a:off x="1568520" y="2052000"/>
                    <a:ext cx="1980000" cy="116064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 txBox="1"/>
                  <p:nvPr/>
                </p:nvSpPr>
                <p:spPr>
                  <a:xfrm>
                    <a:off x="1568520" y="2052000"/>
                    <a:ext cx="1980000" cy="116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9" name="椭圆 8"/>
                <p:cNvSpPr/>
                <p:nvPr/>
              </p:nvSpPr>
              <p:spPr>
                <a:xfrm>
                  <a:off x="3440880" y="3104640"/>
                  <a:ext cx="216000" cy="216000"/>
                </a:xfrm>
                <a:prstGeom prst="ellipse">
                  <a:avLst/>
                </a:prstGeom>
                <a:noFill/>
                <a:ln w="25560">
                  <a:solidFill>
                    <a:srgbClr val="262626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3548880" y="2348640"/>
                  <a:ext cx="2102400" cy="864000"/>
                  <a:chOff x="3548880" y="2348640"/>
                  <a:chExt cx="2102400" cy="864000"/>
                </a:xfrm>
              </p:grpSpPr>
              <p:sp>
                <p:nvSpPr>
                  <p:cNvPr id="321" name="直接连接符 9"/>
                  <p:cNvSpPr/>
                  <p:nvPr/>
                </p:nvSpPr>
                <p:spPr>
                  <a:xfrm flipV="1">
                    <a:off x="3548880" y="2348640"/>
                    <a:ext cx="2102400" cy="86400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 txBox="1"/>
                  <p:nvPr/>
                </p:nvSpPr>
                <p:spPr>
                  <a:xfrm rot="10800000">
                    <a:off x="3548880" y="2348640"/>
                    <a:ext cx="2102400" cy="864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椭圆 12"/>
                <p:cNvSpPr/>
                <p:nvPr/>
              </p:nvSpPr>
              <p:spPr>
                <a:xfrm>
                  <a:off x="5543640" y="2240640"/>
                  <a:ext cx="216000" cy="216000"/>
                </a:xfrm>
                <a:prstGeom prst="ellipse">
                  <a:avLst/>
                </a:prstGeom>
                <a:noFill/>
                <a:ln w="25560">
                  <a:solidFill>
                    <a:srgbClr val="262626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"/>
                <p:cNvGrpSpPr/>
                <p:nvPr/>
              </p:nvGrpSpPr>
              <p:grpSpPr>
                <a:xfrm>
                  <a:off x="5651640" y="2348640"/>
                  <a:ext cx="2232000" cy="756000"/>
                  <a:chOff x="5651640" y="2348640"/>
                  <a:chExt cx="2232000" cy="756000"/>
                </a:xfrm>
              </p:grpSpPr>
              <p:sp>
                <p:nvSpPr>
                  <p:cNvPr id="325" name="直接连接符 13"/>
                  <p:cNvSpPr/>
                  <p:nvPr/>
                </p:nvSpPr>
                <p:spPr>
                  <a:xfrm>
                    <a:off x="5651640" y="2348640"/>
                    <a:ext cx="2232000" cy="75600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 txBox="1"/>
                  <p:nvPr/>
                </p:nvSpPr>
                <p:spPr>
                  <a:xfrm>
                    <a:off x="5651640" y="2348640"/>
                    <a:ext cx="2232000" cy="75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7" name="椭圆 15"/>
                <p:cNvSpPr/>
                <p:nvPr/>
              </p:nvSpPr>
              <p:spPr>
                <a:xfrm>
                  <a:off x="7816680" y="3013200"/>
                  <a:ext cx="216000" cy="216000"/>
                </a:xfrm>
                <a:prstGeom prst="ellipse">
                  <a:avLst/>
                </a:prstGeom>
                <a:noFill/>
                <a:ln w="25560">
                  <a:solidFill>
                    <a:srgbClr val="262626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椭圆 18"/>
              <p:cNvSpPr/>
              <p:nvPr/>
            </p:nvSpPr>
            <p:spPr>
              <a:xfrm>
                <a:off x="1393920" y="2216160"/>
                <a:ext cx="216000" cy="216000"/>
              </a:xfrm>
              <a:prstGeom prst="ellipse">
                <a:avLst/>
              </a:prstGeom>
              <a:noFill/>
              <a:ln w="255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1568520" y="2423520"/>
                <a:ext cx="1980000" cy="1397520"/>
                <a:chOff x="1568520" y="2423520"/>
                <a:chExt cx="1980000" cy="1397520"/>
              </a:xfrm>
            </p:grpSpPr>
            <p:sp>
              <p:nvSpPr>
                <p:cNvPr id="330" name="直接连接符 19"/>
                <p:cNvSpPr/>
                <p:nvPr/>
              </p:nvSpPr>
              <p:spPr>
                <a:xfrm>
                  <a:off x="1568520" y="2423520"/>
                  <a:ext cx="1980000" cy="1397520"/>
                </a:xfrm>
                <a:prstGeom prst="line">
                  <a:avLst/>
                </a:prstGeom>
                <a:ln w="936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 txBox="1"/>
                <p:nvPr/>
              </p:nvSpPr>
              <p:spPr>
                <a:xfrm>
                  <a:off x="1568520" y="2423520"/>
                  <a:ext cx="1980000" cy="139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椭圆 20"/>
              <p:cNvSpPr/>
              <p:nvPr/>
            </p:nvSpPr>
            <p:spPr>
              <a:xfrm>
                <a:off x="3440880" y="3713040"/>
                <a:ext cx="216000" cy="216000"/>
              </a:xfrm>
              <a:prstGeom prst="ellipse">
                <a:avLst/>
              </a:prstGeom>
              <a:noFill/>
              <a:ln w="255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3548880" y="2720160"/>
                <a:ext cx="2102400" cy="1100880"/>
                <a:chOff x="3548880" y="2720160"/>
                <a:chExt cx="2102400" cy="1100880"/>
              </a:xfrm>
            </p:grpSpPr>
            <p:sp>
              <p:nvSpPr>
                <p:cNvPr id="334" name="直接连接符 21"/>
                <p:cNvSpPr/>
                <p:nvPr/>
              </p:nvSpPr>
              <p:spPr>
                <a:xfrm flipV="1">
                  <a:off x="3548880" y="2720160"/>
                  <a:ext cx="2102400" cy="1100880"/>
                </a:xfrm>
                <a:prstGeom prst="line">
                  <a:avLst/>
                </a:prstGeom>
                <a:ln w="936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 txBox="1"/>
                <p:nvPr/>
              </p:nvSpPr>
              <p:spPr>
                <a:xfrm rot="10800000">
                  <a:off x="3548880" y="2720160"/>
                  <a:ext cx="2102400" cy="110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椭圆 22"/>
              <p:cNvSpPr/>
              <p:nvPr/>
            </p:nvSpPr>
            <p:spPr>
              <a:xfrm>
                <a:off x="5543640" y="2612160"/>
                <a:ext cx="216000" cy="216000"/>
              </a:xfrm>
              <a:prstGeom prst="ellipse">
                <a:avLst/>
              </a:prstGeom>
              <a:noFill/>
              <a:ln w="255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5651640" y="2720160"/>
                <a:ext cx="2232000" cy="756000"/>
                <a:chOff x="5651640" y="2720160"/>
                <a:chExt cx="2232000" cy="756000"/>
              </a:xfrm>
            </p:grpSpPr>
            <p:sp>
              <p:nvSpPr>
                <p:cNvPr id="338" name="直接连接符 23"/>
                <p:cNvSpPr/>
                <p:nvPr/>
              </p:nvSpPr>
              <p:spPr>
                <a:xfrm>
                  <a:off x="5651640" y="2720160"/>
                  <a:ext cx="2232000" cy="756000"/>
                </a:xfrm>
                <a:prstGeom prst="line">
                  <a:avLst/>
                </a:prstGeom>
                <a:ln w="936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 txBox="1"/>
                <p:nvPr/>
              </p:nvSpPr>
              <p:spPr>
                <a:xfrm>
                  <a:off x="5651640" y="2720160"/>
                  <a:ext cx="2232000" cy="75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" name="椭圆 24"/>
              <p:cNvSpPr/>
              <p:nvPr/>
            </p:nvSpPr>
            <p:spPr>
              <a:xfrm>
                <a:off x="7816680" y="3385080"/>
                <a:ext cx="216000" cy="216000"/>
              </a:xfrm>
              <a:prstGeom prst="ellipse">
                <a:avLst/>
              </a:prstGeom>
              <a:noFill/>
              <a:ln w="255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3548880" y="3324600"/>
              <a:ext cx="360" cy="388080"/>
              <a:chOff x="3548880" y="3324600"/>
              <a:chExt cx="360" cy="388080"/>
            </a:xfrm>
          </p:grpSpPr>
          <p:sp>
            <p:nvSpPr>
              <p:cNvPr id="342" name="直接连接符 29"/>
              <p:cNvSpPr/>
              <p:nvPr/>
            </p:nvSpPr>
            <p:spPr>
              <a:xfrm>
                <a:off x="3548880" y="3324600"/>
                <a:ext cx="0" cy="388080"/>
              </a:xfrm>
              <a:prstGeom prst="line">
                <a:avLst/>
              </a:prstGeom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>
                <a:off x="3548880" y="3324600"/>
                <a:ext cx="360" cy="38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651640" y="2438280"/>
              <a:ext cx="360" cy="173880"/>
              <a:chOff x="5651640" y="2438280"/>
              <a:chExt cx="360" cy="173880"/>
            </a:xfrm>
          </p:grpSpPr>
          <p:sp>
            <p:nvSpPr>
              <p:cNvPr id="345" name="直接连接符 31"/>
              <p:cNvSpPr/>
              <p:nvPr/>
            </p:nvSpPr>
            <p:spPr>
              <a:xfrm>
                <a:off x="5651640" y="2438280"/>
                <a:ext cx="0" cy="173880"/>
              </a:xfrm>
              <a:prstGeom prst="line">
                <a:avLst/>
              </a:prstGeom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 txBox="1"/>
              <p:nvPr/>
            </p:nvSpPr>
            <p:spPr>
              <a:xfrm>
                <a:off x="5651640" y="2438280"/>
                <a:ext cx="360" cy="17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30440" y="3198960"/>
              <a:ext cx="360" cy="173880"/>
              <a:chOff x="7930440" y="3198960"/>
              <a:chExt cx="360" cy="173880"/>
            </a:xfrm>
          </p:grpSpPr>
          <p:sp>
            <p:nvSpPr>
              <p:cNvPr id="348" name="直接连接符 33"/>
              <p:cNvSpPr/>
              <p:nvPr/>
            </p:nvSpPr>
            <p:spPr>
              <a:xfrm>
                <a:off x="7930440" y="3198960"/>
                <a:ext cx="0" cy="173880"/>
              </a:xfrm>
              <a:prstGeom prst="line">
                <a:avLst/>
              </a:prstGeom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 txBox="1"/>
              <p:nvPr/>
            </p:nvSpPr>
            <p:spPr>
              <a:xfrm>
                <a:off x="7930440" y="3198960"/>
                <a:ext cx="360" cy="17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1501920" y="2066400"/>
              <a:ext cx="360" cy="173880"/>
              <a:chOff x="1501920" y="2066400"/>
              <a:chExt cx="360" cy="173880"/>
            </a:xfrm>
          </p:grpSpPr>
          <p:sp>
            <p:nvSpPr>
              <p:cNvPr id="351" name="直接连接符 34"/>
              <p:cNvSpPr/>
              <p:nvPr/>
            </p:nvSpPr>
            <p:spPr>
              <a:xfrm>
                <a:off x="1501920" y="2066400"/>
                <a:ext cx="0" cy="173880"/>
              </a:xfrm>
              <a:prstGeom prst="line">
                <a:avLst/>
              </a:prstGeom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 txBox="1"/>
              <p:nvPr/>
            </p:nvSpPr>
            <p:spPr>
              <a:xfrm>
                <a:off x="1501920" y="2066400"/>
                <a:ext cx="360" cy="17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501920" y="3286080"/>
              <a:ext cx="360" cy="718560"/>
              <a:chOff x="1501920" y="3286080"/>
              <a:chExt cx="360" cy="718560"/>
            </a:xfrm>
          </p:grpSpPr>
          <p:sp>
            <p:nvSpPr>
              <p:cNvPr id="354" name="直接连接符 36"/>
              <p:cNvSpPr/>
              <p:nvPr/>
            </p:nvSpPr>
            <p:spPr>
              <a:xfrm>
                <a:off x="1501920" y="3286080"/>
                <a:ext cx="0" cy="71856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 txBox="1"/>
              <p:nvPr/>
            </p:nvSpPr>
            <p:spPr>
              <a:xfrm>
                <a:off x="1501920" y="3286080"/>
                <a:ext cx="360" cy="71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3548880" y="4466160"/>
              <a:ext cx="360" cy="718560"/>
              <a:chOff x="3548880" y="4466160"/>
              <a:chExt cx="360" cy="718560"/>
            </a:xfrm>
          </p:grpSpPr>
          <p:sp>
            <p:nvSpPr>
              <p:cNvPr id="357" name="直接连接符 67"/>
              <p:cNvSpPr/>
              <p:nvPr/>
            </p:nvSpPr>
            <p:spPr>
              <a:xfrm>
                <a:off x="3548880" y="4466160"/>
                <a:ext cx="0" cy="71856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 txBox="1"/>
              <p:nvPr/>
            </p:nvSpPr>
            <p:spPr>
              <a:xfrm>
                <a:off x="3548880" y="4466160"/>
                <a:ext cx="360" cy="71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651640" y="3373200"/>
              <a:ext cx="360" cy="718560"/>
              <a:chOff x="5651640" y="3373200"/>
              <a:chExt cx="360" cy="718560"/>
            </a:xfrm>
          </p:grpSpPr>
          <p:sp>
            <p:nvSpPr>
              <p:cNvPr id="360" name="直接连接符 69"/>
              <p:cNvSpPr/>
              <p:nvPr/>
            </p:nvSpPr>
            <p:spPr>
              <a:xfrm>
                <a:off x="5651640" y="3373200"/>
                <a:ext cx="0" cy="71856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 txBox="1"/>
              <p:nvPr/>
            </p:nvSpPr>
            <p:spPr>
              <a:xfrm>
                <a:off x="5651640" y="3373200"/>
                <a:ext cx="360" cy="71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7930440" y="4091760"/>
              <a:ext cx="360" cy="718560"/>
              <a:chOff x="7930440" y="4091760"/>
              <a:chExt cx="360" cy="718560"/>
            </a:xfrm>
          </p:grpSpPr>
          <p:sp>
            <p:nvSpPr>
              <p:cNvPr id="363" name="直接连接符 94"/>
              <p:cNvSpPr/>
              <p:nvPr/>
            </p:nvSpPr>
            <p:spPr>
              <a:xfrm>
                <a:off x="7930440" y="4091760"/>
                <a:ext cx="0" cy="71856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 txBox="1"/>
              <p:nvPr/>
            </p:nvSpPr>
            <p:spPr>
              <a:xfrm>
                <a:off x="7930440" y="4091760"/>
                <a:ext cx="360" cy="71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5" name="TextBox 38"/>
          <p:cNvSpPr/>
          <p:nvPr/>
        </p:nvSpPr>
        <p:spPr>
          <a:xfrm>
            <a:off x="1177920" y="14828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6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39"/>
          <p:cNvSpPr/>
          <p:nvPr/>
        </p:nvSpPr>
        <p:spPr>
          <a:xfrm>
            <a:off x="1136520" y="28256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5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0"/>
          <p:cNvSpPr/>
          <p:nvPr/>
        </p:nvSpPr>
        <p:spPr>
          <a:xfrm>
            <a:off x="3117960" y="2549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3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1"/>
          <p:cNvSpPr/>
          <p:nvPr/>
        </p:nvSpPr>
        <p:spPr>
          <a:xfrm>
            <a:off x="3117960" y="400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2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2"/>
          <p:cNvSpPr/>
          <p:nvPr/>
        </p:nvSpPr>
        <p:spPr>
          <a:xfrm>
            <a:off x="5219640" y="17226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4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43"/>
          <p:cNvSpPr/>
          <p:nvPr/>
        </p:nvSpPr>
        <p:spPr>
          <a:xfrm>
            <a:off x="7493040" y="24019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4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4"/>
          <p:cNvSpPr/>
          <p:nvPr/>
        </p:nvSpPr>
        <p:spPr>
          <a:xfrm>
            <a:off x="7493040" y="3692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68"/>
          <p:cNvSpPr/>
          <p:nvPr/>
        </p:nvSpPr>
        <p:spPr>
          <a:xfrm>
            <a:off x="5234040" y="29811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4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椭圆 95"/>
          <p:cNvSpPr/>
          <p:nvPr/>
        </p:nvSpPr>
        <p:spPr>
          <a:xfrm>
            <a:off x="3162240" y="5084640"/>
            <a:ext cx="777960" cy="7207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96"/>
          <p:cNvSpPr/>
          <p:nvPr/>
        </p:nvSpPr>
        <p:spPr>
          <a:xfrm>
            <a:off x="7537320" y="4475160"/>
            <a:ext cx="777960" cy="7207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椭圆 97"/>
          <p:cNvSpPr/>
          <p:nvPr/>
        </p:nvSpPr>
        <p:spPr>
          <a:xfrm>
            <a:off x="5276880" y="3868560"/>
            <a:ext cx="777960" cy="721080"/>
          </a:xfrm>
          <a:prstGeom prst="ellipse">
            <a:avLst/>
          </a:prstGeom>
          <a:solidFill>
            <a:srgbClr val="3f3f3f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椭圆 98"/>
          <p:cNvSpPr/>
          <p:nvPr/>
        </p:nvSpPr>
        <p:spPr>
          <a:xfrm>
            <a:off x="1114560" y="3821040"/>
            <a:ext cx="777600" cy="720720"/>
          </a:xfrm>
          <a:prstGeom prst="ellipse">
            <a:avLst/>
          </a:prstGeom>
          <a:solidFill>
            <a:srgbClr val="3f3f3f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8196"/>
          <p:cNvSpPr/>
          <p:nvPr/>
        </p:nvSpPr>
        <p:spPr>
          <a:xfrm>
            <a:off x="1476360" y="404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08:5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014-03-31T09:18:00Z</cp:lastPrinted>
  <dcterms:modified xsi:type="dcterms:W3CDTF">2015-12-12T07:16:19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