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8F3-7D53-4E07-AC91-43A1AFFC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48F-F099-46B5-AA0A-028E1953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757-D16D-4C3E-8F93-A5B16F63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58A-445B-45AE-96D8-C0CBCB68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2AA-EE68-4F4C-80EB-17DE38E4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6F3-5ECB-4B81-AC82-A28FB14D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342-7F32-46E6-A86D-751A36A4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489-58F9-41B0-B86B-F20690EC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03A-CF88-4022-A5C9-62DF4528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10D-C4A3-49FF-8D0B-0DCB6224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AE0-A8D2-4C96-80EC-2735A5EB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624-3B15-4D95-9273-A4F1A2C4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0DBD-0BBF-46C0-B140-0278480B14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097"/>
          <p:cNvSpPr/>
          <p:nvPr/>
        </p:nvSpPr>
        <p:spPr>
          <a:xfrm>
            <a:off x="4991400" y="21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098"/>
          <p:cNvSpPr/>
          <p:nvPr/>
        </p:nvSpPr>
        <p:spPr>
          <a:xfrm>
            <a:off x="5063040" y="3711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4099"/>
          <p:cNvSpPr/>
          <p:nvPr/>
        </p:nvSpPr>
        <p:spPr>
          <a:xfrm>
            <a:off x="5237640" y="522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3"/>
          <p:cNvSpPr/>
          <p:nvPr/>
        </p:nvSpPr>
        <p:spPr>
          <a:xfrm>
            <a:off x="2124000" y="549360"/>
            <a:ext cx="690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可爱卡通玩偶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5121"/>
          <p:cNvSpPr/>
          <p:nvPr/>
        </p:nvSpPr>
        <p:spPr>
          <a:xfrm>
            <a:off x="1463400" y="38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122"/>
          <p:cNvSpPr/>
          <p:nvPr/>
        </p:nvSpPr>
        <p:spPr>
          <a:xfrm>
            <a:off x="4127400" y="392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123"/>
          <p:cNvSpPr/>
          <p:nvPr/>
        </p:nvSpPr>
        <p:spPr>
          <a:xfrm>
            <a:off x="6721200" y="39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A5D9-5C69-41E9-BD14-4193BCAB4A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6145"/>
          <p:cNvSpPr/>
          <p:nvPr/>
        </p:nvSpPr>
        <p:spPr>
          <a:xfrm>
            <a:off x="3624120" y="256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46"/>
          <p:cNvSpPr/>
          <p:nvPr/>
        </p:nvSpPr>
        <p:spPr>
          <a:xfrm>
            <a:off x="35524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147"/>
          <p:cNvSpPr/>
          <p:nvPr/>
        </p:nvSpPr>
        <p:spPr>
          <a:xfrm>
            <a:off x="3552480" y="407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5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