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292-6EBA-4054-928B-621F1609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7F1-CE06-4333-851D-AB7D1798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160-7C92-4679-AFDE-5084424E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3F0-65C8-4EDA-8E5E-178963F2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AF5C-09AC-4D11-8B7B-8E49C23A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835E-9152-4AF4-9AB5-5869A0A1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237F-3F4E-46A8-88F1-1A9BB8D0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E153-6397-4200-8764-1EDF599D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9C8-56D3-4A4B-BA60-1D10C8FF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A78B-3978-406C-93F4-A584E4DA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E951-93D6-4858-9FA6-6056F93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75D-28F0-44F3-963C-16794950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DA0B-804C-4ADF-96E0-ADBF3F7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C368-A4A0-44F1-875A-365DCB5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47C9-789C-4EAD-8644-C67C3DAB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6923-4F88-412A-8155-4D7A16AF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E6E7-E6FA-4317-A62A-25135EA3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AF9-CDA8-46F6-BFE2-5B7DB696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226-D5B7-41B9-B9FD-6B59F422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4D4-6132-42CC-A428-A22AEF96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6B3-56E3-48E6-B5A0-EC381DD5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B93-8392-476A-94EE-DD75396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C9D-C566-4BC4-882E-7C9E4BB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6B4-8526-414F-A836-21735B8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36C6-8E62-4586-BD2A-E542235FB2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C6C8-A8A8-4A59-B7C9-C5035CE0E2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6943-F30D-4494-B2B7-3FE3942712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6500880" y="41292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康少女文字W5"/>
                <a:ea typeface="华康少女文字W5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3569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3569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356904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3640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611280" y="1917720"/>
            <a:ext cx="79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摩丝娃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1420920" y="357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康少女文字W5"/>
                <a:ea typeface="华康少女文字W5"/>
              </a:rPr>
              <a:t>添加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283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9980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50695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66D8-298E-41A4-98D6-E6A53940BB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542664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1492560" y="428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康少女文字W5"/>
                <a:ea typeface="华康少女文字W5"/>
              </a:rPr>
              <a:t>添加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355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58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