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66B1A-2C01-412E-A018-17851B611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228600"/>
            <a:ext cx="70106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133720" y="1294920"/>
            <a:ext cx="6400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133720" y="3818160"/>
            <a:ext cx="6400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3CAF1-F170-4E06-AD5A-0ED6E2139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23880" y="228600"/>
            <a:ext cx="70106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133720" y="1294920"/>
            <a:ext cx="312336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13680" y="1294920"/>
            <a:ext cx="312336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133720" y="3818160"/>
            <a:ext cx="312336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13680" y="3818160"/>
            <a:ext cx="312336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88FF6-B78B-41CD-B641-DE0013EC3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880" y="228600"/>
            <a:ext cx="70106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133720" y="1294920"/>
            <a:ext cx="20606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297680" y="1294920"/>
            <a:ext cx="20606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62000" y="1294920"/>
            <a:ext cx="20606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133720" y="3818160"/>
            <a:ext cx="20606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297680" y="3818160"/>
            <a:ext cx="20606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62000" y="3818160"/>
            <a:ext cx="20606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E3D72-39ED-405F-A068-ED8D78FB6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C8133-4CE9-4A83-B597-4BBB1F94A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23880" y="228600"/>
            <a:ext cx="70106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133720" y="1294920"/>
            <a:ext cx="6400800" cy="48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09CC0-1377-4300-8A1E-BC19F4E16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3880" y="228600"/>
            <a:ext cx="70106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133720" y="1294920"/>
            <a:ext cx="6400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C1E04-D0BE-4E7F-892B-688FE6BEB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3880" y="228600"/>
            <a:ext cx="70106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133720" y="1294920"/>
            <a:ext cx="312336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413680" y="1294920"/>
            <a:ext cx="312336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C0B31-0DAF-44D7-A7E4-9C5C4959D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3880" y="228600"/>
            <a:ext cx="70106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436A0-0CF7-4071-99E4-F30B672CC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523880" y="228600"/>
            <a:ext cx="701064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1AAE7-D1A8-478B-9887-F344CBF70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880" y="228600"/>
            <a:ext cx="70106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133720" y="1294920"/>
            <a:ext cx="312336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413680" y="1294920"/>
            <a:ext cx="312336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133720" y="3818160"/>
            <a:ext cx="312336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1B7CC-5F11-4F5C-B19A-238895880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23880" y="228600"/>
            <a:ext cx="70106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133720" y="1294920"/>
            <a:ext cx="6400800" cy="48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539E9-22DF-4CA1-A1EE-52EA17BCA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880" y="228600"/>
            <a:ext cx="70106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133720" y="1294920"/>
            <a:ext cx="312336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413680" y="1294920"/>
            <a:ext cx="312336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413680" y="3818160"/>
            <a:ext cx="312336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37A79-7DFD-44BF-B5E2-27E08FD3B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228600"/>
            <a:ext cx="70106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133720" y="1294920"/>
            <a:ext cx="312336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413680" y="1294920"/>
            <a:ext cx="312336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133720" y="3818160"/>
            <a:ext cx="6400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0EA3E-1048-4C73-B49C-5135D6218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880" y="228600"/>
            <a:ext cx="70106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133720" y="1294920"/>
            <a:ext cx="6400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133720" y="3818160"/>
            <a:ext cx="6400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E4797-55D7-440E-9F80-40AFA2F8B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880" y="228600"/>
            <a:ext cx="70106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133720" y="1294920"/>
            <a:ext cx="312336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413680" y="1294920"/>
            <a:ext cx="312336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133720" y="3818160"/>
            <a:ext cx="312336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413680" y="3818160"/>
            <a:ext cx="312336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5D990-7255-498C-9D8D-983F8F280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228600"/>
            <a:ext cx="70106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133720" y="1294920"/>
            <a:ext cx="20606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297680" y="1294920"/>
            <a:ext cx="20606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462000" y="1294920"/>
            <a:ext cx="20606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133720" y="3818160"/>
            <a:ext cx="20606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297680" y="3818160"/>
            <a:ext cx="20606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462000" y="3818160"/>
            <a:ext cx="20606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40682-6D85-4F06-82FC-BE1B88F0D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53E20F-2DB9-406F-8E67-6D0B3B2DD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228600"/>
            <a:ext cx="70106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133720" y="1294920"/>
            <a:ext cx="6400800" cy="48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4E9B19-8658-44CE-B2E8-6D36310CE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23880" y="228600"/>
            <a:ext cx="70106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133720" y="1294920"/>
            <a:ext cx="6400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60F564-B2AA-4616-A4A7-2C6D74A85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23880" y="228600"/>
            <a:ext cx="70106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133720" y="1294920"/>
            <a:ext cx="312336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413680" y="1294920"/>
            <a:ext cx="312336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D95B9D-2D59-4F79-93F5-9E2B8659D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3880" y="228600"/>
            <a:ext cx="70106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F6EA5B-E8AB-49B2-8E06-31E72D03D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23880" y="228600"/>
            <a:ext cx="70106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133720" y="1294920"/>
            <a:ext cx="6400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CDDD9-7042-4747-BA74-ABC367242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523880" y="228600"/>
            <a:ext cx="701064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A30E46-6E9A-497A-8DBD-695A85955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3880" y="228600"/>
            <a:ext cx="70106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133720" y="1294920"/>
            <a:ext cx="312336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413680" y="1294920"/>
            <a:ext cx="312336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133720" y="3818160"/>
            <a:ext cx="312336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699F7D-E388-4333-9AAA-07470CE34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3880" y="228600"/>
            <a:ext cx="70106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133720" y="1294920"/>
            <a:ext cx="312336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413680" y="1294920"/>
            <a:ext cx="312336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413680" y="3818160"/>
            <a:ext cx="312336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0C2EEB-053A-4DC9-8411-E8140E830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3880" y="228600"/>
            <a:ext cx="70106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133720" y="1294920"/>
            <a:ext cx="312336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413680" y="1294920"/>
            <a:ext cx="312336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133720" y="3818160"/>
            <a:ext cx="6400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E46368-E9EE-4C0F-9DA9-C58EF4DC8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23880" y="228600"/>
            <a:ext cx="70106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133720" y="1294920"/>
            <a:ext cx="6400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133720" y="3818160"/>
            <a:ext cx="6400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1293D4-21E9-4F0E-B745-327A82425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3880" y="228600"/>
            <a:ext cx="70106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133720" y="1294920"/>
            <a:ext cx="312336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413680" y="1294920"/>
            <a:ext cx="312336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133720" y="3818160"/>
            <a:ext cx="312336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413680" y="3818160"/>
            <a:ext cx="312336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3EF34E-E3D2-4A86-A017-6857CC479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523880" y="228600"/>
            <a:ext cx="70106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133720" y="1294920"/>
            <a:ext cx="20606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297680" y="1294920"/>
            <a:ext cx="20606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462000" y="1294920"/>
            <a:ext cx="20606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133720" y="3818160"/>
            <a:ext cx="20606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297680" y="3818160"/>
            <a:ext cx="20606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462000" y="3818160"/>
            <a:ext cx="20606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55AFE0-9C3D-46B9-A64A-12CAAE098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228600"/>
            <a:ext cx="70106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133720" y="1294920"/>
            <a:ext cx="312336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13680" y="1294920"/>
            <a:ext cx="312336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CFAAA-1A6E-49E5-843C-E15920B93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3880" y="228600"/>
            <a:ext cx="70106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87011-79D7-454B-A138-1D9E8D071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523880" y="228600"/>
            <a:ext cx="701064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97CD3-E51C-447D-BB71-F735F0A13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3880" y="228600"/>
            <a:ext cx="70106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133720" y="1294920"/>
            <a:ext cx="312336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13680" y="1294920"/>
            <a:ext cx="312336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133720" y="3818160"/>
            <a:ext cx="312336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F793A-6B53-41FA-A02E-3B869D544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228600"/>
            <a:ext cx="70106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133720" y="1294920"/>
            <a:ext cx="312336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13680" y="1294920"/>
            <a:ext cx="312336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13680" y="3818160"/>
            <a:ext cx="312336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2F5B3-79B4-477E-B9F7-485224553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228600"/>
            <a:ext cx="70106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133720" y="1294920"/>
            <a:ext cx="312336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13680" y="1294920"/>
            <a:ext cx="312336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133720" y="3818160"/>
            <a:ext cx="6400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A6CFF-5763-4F74-BFB8-94B5276D2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228600"/>
            <a:ext cx="70106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i="1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133720" y="1294920"/>
            <a:ext cx="6400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457200" indent="4572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9144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371600" indent="-4572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828800" indent="-9144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828800" indent="-914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828800" indent="-914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75106-FFEB-4886-90F7-E88BFFC57C7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23636-43F1-486E-ABD8-917346AF3EC3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93229-739C-4746-A5C2-6C55A0B4B0AE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3880" y="228600"/>
            <a:ext cx="70106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i="1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2133720" y="1294920"/>
            <a:ext cx="6400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457200" indent="4572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9144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371600" indent="-4572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828800" indent="-9144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828800" indent="-914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828800" indent="-914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0099A-1616-43C8-8784-7CC26BCE8BD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3580920"/>
            <a:ext cx="5943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33"/>
                </a:solidFill>
                <a:latin typeface="Arial Black"/>
              </a:rPr>
              <a:t>SPLINTER</a:t>
            </a:r>
            <a:endParaRPr b="0" i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71600" y="4419720"/>
            <a:ext cx="5029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Your Subtitle Goes Here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文本框 1"/>
          <p:cNvSpPr/>
          <p:nvPr/>
        </p:nvSpPr>
        <p:spPr>
          <a:xfrm>
            <a:off x="1176120" y="2362320"/>
            <a:ext cx="598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Arial"/>
              </a:rPr>
              <a:t>科幻紫色工作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Arial"/>
              </a:rPr>
              <a:t>模板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23880" y="228600"/>
            <a:ext cx="70106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333333"/>
                </a:solidFill>
                <a:latin typeface="Arial"/>
              </a:rPr>
              <a:t>YOUR TOPIC GOES HERE</a:t>
            </a:r>
            <a:endParaRPr b="0" i="1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2133720" y="1294920"/>
            <a:ext cx="6400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Your Subtopics Go Her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3880" y="228600"/>
            <a:ext cx="70106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YOUR TOPIC GOES HERE</a:t>
            </a:r>
            <a:endParaRPr b="0" i="1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2133720" y="1294920"/>
            <a:ext cx="6400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r Subtopics Go Her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文本框 8200"/>
          <p:cNvSpPr/>
          <p:nvPr/>
        </p:nvSpPr>
        <p:spPr>
          <a:xfrm>
            <a:off x="755640" y="170172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66828-1EF9-4C37-AC7D-700DA0DCA201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3733920"/>
            <a:ext cx="5943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 Black"/>
              </a:rPr>
              <a:t>TRANSITIONAL PAGE</a:t>
            </a:r>
            <a:endParaRPr b="0" i="1" lang="en-US" sz="3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2T09:45:05Z</dcterms:created>
  <dc:creator>幻灯片之家：www.eepp.com</dc:creator>
  <dc:description>幻灯片之家：www.eepp.com</dc:description>
  <cp:keywords>幻灯片之家：www.eepp.com</cp:keywords>
  <dc:language>en-US</dc:language>
  <cp:lastModifiedBy>pc</cp:lastModifiedBy>
  <dcterms:modified xsi:type="dcterms:W3CDTF">2015-12-12T07:15:49Z</dcterms:modified>
  <cp:revision>3</cp:revision>
  <dc:subject>幻灯片之家：www.eepp.com</dc:subject>
  <dc:title>幻灯片之家：www.eepp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00</vt:lpwstr>
  </property>
</Properties>
</file>